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0-</a:t>
            </a:r>
            <a:fld id="{C651441C-6E19-45A5-B370-F646D4E70B5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ão de Conceitos de Circuitos Lógicos e Estruturas para Arquitetura de Computad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4600" y="2267640"/>
            <a:ext cx="6786720" cy="3980520"/>
            <a:chOff x="534600" y="2267640"/>
            <a:chExt cx="6786720" cy="3980520"/>
          </a:xfrm>
        </p:grpSpPr>
        <p:sp>
          <p:nvSpPr>
            <p:cNvPr id="266" name=""/>
            <p:cNvSpPr/>
            <p:nvPr/>
          </p:nvSpPr>
          <p:spPr>
            <a:xfrm>
              <a:off x="534600" y="2267640"/>
              <a:ext cx="244512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mpli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usto (HW &amp; proje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al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pansi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solamento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(desacoplamen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LSI (regularid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5760" y="2892600"/>
              <a:ext cx="2365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alta de paralelism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1280" y="1066680"/>
            <a:ext cx="7313400" cy="1219320"/>
            <a:chOff x="611280" y="1066680"/>
            <a:chExt cx="7313400" cy="1219320"/>
          </a:xfrm>
        </p:grpSpPr>
        <p:sp>
          <p:nvSpPr>
            <p:cNvPr id="269" name=""/>
            <p:cNvSpPr/>
            <p:nvPr/>
          </p:nvSpPr>
          <p:spPr>
            <a:xfrm>
              <a:off x="611280" y="1066680"/>
              <a:ext cx="26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) barramento si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124080" y="1371600"/>
              <a:ext cx="4800600" cy="914400"/>
              <a:chOff x="3124080" y="1371600"/>
              <a:chExt cx="4800600" cy="914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124080" y="2286000"/>
                <a:ext cx="480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76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19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68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81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7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0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467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24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105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62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4497120" y="4343400"/>
            <a:ext cx="4184280" cy="1829520"/>
            <a:chOff x="4497120" y="4343400"/>
            <a:chExt cx="4184280" cy="1829520"/>
          </a:xfrm>
        </p:grpSpPr>
        <p:sp>
          <p:nvSpPr>
            <p:cNvPr id="285" name=""/>
            <p:cNvSpPr/>
            <p:nvPr/>
          </p:nvSpPr>
          <p:spPr>
            <a:xfrm>
              <a:off x="4497120" y="4343400"/>
              <a:ext cx="34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) variante: barramento dup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81480" y="4876920"/>
              <a:ext cx="2819520" cy="841320"/>
              <a:chOff x="5181480" y="4876920"/>
              <a:chExt cx="2819520" cy="841320"/>
            </a:xfrm>
          </p:grpSpPr>
          <p:sp>
            <p:nvSpPr>
              <p:cNvPr id="287" name=""/>
              <p:cNvSpPr/>
              <p:nvPr/>
            </p:nvSpPr>
            <p:spPr>
              <a:xfrm>
                <a:off x="5181480" y="571824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704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18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5784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7388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4968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7680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928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42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7324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0610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3450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6736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181480" y="4876920"/>
                <a:ext cx="2819520" cy="312480"/>
                <a:chOff x="5181480" y="4876920"/>
                <a:chExt cx="2819520" cy="312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181480" y="4876920"/>
                  <a:ext cx="28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50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76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928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4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7732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7061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634536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673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4634280" y="5804640"/>
              <a:ext cx="40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s transações simultâneas por cic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8920" y="1273680"/>
            <a:ext cx="8120520" cy="33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unicação unidade x barramen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tura (bar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unida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ita (unidad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a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e qual unidade escreve no barramen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 multiplex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s de implementação de escri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-OR (convenc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ired AND ou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popular: 3-St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2480" y="4876200"/>
            <a:ext cx="1943280" cy="914760"/>
            <a:chOff x="1752480" y="4876200"/>
            <a:chExt cx="1943280" cy="914760"/>
          </a:xfrm>
        </p:grpSpPr>
        <p:grpSp>
          <p:nvGrpSpPr>
            <p:cNvPr id="314" name=""/>
            <p:cNvGrpSpPr/>
            <p:nvPr/>
          </p:nvGrpSpPr>
          <p:grpSpPr>
            <a:xfrm>
              <a:off x="2286000" y="4952880"/>
              <a:ext cx="914400" cy="838080"/>
              <a:chOff x="2286000" y="4952880"/>
              <a:chExt cx="914400" cy="838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743200" y="4952880"/>
                <a:ext cx="0" cy="39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0" y="5446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16200000">
                <a:off x="2371320" y="5152320"/>
                <a:ext cx="705600" cy="57132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821320" y="4876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271480"/>
              <a:ext cx="4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52570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14000" y="4875840"/>
            <a:ext cx="387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Z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(Z = alta impedânci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sligad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114800"/>
            <a:ext cx="838188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9040" y="419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51400" y="52570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4799520"/>
            <a:ext cx="4114800" cy="839160"/>
            <a:chOff x="1219320" y="4799520"/>
            <a:chExt cx="4114800" cy="839160"/>
          </a:xfrm>
        </p:grpSpPr>
        <p:grpSp>
          <p:nvGrpSpPr>
            <p:cNvPr id="327" name=""/>
            <p:cNvGrpSpPr/>
            <p:nvPr/>
          </p:nvGrpSpPr>
          <p:grpSpPr>
            <a:xfrm>
              <a:off x="1604160" y="4799520"/>
              <a:ext cx="1520280" cy="839160"/>
              <a:chOff x="1604160" y="4799520"/>
              <a:chExt cx="1520280" cy="83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243864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200052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2880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416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219320" y="5638680"/>
              <a:ext cx="411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429720" y="4799520"/>
              <a:ext cx="1520280" cy="839160"/>
              <a:chOff x="3429720" y="4799520"/>
              <a:chExt cx="1520280" cy="839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26420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382608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436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972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04920" y="990720"/>
            <a:ext cx="8381880" cy="2971800"/>
            <a:chOff x="304920" y="990720"/>
            <a:chExt cx="8381880" cy="2971800"/>
          </a:xfrm>
        </p:grpSpPr>
        <p:grpSp>
          <p:nvGrpSpPr>
            <p:cNvPr id="339" name=""/>
            <p:cNvGrpSpPr/>
            <p:nvPr/>
          </p:nvGrpSpPr>
          <p:grpSpPr>
            <a:xfrm>
              <a:off x="304920" y="990720"/>
              <a:ext cx="8381880" cy="2971800"/>
              <a:chOff x="304920" y="990720"/>
              <a:chExt cx="8381880" cy="29718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60120" y="106632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cr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838080" y="1219320"/>
                <a:ext cx="1981440" cy="2133720"/>
                <a:chOff x="838080" y="1219320"/>
                <a:chExt cx="1981440" cy="2133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438280" y="228600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19320" y="2590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219320" y="1294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38080" y="12193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1720" y="1812960"/>
                  <a:ext cx="1144440" cy="39708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66680" y="2422800"/>
                  <a:ext cx="1144800" cy="39672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8080" y="16765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38080" y="26672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38080" y="31244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1600200" y="2133720"/>
                  <a:ext cx="1447920" cy="380880"/>
                </a:xfrm>
                <a:custGeom>
                  <a:avLst/>
                  <a:gdLst>
                    <a:gd name="textAreaLeft" fmla="*/ 318240 w 1447920"/>
                    <a:gd name="textAreaRight" fmla="*/ 1129680 w 144792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38920" y="3504600"/>
                <a:ext cx="35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X convencional (não modul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00600" y="259092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62720" y="1676520"/>
                <a:ext cx="894960" cy="948960"/>
                <a:chOff x="5562720" y="1676520"/>
                <a:chExt cx="894960" cy="948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8831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58309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56386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9310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5627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00800" y="1676520"/>
                <a:ext cx="894960" cy="948960"/>
                <a:chOff x="6400800" y="1676520"/>
                <a:chExt cx="894960" cy="948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72120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666900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47676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6908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0080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238880" y="1676520"/>
                <a:ext cx="894960" cy="948960"/>
                <a:chOff x="7238880" y="1676520"/>
                <a:chExt cx="894960" cy="948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55928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750708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31484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0716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23888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898880" y="3352320"/>
                <a:ext cx="30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enas um EN ativo por v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819520" y="12193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 modular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47920" y="1744920"/>
            <a:ext cx="6095880" cy="1150560"/>
            <a:chOff x="1447920" y="1744920"/>
            <a:chExt cx="6095880" cy="1150560"/>
          </a:xfrm>
        </p:grpSpPr>
        <p:grpSp>
          <p:nvGrpSpPr>
            <p:cNvPr id="390" name=""/>
            <p:cNvGrpSpPr/>
            <p:nvPr/>
          </p:nvGrpSpPr>
          <p:grpSpPr>
            <a:xfrm>
              <a:off x="5791320" y="2209680"/>
              <a:ext cx="1459440" cy="685440"/>
              <a:chOff x="5791320" y="2209680"/>
              <a:chExt cx="1459440" cy="685440"/>
            </a:xfrm>
          </p:grpSpPr>
          <p:sp>
            <p:nvSpPr>
              <p:cNvPr id="391" name=""/>
              <p:cNvSpPr/>
              <p:nvPr/>
            </p:nvSpPr>
            <p:spPr>
              <a:xfrm>
                <a:off x="57913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009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3565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746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048120" y="2209680"/>
              <a:ext cx="1459440" cy="685440"/>
              <a:chOff x="3048120" y="2209680"/>
              <a:chExt cx="1459440" cy="68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30481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577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6133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314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832760" y="1744920"/>
              <a:ext cx="1519560" cy="1149840"/>
              <a:chOff x="1832760" y="1744920"/>
              <a:chExt cx="1519560" cy="114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666880" y="2009520"/>
                <a:ext cx="685440" cy="553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2159640" y="2387880"/>
                <a:ext cx="442440" cy="5713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57040" y="21204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32760" y="17449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447920" y="2895480"/>
              <a:ext cx="609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651920" y="1768680"/>
              <a:ext cx="1520280" cy="1125720"/>
              <a:chOff x="4651920" y="1768680"/>
              <a:chExt cx="1520280" cy="112572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031120"/>
                <a:ext cx="6858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4984920" y="2392920"/>
                <a:ext cx="43128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76560" y="2139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1920" y="17686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1221120" y="3309840"/>
            <a:ext cx="528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tura e escrita mod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 e desacop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r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encial para VLSI, geometria e dispos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físicas sã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seqüên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L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600" y="15231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S-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0" y="1294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560" y="2513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5280" y="4037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Tipo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6600" y="23616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2920" y="152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002440" y="426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0396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6920" y="457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82880" y="3656880"/>
            <a:ext cx="1876320" cy="1676880"/>
            <a:chOff x="1982880" y="3656880"/>
            <a:chExt cx="1876320" cy="1676880"/>
          </a:xfrm>
        </p:grpSpPr>
        <p:grpSp>
          <p:nvGrpSpPr>
            <p:cNvPr id="42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2592720" y="472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2720" y="434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Flip-Fl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080" y="152316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6600" y="40377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38280" y="1447920"/>
            <a:ext cx="1523880" cy="865800"/>
            <a:chOff x="2438280" y="1447920"/>
            <a:chExt cx="1523880" cy="865800"/>
          </a:xfrm>
        </p:grpSpPr>
        <p:sp>
          <p:nvSpPr>
            <p:cNvPr id="457" name=""/>
            <p:cNvSpPr/>
            <p:nvPr/>
          </p:nvSpPr>
          <p:spPr>
            <a:xfrm>
              <a:off x="2438280" y="167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2059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1400" y="1447920"/>
              <a:ext cx="839880" cy="8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1520" y="1525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2160" y="2006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8440" y="15256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91760" y="1906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42840" y="1982880"/>
              <a:ext cx="131760" cy="1522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90920" y="4191120"/>
            <a:ext cx="1523880" cy="914400"/>
            <a:chOff x="2590920" y="4191120"/>
            <a:chExt cx="1523880" cy="914400"/>
          </a:xfrm>
        </p:grpSpPr>
        <p:sp>
          <p:nvSpPr>
            <p:cNvPr id="466" name=""/>
            <p:cNvSpPr/>
            <p:nvPr/>
          </p:nvSpPr>
          <p:spPr>
            <a:xfrm flipV="1">
              <a:off x="2590920" y="4875480"/>
              <a:ext cx="152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421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590920" y="4648320"/>
              <a:ext cx="83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94040" y="4191120"/>
              <a:ext cx="9154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63080" y="4268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2880" y="4510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6400" y="4268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720" y="46497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4572000"/>
              <a:ext cx="131400" cy="15264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96920" y="4724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15920" y="175212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sível à bor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20520" y="3733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49960" y="3505320"/>
          <a:ext cx="3794040" cy="26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3505320"/>
                    <a:ext cx="37940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28600" y="9144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tch (transparente) versus Flip-Flop (bor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962520" y="990720"/>
            <a:ext cx="533160" cy="838080"/>
            <a:chOff x="3962520" y="990720"/>
            <a:chExt cx="533160" cy="838080"/>
          </a:xfrm>
        </p:grpSpPr>
        <p:sp>
          <p:nvSpPr>
            <p:cNvPr id="483" name=""/>
            <p:cNvSpPr/>
            <p:nvPr/>
          </p:nvSpPr>
          <p:spPr>
            <a:xfrm>
              <a:off x="3962520" y="9907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2520" y="1223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2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95680" y="1004400"/>
            <a:ext cx="609480" cy="838440"/>
            <a:chOff x="4495680" y="1004400"/>
            <a:chExt cx="609480" cy="838440"/>
          </a:xfrm>
        </p:grpSpPr>
        <p:sp>
          <p:nvSpPr>
            <p:cNvPr id="488" name=""/>
            <p:cNvSpPr/>
            <p:nvPr/>
          </p:nvSpPr>
          <p:spPr>
            <a:xfrm flipV="1">
              <a:off x="4495680" y="10040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1610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10516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49568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990720"/>
            <a:ext cx="609480" cy="838080"/>
            <a:chOff x="5105520" y="990720"/>
            <a:chExt cx="609480" cy="838080"/>
          </a:xfrm>
        </p:grpSpPr>
        <p:sp>
          <p:nvSpPr>
            <p:cNvPr id="493" name=""/>
            <p:cNvSpPr/>
            <p:nvPr/>
          </p:nvSpPr>
          <p:spPr>
            <a:xfrm>
              <a:off x="51055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552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5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971800" y="990720"/>
            <a:ext cx="990360" cy="838080"/>
            <a:chOff x="2971800" y="990720"/>
            <a:chExt cx="990360" cy="838080"/>
          </a:xfrm>
        </p:grpSpPr>
        <p:sp>
          <p:nvSpPr>
            <p:cNvPr id="498" name=""/>
            <p:cNvSpPr/>
            <p:nvPr/>
          </p:nvSpPr>
          <p:spPr>
            <a:xfrm flipV="1">
              <a:off x="2971800" y="9907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1800" y="15958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9621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9718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15000" y="990720"/>
            <a:ext cx="380880" cy="838080"/>
            <a:chOff x="5715000" y="990720"/>
            <a:chExt cx="380880" cy="838080"/>
          </a:xfrm>
        </p:grpSpPr>
        <p:sp>
          <p:nvSpPr>
            <p:cNvPr id="503" name=""/>
            <p:cNvSpPr/>
            <p:nvPr/>
          </p:nvSpPr>
          <p:spPr>
            <a:xfrm flipV="1">
              <a:off x="5715000" y="9907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000" y="1595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362320" y="990720"/>
            <a:ext cx="609480" cy="838080"/>
            <a:chOff x="2362320" y="990720"/>
            <a:chExt cx="609480" cy="838080"/>
          </a:xfrm>
        </p:grpSpPr>
        <p:sp>
          <p:nvSpPr>
            <p:cNvPr id="508" name=""/>
            <p:cNvSpPr/>
            <p:nvPr/>
          </p:nvSpPr>
          <p:spPr>
            <a:xfrm>
              <a:off x="23623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1224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990720"/>
            <a:ext cx="609480" cy="838080"/>
            <a:chOff x="7315200" y="990720"/>
            <a:chExt cx="609480" cy="838080"/>
          </a:xfrm>
        </p:grpSpPr>
        <p:sp>
          <p:nvSpPr>
            <p:cNvPr id="512" name=""/>
            <p:cNvSpPr/>
            <p:nvPr/>
          </p:nvSpPr>
          <p:spPr>
            <a:xfrm>
              <a:off x="731520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4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924680" y="990720"/>
            <a:ext cx="609840" cy="838080"/>
            <a:chOff x="7924680" y="990720"/>
            <a:chExt cx="609840" cy="838080"/>
          </a:xfrm>
        </p:grpSpPr>
        <p:sp>
          <p:nvSpPr>
            <p:cNvPr id="517" name=""/>
            <p:cNvSpPr/>
            <p:nvPr/>
          </p:nvSpPr>
          <p:spPr>
            <a:xfrm flipV="1">
              <a:off x="7924680" y="9907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4680" y="15955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2468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705720" y="990720"/>
            <a:ext cx="609480" cy="838080"/>
            <a:chOff x="6705720" y="990720"/>
            <a:chExt cx="609480" cy="838080"/>
          </a:xfrm>
        </p:grpSpPr>
        <p:sp>
          <p:nvSpPr>
            <p:cNvPr id="521" name=""/>
            <p:cNvSpPr/>
            <p:nvPr/>
          </p:nvSpPr>
          <p:spPr>
            <a:xfrm flipV="1">
              <a:off x="67057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5958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7057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95880" y="990720"/>
            <a:ext cx="609480" cy="838080"/>
            <a:chOff x="6095880" y="990720"/>
            <a:chExt cx="609480" cy="838080"/>
          </a:xfrm>
        </p:grpSpPr>
        <p:sp>
          <p:nvSpPr>
            <p:cNvPr id="526" name=""/>
            <p:cNvSpPr/>
            <p:nvPr/>
          </p:nvSpPr>
          <p:spPr>
            <a:xfrm>
              <a:off x="609588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3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30400" y="10659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6920" y="106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4640" y="2056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581280" y="1662120"/>
            <a:ext cx="1295640" cy="838080"/>
            <a:chOff x="3581280" y="1662120"/>
            <a:chExt cx="1295640" cy="838080"/>
          </a:xfrm>
        </p:grpSpPr>
        <p:sp>
          <p:nvSpPr>
            <p:cNvPr id="534" name=""/>
            <p:cNvSpPr/>
            <p:nvPr/>
          </p:nvSpPr>
          <p:spPr>
            <a:xfrm>
              <a:off x="3581280" y="16621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1280" y="18946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69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8128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876920" y="1676520"/>
            <a:ext cx="1599480" cy="838080"/>
            <a:chOff x="4876920" y="1676520"/>
            <a:chExt cx="1599480" cy="838080"/>
          </a:xfrm>
        </p:grpSpPr>
        <p:sp>
          <p:nvSpPr>
            <p:cNvPr id="539" name=""/>
            <p:cNvSpPr/>
            <p:nvPr/>
          </p:nvSpPr>
          <p:spPr>
            <a:xfrm flipV="1">
              <a:off x="4876920" y="16765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6920" y="22816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47640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87692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477120" y="1662120"/>
            <a:ext cx="1218600" cy="838080"/>
            <a:chOff x="6477120" y="1662120"/>
            <a:chExt cx="1218600" cy="838080"/>
          </a:xfrm>
        </p:grpSpPr>
        <p:sp>
          <p:nvSpPr>
            <p:cNvPr id="544" name=""/>
            <p:cNvSpPr/>
            <p:nvPr/>
          </p:nvSpPr>
          <p:spPr>
            <a:xfrm>
              <a:off x="64771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77120" y="1894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57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3581280" y="18954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362320" y="1662120"/>
            <a:ext cx="1218600" cy="838080"/>
            <a:chOff x="2362320" y="1662120"/>
            <a:chExt cx="1218600" cy="838080"/>
          </a:xfrm>
        </p:grpSpPr>
        <p:sp>
          <p:nvSpPr>
            <p:cNvPr id="550" name=""/>
            <p:cNvSpPr/>
            <p:nvPr/>
          </p:nvSpPr>
          <p:spPr>
            <a:xfrm flipV="1">
              <a:off x="23623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22665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580920" y="18954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696080" y="1662120"/>
            <a:ext cx="609840" cy="838080"/>
            <a:chOff x="7696080" y="1662120"/>
            <a:chExt cx="609840" cy="838080"/>
          </a:xfrm>
        </p:grpSpPr>
        <p:sp>
          <p:nvSpPr>
            <p:cNvPr id="554" name=""/>
            <p:cNvSpPr/>
            <p:nvPr/>
          </p:nvSpPr>
          <p:spPr>
            <a:xfrm flipV="1">
              <a:off x="7696080" y="16621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6080" y="22669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696080" y="18954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962520" y="2514600"/>
            <a:ext cx="533160" cy="838080"/>
            <a:chOff x="3962520" y="2514600"/>
            <a:chExt cx="533160" cy="838080"/>
          </a:xfrm>
        </p:grpSpPr>
        <p:sp>
          <p:nvSpPr>
            <p:cNvPr id="558" name=""/>
            <p:cNvSpPr/>
            <p:nvPr/>
          </p:nvSpPr>
          <p:spPr>
            <a:xfrm>
              <a:off x="3962520" y="251460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2520" y="2747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495680" y="2529000"/>
            <a:ext cx="1980360" cy="838080"/>
            <a:chOff x="4495680" y="2529000"/>
            <a:chExt cx="1980360" cy="838080"/>
          </a:xfrm>
        </p:grpSpPr>
        <p:sp>
          <p:nvSpPr>
            <p:cNvPr id="563" name=""/>
            <p:cNvSpPr/>
            <p:nvPr/>
          </p:nvSpPr>
          <p:spPr>
            <a:xfrm flipV="1">
              <a:off x="4495680" y="2529000"/>
              <a:ext cx="198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5680" y="3134160"/>
              <a:ext cx="19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47604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49568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581280" y="2514600"/>
            <a:ext cx="381240" cy="838080"/>
            <a:chOff x="3581280" y="2514600"/>
            <a:chExt cx="381240" cy="838080"/>
          </a:xfrm>
        </p:grpSpPr>
        <p:sp>
          <p:nvSpPr>
            <p:cNvPr id="568" name=""/>
            <p:cNvSpPr/>
            <p:nvPr/>
          </p:nvSpPr>
          <p:spPr>
            <a:xfrm flipV="1">
              <a:off x="3581280" y="2514600"/>
              <a:ext cx="381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81280" y="31197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362320" y="2514600"/>
            <a:ext cx="1218600" cy="838080"/>
            <a:chOff x="2362320" y="2514600"/>
            <a:chExt cx="1218600" cy="838080"/>
          </a:xfrm>
        </p:grpSpPr>
        <p:sp>
          <p:nvSpPr>
            <p:cNvPr id="573" name=""/>
            <p:cNvSpPr/>
            <p:nvPr/>
          </p:nvSpPr>
          <p:spPr>
            <a:xfrm>
              <a:off x="2362320" y="25146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62320" y="27478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092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05720" y="2514600"/>
            <a:ext cx="609480" cy="838080"/>
            <a:chOff x="6705720" y="2514600"/>
            <a:chExt cx="609480" cy="838080"/>
          </a:xfrm>
        </p:grpSpPr>
        <p:sp>
          <p:nvSpPr>
            <p:cNvPr id="577" name=""/>
            <p:cNvSpPr/>
            <p:nvPr/>
          </p:nvSpPr>
          <p:spPr>
            <a:xfrm flipV="1">
              <a:off x="6705720" y="251460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31197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1520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477120" y="2514600"/>
            <a:ext cx="228600" cy="838080"/>
            <a:chOff x="6477120" y="2514600"/>
            <a:chExt cx="228600" cy="838080"/>
          </a:xfrm>
        </p:grpSpPr>
        <p:sp>
          <p:nvSpPr>
            <p:cNvPr id="582" name=""/>
            <p:cNvSpPr/>
            <p:nvPr/>
          </p:nvSpPr>
          <p:spPr>
            <a:xfrm>
              <a:off x="6477120" y="2514600"/>
              <a:ext cx="22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274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71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828800" y="258552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315200" y="2514600"/>
            <a:ext cx="1066320" cy="838080"/>
            <a:chOff x="7315200" y="2514600"/>
            <a:chExt cx="1066320" cy="838080"/>
          </a:xfrm>
        </p:grpSpPr>
        <p:sp>
          <p:nvSpPr>
            <p:cNvPr id="588" name=""/>
            <p:cNvSpPr/>
            <p:nvPr/>
          </p:nvSpPr>
          <p:spPr>
            <a:xfrm>
              <a:off x="7315200" y="2514600"/>
              <a:ext cx="10663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15200" y="2747880"/>
              <a:ext cx="106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520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581280" y="990720"/>
            <a:ext cx="4114800" cy="2552760"/>
            <a:chOff x="3581280" y="990720"/>
            <a:chExt cx="4114800" cy="2552760"/>
          </a:xfrm>
        </p:grpSpPr>
        <p:sp>
          <p:nvSpPr>
            <p:cNvPr id="592" name=""/>
            <p:cNvSpPr/>
            <p:nvPr/>
          </p:nvSpPr>
          <p:spPr>
            <a:xfrm>
              <a:off x="35812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60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28600" y="38862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962520" y="3962520"/>
            <a:ext cx="533160" cy="838080"/>
            <a:chOff x="3962520" y="3962520"/>
            <a:chExt cx="533160" cy="838080"/>
          </a:xfrm>
        </p:grpSpPr>
        <p:sp>
          <p:nvSpPr>
            <p:cNvPr id="598" name=""/>
            <p:cNvSpPr/>
            <p:nvPr/>
          </p:nvSpPr>
          <p:spPr>
            <a:xfrm>
              <a:off x="3962520" y="39625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41950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5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62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95680" y="3976200"/>
            <a:ext cx="609480" cy="838440"/>
            <a:chOff x="4495680" y="3976200"/>
            <a:chExt cx="609480" cy="838440"/>
          </a:xfrm>
        </p:grpSpPr>
        <p:sp>
          <p:nvSpPr>
            <p:cNvPr id="603" name=""/>
            <p:cNvSpPr/>
            <p:nvPr/>
          </p:nvSpPr>
          <p:spPr>
            <a:xfrm flipV="1">
              <a:off x="4495680" y="39758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5680" y="4582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10516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9568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05520" y="3962520"/>
            <a:ext cx="609480" cy="838080"/>
            <a:chOff x="5105520" y="3962520"/>
            <a:chExt cx="609480" cy="838080"/>
          </a:xfrm>
        </p:grpSpPr>
        <p:sp>
          <p:nvSpPr>
            <p:cNvPr id="608" name=""/>
            <p:cNvSpPr/>
            <p:nvPr/>
          </p:nvSpPr>
          <p:spPr>
            <a:xfrm>
              <a:off x="51055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0552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5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71800" y="3962520"/>
            <a:ext cx="990360" cy="838080"/>
            <a:chOff x="2971800" y="3962520"/>
            <a:chExt cx="990360" cy="838080"/>
          </a:xfrm>
        </p:grpSpPr>
        <p:sp>
          <p:nvSpPr>
            <p:cNvPr id="613" name=""/>
            <p:cNvSpPr/>
            <p:nvPr/>
          </p:nvSpPr>
          <p:spPr>
            <a:xfrm flipV="1">
              <a:off x="2971800" y="39625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800" y="45676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9621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9718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15000" y="3962520"/>
            <a:ext cx="380880" cy="838080"/>
            <a:chOff x="5715000" y="3962520"/>
            <a:chExt cx="380880" cy="838080"/>
          </a:xfrm>
        </p:grpSpPr>
        <p:sp>
          <p:nvSpPr>
            <p:cNvPr id="618" name=""/>
            <p:cNvSpPr/>
            <p:nvPr/>
          </p:nvSpPr>
          <p:spPr>
            <a:xfrm flipV="1">
              <a:off x="5715000" y="39625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5000" y="4567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362320" y="3962520"/>
            <a:ext cx="609480" cy="838080"/>
            <a:chOff x="2362320" y="3962520"/>
            <a:chExt cx="609480" cy="838080"/>
          </a:xfrm>
        </p:grpSpPr>
        <p:sp>
          <p:nvSpPr>
            <p:cNvPr id="623" name=""/>
            <p:cNvSpPr/>
            <p:nvPr/>
          </p:nvSpPr>
          <p:spPr>
            <a:xfrm>
              <a:off x="23623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2320" y="4195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315200" y="3962520"/>
            <a:ext cx="609480" cy="838080"/>
            <a:chOff x="7315200" y="3962520"/>
            <a:chExt cx="609480" cy="838080"/>
          </a:xfrm>
        </p:grpSpPr>
        <p:sp>
          <p:nvSpPr>
            <p:cNvPr id="627" name=""/>
            <p:cNvSpPr/>
            <p:nvPr/>
          </p:nvSpPr>
          <p:spPr>
            <a:xfrm>
              <a:off x="731520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1520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24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924680" y="3962520"/>
            <a:ext cx="609840" cy="838080"/>
            <a:chOff x="7924680" y="3962520"/>
            <a:chExt cx="609840" cy="838080"/>
          </a:xfrm>
        </p:grpSpPr>
        <p:sp>
          <p:nvSpPr>
            <p:cNvPr id="632" name=""/>
            <p:cNvSpPr/>
            <p:nvPr/>
          </p:nvSpPr>
          <p:spPr>
            <a:xfrm flipV="1">
              <a:off x="7924680" y="39625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45673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92468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05720" y="3962520"/>
            <a:ext cx="609480" cy="838080"/>
            <a:chOff x="6705720" y="3962520"/>
            <a:chExt cx="609480" cy="838080"/>
          </a:xfrm>
        </p:grpSpPr>
        <p:sp>
          <p:nvSpPr>
            <p:cNvPr id="636" name=""/>
            <p:cNvSpPr/>
            <p:nvPr/>
          </p:nvSpPr>
          <p:spPr>
            <a:xfrm flipV="1">
              <a:off x="67057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05720" y="4567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7057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095880" y="3962520"/>
            <a:ext cx="609480" cy="838080"/>
            <a:chOff x="6095880" y="3962520"/>
            <a:chExt cx="609480" cy="838080"/>
          </a:xfrm>
        </p:grpSpPr>
        <p:sp>
          <p:nvSpPr>
            <p:cNvPr id="641" name=""/>
            <p:cNvSpPr/>
            <p:nvPr/>
          </p:nvSpPr>
          <p:spPr>
            <a:xfrm>
              <a:off x="609588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588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3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8440" y="40377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6920" y="403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41680" y="502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81280" y="4633920"/>
            <a:ext cx="1295640" cy="838080"/>
            <a:chOff x="3581280" y="4633920"/>
            <a:chExt cx="1295640" cy="838080"/>
          </a:xfrm>
        </p:grpSpPr>
        <p:sp>
          <p:nvSpPr>
            <p:cNvPr id="649" name=""/>
            <p:cNvSpPr/>
            <p:nvPr/>
          </p:nvSpPr>
          <p:spPr>
            <a:xfrm>
              <a:off x="3581280" y="46339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4866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8128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76920" y="4648320"/>
            <a:ext cx="1599480" cy="838080"/>
            <a:chOff x="4876920" y="4648320"/>
            <a:chExt cx="1599480" cy="838080"/>
          </a:xfrm>
        </p:grpSpPr>
        <p:sp>
          <p:nvSpPr>
            <p:cNvPr id="654" name=""/>
            <p:cNvSpPr/>
            <p:nvPr/>
          </p:nvSpPr>
          <p:spPr>
            <a:xfrm flipV="1">
              <a:off x="4876920" y="46483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920" y="52534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47640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7692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477120" y="4633920"/>
            <a:ext cx="1218600" cy="838080"/>
            <a:chOff x="6477120" y="4633920"/>
            <a:chExt cx="1218600" cy="838080"/>
          </a:xfrm>
        </p:grpSpPr>
        <p:sp>
          <p:nvSpPr>
            <p:cNvPr id="659" name=""/>
            <p:cNvSpPr/>
            <p:nvPr/>
          </p:nvSpPr>
          <p:spPr>
            <a:xfrm>
              <a:off x="64771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7120" y="48664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57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771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3581280" y="4867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362320" y="4633920"/>
            <a:ext cx="1218600" cy="838080"/>
            <a:chOff x="2362320" y="4633920"/>
            <a:chExt cx="1218600" cy="838080"/>
          </a:xfrm>
        </p:grpSpPr>
        <p:sp>
          <p:nvSpPr>
            <p:cNvPr id="665" name=""/>
            <p:cNvSpPr/>
            <p:nvPr/>
          </p:nvSpPr>
          <p:spPr>
            <a:xfrm flipV="1">
              <a:off x="23623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52383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580920" y="48672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696080" y="4633920"/>
            <a:ext cx="609840" cy="838080"/>
            <a:chOff x="7696080" y="4633920"/>
            <a:chExt cx="609840" cy="838080"/>
          </a:xfrm>
        </p:grpSpPr>
        <p:sp>
          <p:nvSpPr>
            <p:cNvPr id="669" name=""/>
            <p:cNvSpPr/>
            <p:nvPr/>
          </p:nvSpPr>
          <p:spPr>
            <a:xfrm flipV="1">
              <a:off x="7696080" y="46339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6080" y="5238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96080" y="48672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81280" y="5500800"/>
            <a:ext cx="2894400" cy="838080"/>
            <a:chOff x="3581280" y="5500800"/>
            <a:chExt cx="2894400" cy="838080"/>
          </a:xfrm>
        </p:grpSpPr>
        <p:sp>
          <p:nvSpPr>
            <p:cNvPr id="673" name=""/>
            <p:cNvSpPr/>
            <p:nvPr/>
          </p:nvSpPr>
          <p:spPr>
            <a:xfrm flipV="1">
              <a:off x="3581280" y="5500800"/>
              <a:ext cx="28944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1280" y="6105960"/>
              <a:ext cx="28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4756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62320" y="5486400"/>
            <a:ext cx="1218600" cy="838080"/>
            <a:chOff x="2362320" y="5486400"/>
            <a:chExt cx="1218600" cy="838080"/>
          </a:xfrm>
        </p:grpSpPr>
        <p:sp>
          <p:nvSpPr>
            <p:cNvPr id="678" name=""/>
            <p:cNvSpPr/>
            <p:nvPr/>
          </p:nvSpPr>
          <p:spPr>
            <a:xfrm>
              <a:off x="2362320" y="54864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5719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09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76520" y="548136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477120" y="5486400"/>
            <a:ext cx="1903680" cy="838080"/>
            <a:chOff x="6477120" y="5486400"/>
            <a:chExt cx="1903680" cy="838080"/>
          </a:xfrm>
        </p:grpSpPr>
        <p:sp>
          <p:nvSpPr>
            <p:cNvPr id="683" name=""/>
            <p:cNvSpPr/>
            <p:nvPr/>
          </p:nvSpPr>
          <p:spPr>
            <a:xfrm>
              <a:off x="6477120" y="5486400"/>
              <a:ext cx="19036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77120" y="5719680"/>
              <a:ext cx="190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581280" y="3962520"/>
            <a:ext cx="4114800" cy="2552760"/>
            <a:chOff x="3581280" y="3962520"/>
            <a:chExt cx="4114800" cy="2552760"/>
          </a:xfrm>
        </p:grpSpPr>
        <p:sp>
          <p:nvSpPr>
            <p:cNvPr id="687" name=""/>
            <p:cNvSpPr/>
            <p:nvPr/>
          </p:nvSpPr>
          <p:spPr>
            <a:xfrm>
              <a:off x="35812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69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771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60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V="1">
            <a:off x="35812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47712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8560" y="19951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21680" y="19807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: conjunto de latches ou 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800" y="17517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 de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659400" y="1371600"/>
            <a:ext cx="5027400" cy="1129680"/>
            <a:chOff x="3659400" y="1371600"/>
            <a:chExt cx="5027400" cy="1129680"/>
          </a:xfrm>
        </p:grpSpPr>
        <p:sp>
          <p:nvSpPr>
            <p:cNvPr id="698" name=""/>
            <p:cNvSpPr/>
            <p:nvPr/>
          </p:nvSpPr>
          <p:spPr>
            <a:xfrm>
              <a:off x="4114800" y="1905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21337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528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864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99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30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201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532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42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578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8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58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91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487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4680" y="15231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59400" y="2133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879840" y="304740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ga de registrador:                     Latch (LD) OK                   F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76880" y="4266360"/>
            <a:ext cx="2118600" cy="1511280"/>
            <a:chOff x="776880" y="4266360"/>
            <a:chExt cx="2118600" cy="1511280"/>
          </a:xfrm>
        </p:grpSpPr>
        <p:grpSp>
          <p:nvGrpSpPr>
            <p:cNvPr id="721" name=""/>
            <p:cNvGrpSpPr/>
            <p:nvPr/>
          </p:nvGrpSpPr>
          <p:grpSpPr>
            <a:xfrm>
              <a:off x="1371600" y="4267080"/>
              <a:ext cx="1523880" cy="865800"/>
              <a:chOff x="1371600" y="4267080"/>
              <a:chExt cx="1523880" cy="865800"/>
            </a:xfrm>
          </p:grpSpPr>
          <p:sp>
            <p:nvSpPr>
              <p:cNvPr id="722" name=""/>
              <p:cNvSpPr/>
              <p:nvPr/>
            </p:nvSpPr>
            <p:spPr>
              <a:xfrm>
                <a:off x="1371600" y="44971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71600" y="48783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74720" y="426708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44840" y="43448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25480" y="482580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760" y="43448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125080" y="472572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6160" y="48020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916200" y="4266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6880" y="47235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25680" y="540936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rra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964320" y="3962520"/>
            <a:ext cx="3330360" cy="1677240"/>
            <a:chOff x="3964320" y="3962520"/>
            <a:chExt cx="3330360" cy="1677240"/>
          </a:xfrm>
        </p:grpSpPr>
        <p:sp>
          <p:nvSpPr>
            <p:cNvPr id="734" name=""/>
            <p:cNvSpPr/>
            <p:nvPr/>
          </p:nvSpPr>
          <p:spPr>
            <a:xfrm>
              <a:off x="4336920" y="3962520"/>
              <a:ext cx="2444760" cy="685800"/>
            </a:xfrm>
            <a:custGeom>
              <a:avLst/>
              <a:gdLst/>
              <a:ahLst/>
              <a:rect l="l" t="t" r="r" b="b"/>
              <a:pathLst>
                <a:path w="1540" h="432">
                  <a:moveTo>
                    <a:pt x="311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1540" y="0"/>
                  </a:lnTo>
                  <a:lnTo>
                    <a:pt x="1540" y="4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6760" y="4648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5760" y="441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79736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6096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5400000">
              <a:off x="4336920" y="4419720"/>
              <a:ext cx="990720" cy="38088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86760" y="5271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64320" y="466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410080" y="4419720"/>
              <a:ext cx="1523880" cy="865800"/>
              <a:chOff x="5410080" y="4419720"/>
              <a:chExt cx="1523880" cy="865800"/>
            </a:xfrm>
          </p:grpSpPr>
          <p:sp>
            <p:nvSpPr>
              <p:cNvPr id="743" name=""/>
              <p:cNvSpPr/>
              <p:nvPr/>
            </p:nvSpPr>
            <p:spPr>
              <a:xfrm>
                <a:off x="5410080" y="4649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10080" y="50310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3200" y="441972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83320" y="4497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63960" y="49784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40240" y="4497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3560" y="487836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14640" y="495468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4574520" y="563796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ERTO (74LS3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 de deslocamen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068120" y="1792440"/>
            <a:ext cx="6437160" cy="1135440"/>
            <a:chOff x="1068120" y="1792440"/>
            <a:chExt cx="6437160" cy="1135440"/>
          </a:xfrm>
        </p:grpSpPr>
        <p:sp>
          <p:nvSpPr>
            <p:cNvPr id="754" name=""/>
            <p:cNvSpPr/>
            <p:nvPr/>
          </p:nvSpPr>
          <p:spPr>
            <a:xfrm>
              <a:off x="1752480" y="2743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133720" y="1792440"/>
              <a:ext cx="1143000" cy="950760"/>
              <a:chOff x="2133720" y="1792440"/>
              <a:chExt cx="1143000" cy="950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1337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37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385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064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3623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200400" y="1792440"/>
              <a:ext cx="1143000" cy="950760"/>
              <a:chOff x="3200400" y="1792440"/>
              <a:chExt cx="1143000" cy="950760"/>
            </a:xfrm>
          </p:grpSpPr>
          <p:sp>
            <p:nvSpPr>
              <p:cNvPr id="764" name=""/>
              <p:cNvSpPr/>
              <p:nvPr/>
            </p:nvSpPr>
            <p:spPr>
              <a:xfrm>
                <a:off x="320040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0040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720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524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7316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900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0040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267080" y="1792440"/>
              <a:ext cx="1143000" cy="950760"/>
              <a:chOff x="4267080" y="1792440"/>
              <a:chExt cx="1143000" cy="950760"/>
            </a:xfrm>
          </p:grpSpPr>
          <p:sp>
            <p:nvSpPr>
              <p:cNvPr id="772" name=""/>
              <p:cNvSpPr/>
              <p:nvPr/>
            </p:nvSpPr>
            <p:spPr>
              <a:xfrm>
                <a:off x="426708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6708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9388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7192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83984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9568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334120" y="1792440"/>
              <a:ext cx="1143000" cy="950760"/>
              <a:chOff x="5334120" y="1792440"/>
              <a:chExt cx="1143000" cy="950760"/>
            </a:xfrm>
          </p:grpSpPr>
          <p:sp>
            <p:nvSpPr>
              <p:cNvPr id="780" name=""/>
              <p:cNvSpPr/>
              <p:nvPr/>
            </p:nvSpPr>
            <p:spPr>
              <a:xfrm>
                <a:off x="53341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41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609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89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68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627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41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676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68120" y="18284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5720" y="182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72520" y="25905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51040" y="38091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ou Flip-Flo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0880" y="4723920"/>
            <a:ext cx="69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s têm registradores de deslocamento (esquerda, direita, a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 séri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l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combinaciona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adores / subtra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s 3-state e conexão ponto-a-po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sequencia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dores: exemplo toggle cou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3733920"/>
            <a:ext cx="3048120" cy="160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2895480"/>
            <a:ext cx="390600" cy="1371600"/>
          </a:xfrm>
          <a:custGeom>
            <a:avLst/>
            <a:gdLst/>
            <a:ahLst/>
            <a:rect l="l" t="t" r="r" b="b"/>
            <a:pathLst>
              <a:path w="246" h="864">
                <a:moveTo>
                  <a:pt x="246" y="0"/>
                </a:moveTo>
                <a:cubicBezTo>
                  <a:pt x="211" y="42"/>
                  <a:pt x="70" y="152"/>
                  <a:pt x="35" y="250"/>
                </a:cubicBezTo>
                <a:cubicBezTo>
                  <a:pt x="0" y="348"/>
                  <a:pt x="0" y="483"/>
                  <a:pt x="35" y="585"/>
                </a:cubicBezTo>
                <a:cubicBezTo>
                  <a:pt x="70" y="687"/>
                  <a:pt x="202" y="806"/>
                  <a:pt x="246" y="86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19320" y="3733560"/>
            <a:ext cx="2971800" cy="1404000"/>
            <a:chOff x="1219320" y="3733560"/>
            <a:chExt cx="2971800" cy="1404000"/>
          </a:xfrm>
        </p:grpSpPr>
        <p:sp>
          <p:nvSpPr>
            <p:cNvPr id="798" name=""/>
            <p:cNvSpPr/>
            <p:nvPr/>
          </p:nvSpPr>
          <p:spPr>
            <a:xfrm>
              <a:off x="1676520" y="414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76520" y="445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3680" y="3962160"/>
              <a:ext cx="63000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81000" y="4024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0160" y="403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05120" y="4389480"/>
              <a:ext cx="98280" cy="1216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6520" y="445608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19320" y="41511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03600" y="4723920"/>
              <a:ext cx="4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743200" y="4138200"/>
              <a:ext cx="0" cy="73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89040" y="3805200"/>
              <a:ext cx="1536840" cy="309240"/>
            </a:xfrm>
            <a:custGeom>
              <a:avLst/>
              <a:gdLst/>
              <a:ahLst/>
              <a:rect l="l" t="t" r="r" b="b"/>
              <a:pathLst>
                <a:path w="968" h="195">
                  <a:moveTo>
                    <a:pt x="7" y="195"/>
                  </a:moveTo>
                  <a:lnTo>
                    <a:pt x="0" y="3"/>
                  </a:lnTo>
                  <a:lnTo>
                    <a:pt x="754" y="0"/>
                  </a:lnTo>
                  <a:lnTo>
                    <a:pt x="754" y="103"/>
                  </a:lnTo>
                  <a:lnTo>
                    <a:pt x="968" y="1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24440" y="4038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29000" y="37335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480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71800" y="3886200"/>
              <a:ext cx="304920" cy="304200"/>
            </a:xfrm>
            <a:prstGeom prst="flowChartDelay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20040" y="1523880"/>
            <a:ext cx="6780960" cy="1905120"/>
            <a:chOff x="320040" y="1523880"/>
            <a:chExt cx="6780960" cy="1905120"/>
          </a:xfrm>
        </p:grpSpPr>
        <p:sp>
          <p:nvSpPr>
            <p:cNvPr id="814" name=""/>
            <p:cNvSpPr/>
            <p:nvPr/>
          </p:nvSpPr>
          <p:spPr>
            <a:xfrm>
              <a:off x="976320" y="2550960"/>
              <a:ext cx="61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360" y="2398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17845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0000" y="1789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357200" y="1600200"/>
              <a:ext cx="1121040" cy="1573200"/>
              <a:chOff x="1357200" y="1600200"/>
              <a:chExt cx="1121040" cy="1573200"/>
            </a:xfrm>
          </p:grpSpPr>
          <p:sp>
            <p:nvSpPr>
              <p:cNvPr id="819" name=""/>
              <p:cNvSpPr/>
              <p:nvPr/>
            </p:nvSpPr>
            <p:spPr>
              <a:xfrm>
                <a:off x="1357200" y="2089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8436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56240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4500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5800" y="20271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572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057400" y="280260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5408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242424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271600" y="1600200"/>
              <a:ext cx="1890720" cy="1671480"/>
              <a:chOff x="2271600" y="1600200"/>
              <a:chExt cx="1890720" cy="1671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72880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2880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60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3364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1624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740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288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160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4148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2532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79548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567240" y="1789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024440" y="1600200"/>
              <a:ext cx="1433520" cy="1649160"/>
              <a:chOff x="4024440" y="1600200"/>
              <a:chExt cx="1433520" cy="1649160"/>
            </a:xfrm>
          </p:grpSpPr>
          <p:sp>
            <p:nvSpPr>
              <p:cNvPr id="842" name=""/>
              <p:cNvSpPr/>
              <p:nvPr/>
            </p:nvSpPr>
            <p:spPr>
              <a:xfrm>
                <a:off x="402444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2444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5124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2928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1188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5304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02444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037120" y="287856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2096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09112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876920" y="1600200"/>
              <a:ext cx="1890720" cy="1671480"/>
              <a:chOff x="4876920" y="1600200"/>
              <a:chExt cx="1890720" cy="16714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3412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6092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3896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2156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56272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3412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7692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34680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064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640080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20040" y="15775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1523880"/>
              <a:ext cx="1524240" cy="19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6280" y="4038480"/>
            <a:ext cx="260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rem.  / Dec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registrad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62080" y="1523520"/>
            <a:ext cx="45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um registrador de desloc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querda / direita com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r os 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447560" y="3276720"/>
            <a:ext cx="6019920" cy="1143000"/>
            <a:chOff x="1447560" y="3276720"/>
            <a:chExt cx="6019920" cy="1143000"/>
          </a:xfrm>
        </p:grpSpPr>
        <p:sp>
          <p:nvSpPr>
            <p:cNvPr id="870" name=""/>
            <p:cNvSpPr/>
            <p:nvPr/>
          </p:nvSpPr>
          <p:spPr>
            <a:xfrm>
              <a:off x="19810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623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79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526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339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95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42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055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11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58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771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8191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4475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907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5623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339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343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572000" y="1905120"/>
            <a:ext cx="4191120" cy="3962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1905120"/>
            <a:ext cx="4038480" cy="396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4760" y="1142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 Sequencial Síncrono Gen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06720" y="2437560"/>
            <a:ext cx="3828600" cy="1600920"/>
            <a:chOff x="306720" y="2437560"/>
            <a:chExt cx="3828600" cy="1600920"/>
          </a:xfrm>
        </p:grpSpPr>
        <p:sp>
          <p:nvSpPr>
            <p:cNvPr id="893" name=""/>
            <p:cNvSpPr/>
            <p:nvPr/>
          </p:nvSpPr>
          <p:spPr>
            <a:xfrm>
              <a:off x="1051200" y="2590920"/>
              <a:ext cx="609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196000" y="2682360"/>
              <a:ext cx="427680" cy="975240"/>
              <a:chOff x="2196000" y="2682360"/>
              <a:chExt cx="427680" cy="975240"/>
            </a:xfrm>
          </p:grpSpPr>
          <p:sp>
            <p:nvSpPr>
              <p:cNvPr id="895" name=""/>
              <p:cNvSpPr/>
              <p:nvPr/>
            </p:nvSpPr>
            <p:spPr>
              <a:xfrm>
                <a:off x="2270160" y="2971800"/>
                <a:ext cx="2286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75200" y="304812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270160" y="31240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70160" y="3200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70160" y="32767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70160" y="35053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70160" y="35812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96000" y="268236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660680" y="3200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876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55960" y="2867040"/>
              <a:ext cx="457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4000" y="3200400"/>
              <a:ext cx="2057400" cy="83808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0"/>
                  </a:moveTo>
                  <a:lnTo>
                    <a:pt x="1488" y="720"/>
                  </a:lnTo>
                  <a:lnTo>
                    <a:pt x="0" y="720"/>
                  </a:ln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83720" y="2766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5440" y="2723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13160" y="32004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68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720" y="243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2320" y="2818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894560" y="2513880"/>
            <a:ext cx="2941200" cy="1600920"/>
            <a:chOff x="4894560" y="2513880"/>
            <a:chExt cx="2941200" cy="1600920"/>
          </a:xfrm>
        </p:grpSpPr>
        <p:sp>
          <p:nvSpPr>
            <p:cNvPr id="914" name=""/>
            <p:cNvSpPr/>
            <p:nvPr/>
          </p:nvSpPr>
          <p:spPr>
            <a:xfrm>
              <a:off x="5638680" y="2666880"/>
              <a:ext cx="60984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783480" y="2958840"/>
              <a:ext cx="427680" cy="974520"/>
              <a:chOff x="6783480" y="2958840"/>
              <a:chExt cx="427680" cy="974520"/>
            </a:xfrm>
          </p:grpSpPr>
          <p:sp>
            <p:nvSpPr>
              <p:cNvPr id="916" name=""/>
              <p:cNvSpPr/>
              <p:nvPr/>
            </p:nvSpPr>
            <p:spPr>
              <a:xfrm>
                <a:off x="6857640" y="3247920"/>
                <a:ext cx="228600" cy="68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62680" y="332424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57640" y="34002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57640" y="34765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57640" y="35528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57640" y="37814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7640" y="3857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83480" y="295884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6248520" y="34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76520"/>
              <a:ext cx="2400120" cy="638280"/>
            </a:xfrm>
            <a:custGeom>
              <a:avLst/>
              <a:gdLst/>
              <a:ahLst/>
              <a:rect l="l" t="t" r="r" b="b"/>
              <a:pathLst>
                <a:path w="1512" h="493">
                  <a:moveTo>
                    <a:pt x="1248" y="13"/>
                  </a:moveTo>
                  <a:lnTo>
                    <a:pt x="1512" y="13"/>
                  </a:lnTo>
                  <a:lnTo>
                    <a:pt x="1512" y="493"/>
                  </a:lnTo>
                  <a:lnTo>
                    <a:pt x="0" y="493"/>
                  </a:lnTo>
                  <a:lnTo>
                    <a:pt x="0" y="0"/>
                  </a:lnTo>
                  <a:lnTo>
                    <a:pt x="33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1560" y="3090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3280" y="3047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8520" y="29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4560" y="251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02760" y="265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296000" y="20566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41640" y="2056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7640" y="48002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ída Y muda apen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transição do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84720" y="466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pode mudar 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instante, 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ção da entrada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197160" y="993600"/>
          <a:ext cx="6122880" cy="40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993600"/>
                    <a:ext cx="61228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09480" y="1343160"/>
            <a:ext cx="2241360" cy="2847240"/>
            <a:chOff x="609480" y="1343160"/>
            <a:chExt cx="2241360" cy="2847240"/>
          </a:xfrm>
        </p:grpSpPr>
        <p:sp>
          <p:nvSpPr>
            <p:cNvPr id="940" name=""/>
            <p:cNvSpPr/>
            <p:nvPr/>
          </p:nvSpPr>
          <p:spPr>
            <a:xfrm>
              <a:off x="1504440" y="173988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5240" y="2549520"/>
              <a:ext cx="43560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04440" y="335916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2549520"/>
              <a:ext cx="43596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928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5860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858600" y="298548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17000" y="2985480"/>
              <a:ext cx="685080" cy="68508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0" y="0"/>
                  </a:moveTo>
                  <a:cubicBezTo>
                    <a:pt x="449" y="48"/>
                    <a:pt x="375" y="206"/>
                    <a:pt x="295" y="286"/>
                  </a:cubicBezTo>
                  <a:cubicBezTo>
                    <a:pt x="215" y="366"/>
                    <a:pt x="61" y="440"/>
                    <a:pt x="0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43320" y="134316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520280" y="374400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5440" y="2549520"/>
              <a:ext cx="1369800" cy="124200"/>
            </a:xfrm>
            <a:custGeom>
              <a:avLst/>
              <a:gdLst/>
              <a:ahLst/>
              <a:rect l="l" t="t" r="r" b="b"/>
              <a:pathLst>
                <a:path w="1392" h="112">
                  <a:moveTo>
                    <a:pt x="0" y="112"/>
                  </a:moveTo>
                  <a:cubicBezTo>
                    <a:pt x="164" y="72"/>
                    <a:pt x="328" y="32"/>
                    <a:pt x="480" y="16"/>
                  </a:cubicBezTo>
                  <a:cubicBezTo>
                    <a:pt x="632" y="0"/>
                    <a:pt x="760" y="0"/>
                    <a:pt x="912" y="16"/>
                  </a:cubicBezTo>
                  <a:cubicBezTo>
                    <a:pt x="1064" y="32"/>
                    <a:pt x="1312" y="96"/>
                    <a:pt x="1392" y="11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8480" y="47998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02360" y="25138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12200" y="15678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or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760" y="1447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aly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 /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31840" y="47235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el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-461880" y="530280"/>
          <a:ext cx="6122880" cy="40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530280"/>
                    <a:ext cx="612288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40560" y="1572840"/>
            <a:ext cx="267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dificação dos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00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4077720"/>
            <a:ext cx="5289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ações booleanas dos circuitos combin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  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      (em maq. de Moore, só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r os C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de memória podem ser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FF-D ou FF-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e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4184640" y="1517760"/>
            <a:ext cx="4654440" cy="3816360"/>
            <a:chOff x="4184640" y="1517760"/>
            <a:chExt cx="4654440" cy="3816360"/>
          </a:xfrm>
        </p:grpSpPr>
        <p:sp>
          <p:nvSpPr>
            <p:cNvPr id="963" name=""/>
            <p:cNvSpPr/>
            <p:nvPr/>
          </p:nvSpPr>
          <p:spPr>
            <a:xfrm>
              <a:off x="5943600" y="189864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00600" y="38800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5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50280" y="44586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588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629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9" name=""/>
            <p:cNvCxnSpPr>
              <a:stCxn id="963" idx="2"/>
              <a:endCxn id="970" idx="0"/>
            </p:cNvCxnSpPr>
            <p:nvPr/>
          </p:nvCxnSpPr>
          <p:spPr>
            <a:xfrm>
              <a:off x="6667200" y="24321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6629400" y="304164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38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81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5327640"/>
              <a:ext cx="41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84640" y="1517760"/>
              <a:ext cx="2449440" cy="3816360"/>
            </a:xfrm>
            <a:custGeom>
              <a:avLst/>
              <a:gdLst/>
              <a:ahLst/>
              <a:rect l="l" t="t" r="r" b="b"/>
              <a:pathLst>
                <a:path w="1543" h="2644">
                  <a:moveTo>
                    <a:pt x="240" y="2644"/>
                  </a:moveTo>
                  <a:cubicBezTo>
                    <a:pt x="160" y="2644"/>
                    <a:pt x="80" y="2644"/>
                    <a:pt x="0" y="2644"/>
                  </a:cubicBezTo>
                  <a:lnTo>
                    <a:pt x="0" y="0"/>
                  </a:lnTo>
                  <a:lnTo>
                    <a:pt x="1540" y="0"/>
                  </a:lnTo>
                  <a:lnTo>
                    <a:pt x="1543" y="2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9588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629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43600" y="288936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dific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175320" y="268272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de seqüência de 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de controle de C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qüência de açõe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flux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gram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q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0080" y="2971800"/>
            <a:ext cx="228600" cy="1219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219320"/>
              <a:gd name="textAreaBottom" fmla="*/ 1204560 h 1219320"/>
            </a:gdLst>
            <a:ahLst/>
            <a:rect l="textAreaLeft" t="textAreaTop" r="textAreaRight" b="textAreaBottom"/>
            <a:pathLst>
              <a:path w="21600" h="115064">
                <a:moveTo>
                  <a:pt x="4767" y="0"/>
                </a:moveTo>
                <a:arcTo wR="4767" hR="4767" stAng="16200000" swAng="-5400000"/>
                <a:lnTo>
                  <a:pt x="0" y="110297"/>
                </a:lnTo>
                <a:arcTo wR="4767" hR="4767" stAng="10800000" swAng="-5400000"/>
                <a:lnTo>
                  <a:pt x="16833" y="115064"/>
                </a:lnTo>
                <a:arcTo wR="4767" hR="4767" stAng="5400000" swAng="-5400000"/>
                <a:lnTo>
                  <a:pt x="21600" y="4767"/>
                </a:lnTo>
                <a:arcTo wR="4767" hR="4767" stAng="0" swAng="-5400000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3273480"/>
            <a:ext cx="687240" cy="2300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0160" y="2585880"/>
          <a:ext cx="3756240" cy="22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2585880"/>
                    <a:ext cx="3756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09680"/>
          <a:ext cx="3701880" cy="359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370188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479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ela 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 de Karna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em função d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binaçõ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3124080"/>
          <a:ext cx="2394000" cy="20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23940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91320" y="16002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432" y="0"/>
                </a:lnTo>
                <a:lnTo>
                  <a:pt x="432" y="336"/>
                </a:lnTo>
                <a:lnTo>
                  <a:pt x="576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362320"/>
            <a:ext cx="914400" cy="68580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lnTo>
                  <a:pt x="480" y="432"/>
                </a:lnTo>
                <a:lnTo>
                  <a:pt x="480" y="0"/>
                </a:lnTo>
                <a:lnTo>
                  <a:pt x="528" y="13"/>
                </a:lnTo>
                <a:lnTo>
                  <a:pt x="576" y="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0574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lnTo>
                  <a:pt x="192" y="0"/>
                </a:lnTo>
                <a:lnTo>
                  <a:pt x="192" y="96"/>
                </a:lnTo>
                <a:lnTo>
                  <a:pt x="72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2860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7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14800" y="121932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1003320" cy="75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371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038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809880"/>
            <a:ext cx="2743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mento de s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ção de 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arr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990720"/>
            <a:ext cx="2057400" cy="1752480"/>
            <a:chOff x="457200" y="990720"/>
            <a:chExt cx="2057400" cy="1752480"/>
          </a:xfrm>
        </p:grpSpPr>
        <p:grpSp>
          <p:nvGrpSpPr>
            <p:cNvPr id="74" name=""/>
            <p:cNvGrpSpPr/>
            <p:nvPr/>
          </p:nvGrpSpPr>
          <p:grpSpPr>
            <a:xfrm>
              <a:off x="1447920" y="1752480"/>
              <a:ext cx="1066680" cy="368280"/>
              <a:chOff x="1447920" y="1752480"/>
              <a:chExt cx="106668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05704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440" y="1752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38080" y="16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981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6765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2228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19242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514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5400000">
              <a:off x="876240" y="186696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3920" y="1514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3920" y="1781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2057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314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 / 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143000"/>
            <a:ext cx="4266720" cy="1593000"/>
            <a:chOff x="76320" y="1143000"/>
            <a:chExt cx="4266720" cy="1593000"/>
          </a:xfrm>
        </p:grpSpPr>
        <p:grpSp>
          <p:nvGrpSpPr>
            <p:cNvPr id="96" name=""/>
            <p:cNvGrpSpPr/>
            <p:nvPr/>
          </p:nvGrpSpPr>
          <p:grpSpPr>
            <a:xfrm>
              <a:off x="228240" y="1143000"/>
              <a:ext cx="4114800" cy="1593000"/>
              <a:chOff x="228240" y="1143000"/>
              <a:chExt cx="4114800" cy="1593000"/>
            </a:xfrm>
          </p:grpSpPr>
          <p:cxnSp>
            <p:nvCxnSpPr>
              <p:cNvPr id="97" name=""/>
              <p:cNvCxnSpPr>
                <a:stCxn id="98" idx="1"/>
                <a:endCxn id="99" idx="3"/>
              </p:cNvCxnSpPr>
              <p:nvPr/>
            </p:nvCxnSpPr>
            <p:spPr>
              <a:xfrm flipH="1">
                <a:off x="2926800" y="1923840"/>
                <a:ext cx="269640" cy="5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99" idx="1"/>
                <a:endCxn id="101" idx="3"/>
              </p:cNvCxnSpPr>
              <p:nvPr/>
            </p:nvCxnSpPr>
            <p:spPr>
              <a:xfrm flipH="1">
                <a:off x="2049480" y="1928520"/>
                <a:ext cx="337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103" idx="1"/>
                <a:endCxn id="104" idx="3"/>
              </p:cNvCxnSpPr>
              <p:nvPr/>
            </p:nvCxnSpPr>
            <p:spPr>
              <a:xfrm flipH="1">
                <a:off x="1171800" y="1904040"/>
                <a:ext cx="338040" cy="24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5" name=""/>
              <p:cNvGrpSpPr/>
              <p:nvPr/>
            </p:nvGrpSpPr>
            <p:grpSpPr>
              <a:xfrm>
                <a:off x="3129120" y="1143000"/>
                <a:ext cx="802080" cy="1586880"/>
                <a:chOff x="3129120" y="1143000"/>
                <a:chExt cx="802080" cy="15868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129120" y="1143000"/>
                  <a:ext cx="802080" cy="1586880"/>
                  <a:chOff x="3129120" y="1143000"/>
                  <a:chExt cx="802080" cy="15868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196080" y="1679760"/>
                    <a:ext cx="535680" cy="48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33000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9784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463920" y="21668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29120" y="1143000"/>
                    <a:ext cx="46872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04800" y="232416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463920" y="116424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197880" y="1755000"/>
                  <a:ext cx="53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319480" y="1143000"/>
                <a:ext cx="808920" cy="1592640"/>
                <a:chOff x="2319480" y="1143000"/>
                <a:chExt cx="808920" cy="1592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86440" y="1683360"/>
                  <a:ext cx="53964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180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910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5644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19480" y="114300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97680" y="2329920"/>
                  <a:ext cx="470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5644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86440" y="1755000"/>
                  <a:ext cx="5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442520" y="1143000"/>
                <a:ext cx="808920" cy="1592640"/>
                <a:chOff x="1442520" y="1143000"/>
                <a:chExt cx="808920" cy="1592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509840" y="1683360"/>
                  <a:ext cx="53928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4484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144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794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44252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19640" y="232992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7948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11280" y="1755000"/>
                  <a:ext cx="536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65560" y="1143000"/>
                <a:ext cx="807480" cy="1593000"/>
                <a:chOff x="565560" y="1143000"/>
                <a:chExt cx="807480" cy="1593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32880" y="1683720"/>
                  <a:ext cx="539280" cy="490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6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3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028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6556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42680" y="233028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03960" y="1164600"/>
                  <a:ext cx="469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880" y="1744560"/>
                  <a:ext cx="53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7" name=""/>
              <p:cNvCxnSpPr>
                <a:stCxn id="136" idx="1"/>
              </p:cNvCxnSpPr>
              <p:nvPr/>
            </p:nvCxnSpPr>
            <p:spPr>
              <a:xfrm rot="10800000">
                <a:off x="227880" y="1889640"/>
                <a:ext cx="405360" cy="3240"/>
              </a:xfrm>
              <a:prstGeom prst="bentConnector3">
                <a:avLst>
                  <a:gd name="adj1" fmla="val 4995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8" name=""/>
              <p:cNvGrpSpPr/>
              <p:nvPr/>
            </p:nvGrpSpPr>
            <p:grpSpPr>
              <a:xfrm>
                <a:off x="4140360" y="2001240"/>
                <a:ext cx="202680" cy="153360"/>
                <a:chOff x="4140360" y="2001240"/>
                <a:chExt cx="202680" cy="153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40720" y="2093400"/>
                  <a:ext cx="20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14036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17384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20768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24152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4241880" y="200124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5" name=""/>
              <p:cNvCxnSpPr>
                <a:stCxn id="144" idx="0"/>
                <a:endCxn id="113" idx="3"/>
              </p:cNvCxnSpPr>
              <p:nvPr/>
            </p:nvCxnSpPr>
            <p:spPr>
              <a:xfrm flipV="1" rot="16200000">
                <a:off x="3939840" y="1699200"/>
                <a:ext cx="97560" cy="50616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6" name=""/>
            <p:cNvSpPr/>
            <p:nvPr/>
          </p:nvSpPr>
          <p:spPr>
            <a:xfrm>
              <a:off x="3886200" y="157176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5433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5480" y="157644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3000" y="15289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20" y="1495440"/>
              <a:ext cx="382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914400"/>
            <a:ext cx="3962520" cy="1981080"/>
            <a:chOff x="4800600" y="914400"/>
            <a:chExt cx="3962520" cy="1981080"/>
          </a:xfrm>
        </p:grpSpPr>
        <p:sp>
          <p:nvSpPr>
            <p:cNvPr id="152" name=""/>
            <p:cNvSpPr/>
            <p:nvPr/>
          </p:nvSpPr>
          <p:spPr>
            <a:xfrm>
              <a:off x="5105520" y="91440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to conve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1676520"/>
              <a:ext cx="2667240" cy="12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1520" y="13716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2952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b3 a2b2 ... a0b0   c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3 s2 s1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85680" y="1709640"/>
              <a:ext cx="304920" cy="114300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205740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6 lin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7733160" y="1485720"/>
              <a:ext cx="304920" cy="83844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6200000">
              <a:off x="6495840" y="1276200"/>
              <a:ext cx="304920" cy="125712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2760 h 1257120"/>
                <a:gd name="textAreaBottom" fmla="*/ 1224360 h 12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 entr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1337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 saí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bordagem bit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1000" y="3184560"/>
          <a:ext cx="3701880" cy="359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3184560"/>
                    <a:ext cx="370188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81280" y="3657600"/>
            <a:ext cx="51055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r por mapa de Karnaugh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2 ou mais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Nº ímpar de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422960" cy="331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8954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1320" y="30481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05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ALU de 4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84320" y="1828800"/>
          <a:ext cx="625968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1828800"/>
                    <a:ext cx="6259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9480" y="1371600"/>
            <a:ext cx="2590920" cy="3263760"/>
            <a:chOff x="609480" y="1371600"/>
            <a:chExt cx="2590920" cy="3263760"/>
          </a:xfrm>
        </p:grpSpPr>
        <p:sp>
          <p:nvSpPr>
            <p:cNvPr id="181" name=""/>
            <p:cNvSpPr/>
            <p:nvPr/>
          </p:nvSpPr>
          <p:spPr>
            <a:xfrm>
              <a:off x="1600200" y="2362320"/>
              <a:ext cx="14479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endCxn id="181" idx="1"/>
            </p:cNvCxnSpPr>
            <p:nvPr/>
          </p:nvCxnSpPr>
          <p:spPr>
            <a:xfrm>
              <a:off x="914040" y="3047760"/>
              <a:ext cx="686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13372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2666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4191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4267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5400" y="175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3480" y="176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396252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3088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92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568760" cy="342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6840" y="1295280"/>
            <a:ext cx="2438640" cy="1320120"/>
            <a:chOff x="456840" y="1295280"/>
            <a:chExt cx="2438640" cy="1320120"/>
          </a:xfrm>
        </p:grpSpPr>
        <p:sp>
          <p:nvSpPr>
            <p:cNvPr id="201" name=""/>
            <p:cNvSpPr/>
            <p:nvPr/>
          </p:nvSpPr>
          <p:spPr>
            <a:xfrm flipH="1">
              <a:off x="685800" y="205740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85800" y="1752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6480" y="1371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23520" y="1523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23520" y="1828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167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23520" y="2076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1960" y="192384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523520" y="2361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 rot="16200000">
              <a:off x="799920" y="171432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6480" y="17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884320" y="990720"/>
          <a:ext cx="6259680" cy="25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4320" y="990720"/>
                    <a:ext cx="62596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514600" y="48909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81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124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utiliz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4495680"/>
            <a:ext cx="2743200" cy="1371240"/>
            <a:chOff x="5257800" y="4495680"/>
            <a:chExt cx="2743200" cy="1371240"/>
          </a:xfrm>
        </p:grpSpPr>
        <p:grpSp>
          <p:nvGrpSpPr>
            <p:cNvPr id="224" name=""/>
            <p:cNvGrpSpPr/>
            <p:nvPr/>
          </p:nvGrpSpPr>
          <p:grpSpPr>
            <a:xfrm>
              <a:off x="5410440" y="4800240"/>
              <a:ext cx="863640" cy="1066680"/>
              <a:chOff x="5410440" y="4800240"/>
              <a:chExt cx="863640" cy="106668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57654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59688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1210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180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7528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56236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41008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706080" y="4800240"/>
              <a:ext cx="863640" cy="1066680"/>
              <a:chOff x="6706080" y="4800240"/>
              <a:chExt cx="863640" cy="106668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70610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2644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1672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2136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0484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8580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70572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2578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120" y="106668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onto a p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82840" y="916200"/>
            <a:ext cx="5433480" cy="2053440"/>
            <a:chOff x="2382840" y="916200"/>
            <a:chExt cx="5433480" cy="2053440"/>
          </a:xfrm>
        </p:grpSpPr>
        <p:sp>
          <p:nvSpPr>
            <p:cNvPr id="245" name=""/>
            <p:cNvSpPr/>
            <p:nvPr/>
          </p:nvSpPr>
          <p:spPr>
            <a:xfrm>
              <a:off x="4711680" y="121932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776840" y="1672560"/>
              <a:ext cx="15523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1736640"/>
              <a:ext cx="77652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1680" y="231948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05520" y="1736640"/>
              <a:ext cx="77616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4640" y="1284120"/>
              <a:ext cx="21967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870360" y="1799280"/>
              <a:ext cx="15516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46360" y="1284120"/>
              <a:ext cx="219960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454640" y="1542600"/>
              <a:ext cx="2196720" cy="103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1413000"/>
              <a:ext cx="18093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483000" y="1605600"/>
              <a:ext cx="2456640" cy="10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676680" y="1477800"/>
              <a:ext cx="193896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708800" y="916200"/>
              <a:ext cx="727920" cy="2053440"/>
              <a:chOff x="4708800" y="916200"/>
              <a:chExt cx="727920" cy="2053440"/>
            </a:xfrm>
          </p:grpSpPr>
          <p:sp>
            <p:nvSpPr>
              <p:cNvPr id="258" name=""/>
              <p:cNvSpPr/>
              <p:nvPr/>
            </p:nvSpPr>
            <p:spPr>
              <a:xfrm rot="705000">
                <a:off x="4844160" y="157320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705000">
                <a:off x="4914360" y="94104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4194000" y="1801800"/>
              <a:ext cx="362232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382840" y="1864080"/>
              <a:ext cx="362232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22200" y="3421800"/>
            <a:ext cx="23655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dire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entre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7040" y="3188520"/>
            <a:ext cx="1893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3-14T21:34:35Z</dcterms:modified>
  <cp:revision>85</cp:revision>
  <dc:subject/>
  <dc:title>Lectures for 2nd Edition</dc:title>
</cp:coreProperties>
</file>