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31640" y="4851000"/>
            <a:ext cx="464832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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ard work:  Binary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1788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3-</a:t>
            </a:r>
            <a:fld id="{E331E707-8B06-401D-9728-768760422A2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 Language of th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ur Firs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we figure out the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78000" y="2006640"/>
            <a:ext cx="263052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(int v[], int 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{ int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emp = v[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] = v[k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v[k+1] = te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47800" y="3309840"/>
            <a:ext cx="414360" cy="31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06840" y="3021120"/>
            <a:ext cx="26305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muli $2, $5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add $2, $4, $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5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lw $16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6, 0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w $15, 4($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jr $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 we’ve learn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oading words but addressing by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rithmetic on registers onl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 $s2, 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 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14720" y="1329480"/>
            <a:ext cx="800892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, like registers and words of data, are also 32 bit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ave numbers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0=8, $s1=17, $s2=18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Format (TIPO R)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1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000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guess what the field names stand f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s: sourc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t: target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d: destinatio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p + funct: definem a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 (3.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01760" y="3130560"/>
            <a:ext cx="5626080" cy="291960"/>
            <a:chOff x="1301760" y="3130560"/>
            <a:chExt cx="5626080" cy="291960"/>
          </a:xfrm>
        </p:grpSpPr>
        <p:sp>
          <p:nvSpPr>
            <p:cNvPr id="128" name=""/>
            <p:cNvSpPr/>
            <p:nvPr/>
          </p:nvSpPr>
          <p:spPr>
            <a:xfrm>
              <a:off x="1301760" y="313056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769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31464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01760" y="3664080"/>
            <a:ext cx="5626080" cy="291960"/>
            <a:chOff x="1301760" y="3664080"/>
            <a:chExt cx="5626080" cy="291960"/>
          </a:xfrm>
        </p:grpSpPr>
        <p:sp>
          <p:nvSpPr>
            <p:cNvPr id="135" name=""/>
            <p:cNvSpPr/>
            <p:nvPr/>
          </p:nvSpPr>
          <p:spPr>
            <a:xfrm>
              <a:off x="1301760" y="3664080"/>
              <a:ext cx="56260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367992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ider the load-word and store-word instruction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would the regularity principle have us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w principle:  Good design demands a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e a new type of instruction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-type for data transfer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 format was R-type f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2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9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32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16 bit numb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re's the compromis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5360" y="312840"/>
            <a:ext cx="281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86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3120" y="4489560"/>
            <a:ext cx="101412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9040" y="448956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3520" y="4489560"/>
            <a:ext cx="30430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8640" y="3887640"/>
            <a:ext cx="6087960" cy="338400"/>
            <a:chOff x="998640" y="3887640"/>
            <a:chExt cx="6087960" cy="338400"/>
          </a:xfrm>
        </p:grpSpPr>
        <p:sp>
          <p:nvSpPr>
            <p:cNvPr id="148" name=""/>
            <p:cNvSpPr/>
            <p:nvPr/>
          </p:nvSpPr>
          <p:spPr>
            <a:xfrm>
              <a:off x="9986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3120" y="388764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9040" y="388764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3520" y="3887640"/>
              <a:ext cx="30430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os de instrução já vis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205000"/>
          <a:ext cx="791856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5000"/>
                    <a:ext cx="79185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11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1200" y="1245960"/>
            <a:ext cx="8175960" cy="261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300] = h + A[300];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1200($t1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1200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3429000"/>
          <a:ext cx="8475480" cy="25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29000"/>
                    <a:ext cx="84754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ões vistas até ago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44440" y="1673280"/>
          <a:ext cx="8667720" cy="36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673280"/>
                    <a:ext cx="866772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s are stored in memory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o be read or written just like dat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&amp; Execut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 are fetched and put into a special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ts in the register "control" the subsequent 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tch the “next” instruction and conti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65320" y="2617920"/>
            <a:ext cx="2579760" cy="2214360"/>
            <a:chOff x="1165320" y="2617920"/>
            <a:chExt cx="2579760" cy="2214360"/>
          </a:xfrm>
        </p:grpSpPr>
        <p:sp>
          <p:nvSpPr>
            <p:cNvPr id="165" name=""/>
            <p:cNvSpPr/>
            <p:nvPr/>
          </p:nvSpPr>
          <p:spPr>
            <a:xfrm>
              <a:off x="2367000" y="261792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5320" y="3284640"/>
              <a:ext cx="15271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98840" y="282744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7840" y="328464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3816000" y="3181320"/>
            <a:ext cx="1050840" cy="41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5680" y="2933640"/>
            <a:ext cx="43592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mory for data, program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mpilers, edito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ored Program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ision making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 the control flow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e., change the "next" instruction to be execut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nditional branch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0, $t1,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(3.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ample (pag 123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6440" y="1320840"/>
            <a:ext cx="8025480" cy="45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ssumi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 g h i j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 -&gt; $s4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= = j) goto L1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1:          f = f - i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3, $s4, Label    # goto label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j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    # faz a soma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0, $s0, s$3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se não há label explícito no código C?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j) f = g + h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f = f - i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er cria label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of the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primitive than higher level languag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no sophisticated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estric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IPS Arithmetic Instruction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e working with the MIPS 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other architectures developed since the 1980'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NEC, Nintendo, Silicon Graphics, Son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sign goals:  maximize performance and minimize cost,  reduce desig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unconditional branch instructions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!=j)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s4, $s5, Lab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+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h=i-j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1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3, $s4, $s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2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Can you build a simple for loop?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or (i=0; i &lt; n; i = i + 1)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&lt;-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abel: corpo do for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i = i + 1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teste (usando beq ou bne)-&gt; 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 fa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+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$s1,$s2,$s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$s2 – $s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s1 = Memory[$s2+100]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s1,100($s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[$s2+100] = $s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°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s4,$s5,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 if $s4 = $s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instr. is at Lab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6720" y="4589640"/>
            <a:ext cx="6445440" cy="1379520"/>
            <a:chOff x="666720" y="4589640"/>
            <a:chExt cx="6445440" cy="1379520"/>
          </a:xfrm>
        </p:grpSpPr>
        <p:grpSp>
          <p:nvGrpSpPr>
            <p:cNvPr id="183" name=""/>
            <p:cNvGrpSpPr/>
            <p:nvPr/>
          </p:nvGrpSpPr>
          <p:grpSpPr>
            <a:xfrm>
              <a:off x="1023840" y="5033880"/>
              <a:ext cx="6088320" cy="338400"/>
              <a:chOff x="1023840" y="5033880"/>
              <a:chExt cx="6088320" cy="338400"/>
            </a:xfrm>
          </p:grpSpPr>
          <p:sp>
            <p:nvSpPr>
              <p:cNvPr id="184" name=""/>
              <p:cNvSpPr/>
              <p:nvPr/>
            </p:nvSpPr>
            <p:spPr>
              <a:xfrm>
                <a:off x="102384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3832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52800" y="5033880"/>
                <a:ext cx="10144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67280" y="5033880"/>
                <a:ext cx="3044880" cy="33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023840" y="4632480"/>
              <a:ext cx="6088320" cy="338040"/>
              <a:chOff x="1023840" y="4632480"/>
              <a:chExt cx="6088320" cy="338040"/>
            </a:xfrm>
          </p:grpSpPr>
          <p:sp>
            <p:nvSpPr>
              <p:cNvPr id="189" name=""/>
              <p:cNvSpPr/>
              <p:nvPr/>
            </p:nvSpPr>
            <p:spPr>
              <a:xfrm>
                <a:off x="102384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3832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528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672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8320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97680" y="463248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023840" y="5435640"/>
              <a:ext cx="6088320" cy="338040"/>
              <a:chOff x="1023840" y="5435640"/>
              <a:chExt cx="6088320" cy="338040"/>
            </a:xfrm>
          </p:grpSpPr>
          <p:sp>
            <p:nvSpPr>
              <p:cNvPr id="196" name=""/>
              <p:cNvSpPr/>
              <p:nvPr/>
            </p:nvSpPr>
            <p:spPr>
              <a:xfrm>
                <a:off x="1023840" y="5435640"/>
                <a:ext cx="101448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38320" y="5435640"/>
                <a:ext cx="5073840" cy="33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666720" y="4589640"/>
              <a:ext cx="6413400" cy="1379520"/>
              <a:chOff x="666720" y="4589640"/>
              <a:chExt cx="6413400" cy="1379520"/>
            </a:xfrm>
          </p:grpSpPr>
          <p:sp>
            <p:nvSpPr>
              <p:cNvPr id="199" name=""/>
              <p:cNvSpPr/>
              <p:nvPr/>
            </p:nvSpPr>
            <p:spPr>
              <a:xfrm>
                <a:off x="692280" y="4589640"/>
                <a:ext cx="63878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d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sham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fun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6720" y="4952880"/>
                <a:ext cx="5875200" cy="95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s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rt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16 bit addres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720" y="5354640"/>
                <a:ext cx="486108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marL="112680">
                  <a:lnSpc>
                    <a:spcPts val="2699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1521000"/>
                    <a:tab algn="l" pos="2540160"/>
                    <a:tab algn="l" pos="3557520"/>
                    <a:tab algn="l" pos="4638600"/>
                    <a:tab algn="l" pos="559440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op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pt-BR" sz="1800" spc="-1" strike="noStrike">
                    <a:solidFill>
                      <a:srgbClr val="000000"/>
                    </a:solidFill>
                    <a:latin typeface="Courier New"/>
                  </a:rPr>
                  <a:t>  26 bit 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592200" y="46404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i == j)       f = g + h ; else f = g - h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  $s4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0  $s1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4, Els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lse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+ 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0, 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 = g -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52388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if then el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 Flow (sl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lt (set-on-less-than)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 $s1 &lt; $s2 the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1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slt $t0, $s1, $s2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$t0 = 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use this instruction to build 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"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can now build general control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e that the assembler needs a register to do this,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there are policy of use conventions fo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icy of Use Conven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76400" y="2448000"/>
          <a:ext cx="6672240" cy="29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448000"/>
                    <a:ext cx="667224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124360" y="56754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1 = $at: reservado para o assem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$26-27 = $k0-$k1: reservados para o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o $z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ero é um  valor út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sto em hardware é (quase) nu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Útil, por exemplo, para implement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, $s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ear $s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$s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lt $s1, $s2, Label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branch on less th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loop com array (pag 12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 = g + A[i]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g           h        i         j       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1     $s2    $s3   $s4   $s5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f (i != h) goto Loop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5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A (posição do ele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1, $s1, $t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g + A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s3, $s2,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Loop if i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88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while loop (pag 12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le (save[i] = = k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i           j        k        sav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 = i + j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($s3    $s4   $s5       $s6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s3, $zer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 $t1, $t1, 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 (instrução adia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t1, $t1, $s6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i * 4 + 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save[i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ne $t0, $s5, Exi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goto Exit  if save[i]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$s3, $s3, $s4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# i = i + j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t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520">
              <a:spcBef>
                <a:spcPts val="451"/>
              </a:spcBef>
              <a:tabLst>
                <a:tab algn="l" pos="0"/>
                <a:tab algn="l" pos="161928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ver exercício 3.9 para otimização, reduzindo para uma instrução de desvio por cicl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se / switch e jr (pag 12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1840" y="1021680"/>
            <a:ext cx="854820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witch (k) {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f          g        h        i         j       k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0: f=i+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s0    $s1     $s2    $s3   $s4   $s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1: f=g+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2 contém o valor 4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2: f=g-h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($t4 contém base de JumpTabl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e 3: f=i-j; break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testar primeiro se k dentro de 0-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s5, $zero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multi $t1, $t1, 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i *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t1, $t1, $t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1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k * 4 + Jump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$t0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endereço a ser saltad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r $t0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salta para o endereç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0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3, $s4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i + j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L1: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 $s0, $s1, $s2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f = g + 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 Exit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# brea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880" indent="-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476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0680" y="5638680"/>
            <a:ext cx="19724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fs aninhado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m é melh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3520" y="1267920"/>
            <a:ext cx="8131320" cy="31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o: passar parâmetros, executar (salvar contexto), retornar, (recuperar contex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ção SIMPLES do MIPS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jal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ia para endereç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 “automaticamente” endereço da próxima instrução em $ra ($3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acontece com jal aninhado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pilh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: implementada na memória, com $sp ($2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 exemplos pag 134 - 1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sh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-4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w    $ra, 0($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876920"/>
            <a:ext cx="2743200" cy="105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p $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w    $ra, 0($sp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i  $sp, $sp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.2 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l instructions have 3 ope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 order is fixed (destination first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s1, $s2 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(associated with variables by compil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mada d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dereço de retor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 tipo $sn (devem ser salvos, não podem ser alterad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lvamento do contex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lo “calle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gumentos passados entre o chamador e o cham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r os registradores $a0 = $a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rários não precisam ser sal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5360" y="312840"/>
            <a:ext cx="159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 constants are used quite frequently (50% of operands)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A + 5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B + 1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C - 18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tions?  Why no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t 'typical constants' in memory and load the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eate hard-wired registers (like $zero) for constants like one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Instructions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i $29, $29, 4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lti $8, $18, 1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di $29, $29, 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i $29, $29, 4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w do we make this wor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5360" y="312840"/>
            <a:ext cx="425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d like to be able to load a 32 bit constant into a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use two instructions, new "load upper immediate" instruct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ui $t0, 101010101010101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must get the lower order bits right, i.e.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i $t0, $t0, 1010101010101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84520" y="4819680"/>
            <a:ext cx="4084560" cy="325440"/>
            <a:chOff x="1784520" y="4819680"/>
            <a:chExt cx="4084560" cy="325440"/>
          </a:xfrm>
        </p:grpSpPr>
        <p:sp>
          <p:nvSpPr>
            <p:cNvPr id="233" name=""/>
            <p:cNvSpPr/>
            <p:nvPr/>
          </p:nvSpPr>
          <p:spPr>
            <a:xfrm>
              <a:off x="1784520" y="48196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27520" y="48196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41480" y="480204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70440" y="480204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84520" y="5208480"/>
            <a:ext cx="4084560" cy="325440"/>
            <a:chOff x="1784520" y="5208480"/>
            <a:chExt cx="4084560" cy="325440"/>
          </a:xfrm>
        </p:grpSpPr>
        <p:sp>
          <p:nvSpPr>
            <p:cNvPr id="238" name=""/>
            <p:cNvSpPr/>
            <p:nvPr/>
          </p:nvSpPr>
          <p:spPr>
            <a:xfrm>
              <a:off x="1784520" y="5208480"/>
              <a:ext cx="204120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7520" y="5208480"/>
              <a:ext cx="204156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41480" y="5191200"/>
            <a:ext cx="263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0440" y="5191200"/>
            <a:ext cx="203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1010101010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84520" y="5805360"/>
            <a:ext cx="4216320" cy="538200"/>
            <a:chOff x="1784520" y="5805360"/>
            <a:chExt cx="4216320" cy="538200"/>
          </a:xfrm>
        </p:grpSpPr>
        <p:grpSp>
          <p:nvGrpSpPr>
            <p:cNvPr id="243" name=""/>
            <p:cNvGrpSpPr/>
            <p:nvPr/>
          </p:nvGrpSpPr>
          <p:grpSpPr>
            <a:xfrm>
              <a:off x="1784520" y="5899320"/>
              <a:ext cx="4084560" cy="325440"/>
              <a:chOff x="1784520" y="5899320"/>
              <a:chExt cx="4084560" cy="3254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84520" y="5899320"/>
                <a:ext cx="204120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27520" y="5899320"/>
                <a:ext cx="2041560" cy="32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941480" y="5805360"/>
              <a:ext cx="26305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70440" y="5805360"/>
              <a:ext cx="20304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149480" y="5754600"/>
            <a:ext cx="49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640" y="5429160"/>
            <a:ext cx="113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70120" y="2290680"/>
            <a:ext cx="8573760" cy="1079640"/>
            <a:chOff x="870120" y="2290680"/>
            <a:chExt cx="8573760" cy="1079640"/>
          </a:xfrm>
        </p:grpSpPr>
        <p:grpSp>
          <p:nvGrpSpPr>
            <p:cNvPr id="251" name=""/>
            <p:cNvGrpSpPr/>
            <p:nvPr/>
          </p:nvGrpSpPr>
          <p:grpSpPr>
            <a:xfrm>
              <a:off x="870120" y="2847960"/>
              <a:ext cx="4084560" cy="326880"/>
              <a:chOff x="870120" y="2847960"/>
              <a:chExt cx="4084560" cy="326880"/>
            </a:xfrm>
          </p:grpSpPr>
          <p:sp>
            <p:nvSpPr>
              <p:cNvPr id="252" name=""/>
              <p:cNvSpPr/>
              <p:nvPr/>
            </p:nvSpPr>
            <p:spPr>
              <a:xfrm>
                <a:off x="870120" y="2847960"/>
                <a:ext cx="204120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13120" y="2847960"/>
                <a:ext cx="2041560" cy="32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2088720" y="2550960"/>
              <a:ext cx="98604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27080" y="2830680"/>
              <a:ext cx="26305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0101010101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56040" y="2830680"/>
              <a:ext cx="20304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00000000000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707000" y="2602080"/>
              <a:ext cx="98568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11840" y="2290680"/>
              <a:ext cx="36320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filled with z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ow about larger constan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5360" y="312840"/>
            <a:ext cx="63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provides convenient symbolic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ch easier than writing down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chine language is the underlying re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destination is no longer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embly can provide 'pseudoinstructions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.g., “move $t0, $t1” exists only in Assemb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ould be implemented using “add $t0,$t1,$zero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n considering performance you should count real instruc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sembly Language vs.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5360" y="312840"/>
            <a:ext cx="194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ings we are not going to cover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nkers, loaders, memory layou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acks, frames, recursion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nipulating strings and pointer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ts and exception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 calls and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 of these we'll talk about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've focused on architectural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sics of MIPS assembly language and machin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build a processor to execute these instructions.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5360" y="312840"/>
            <a:ext cx="264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instructions all 32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tructured, no unnecessary bagg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hree  instruction forma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achieve perform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hat are  the compiler's goal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mpiler where we 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346040" y="2976480"/>
            <a:ext cx="6088320" cy="338400"/>
            <a:chOff x="1346040" y="2976480"/>
            <a:chExt cx="6088320" cy="338400"/>
          </a:xfrm>
        </p:grpSpPr>
        <p:sp>
          <p:nvSpPr>
            <p:cNvPr id="269" name=""/>
            <p:cNvSpPr/>
            <p:nvPr/>
          </p:nvSpPr>
          <p:spPr>
            <a:xfrm>
              <a:off x="13460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6052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76440" y="297648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297648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46040" y="2575080"/>
            <a:ext cx="6088320" cy="339480"/>
            <a:chOff x="1346040" y="2575080"/>
            <a:chExt cx="6088320" cy="339480"/>
          </a:xfrm>
        </p:grpSpPr>
        <p:sp>
          <p:nvSpPr>
            <p:cNvPr id="274" name=""/>
            <p:cNvSpPr/>
            <p:nvPr/>
          </p:nvSpPr>
          <p:spPr>
            <a:xfrm>
              <a:off x="13460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05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9092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0540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19880" y="257508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14480" y="2532240"/>
            <a:ext cx="6388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ham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8920" y="2895480"/>
            <a:ext cx="5875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46040" y="3378240"/>
            <a:ext cx="6088320" cy="338040"/>
            <a:chOff x="1346040" y="3378240"/>
            <a:chExt cx="6088320" cy="338040"/>
          </a:xfrm>
        </p:grpSpPr>
        <p:sp>
          <p:nvSpPr>
            <p:cNvPr id="283" name=""/>
            <p:cNvSpPr/>
            <p:nvPr/>
          </p:nvSpPr>
          <p:spPr>
            <a:xfrm>
              <a:off x="1346040" y="33782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520" y="3378240"/>
              <a:ext cx="50738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88920" y="3297240"/>
            <a:ext cx="4861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2583000"/>
            <a:ext cx="3999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verview of M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5360" y="312840"/>
            <a:ext cx="513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 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es are not 32 bits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How do we handle this with load and store instruc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297080" y="3465360"/>
            <a:ext cx="6086520" cy="338400"/>
            <a:chOff x="1297080" y="3465360"/>
            <a:chExt cx="6086520" cy="338400"/>
          </a:xfrm>
        </p:grpSpPr>
        <p:sp>
          <p:nvSpPr>
            <p:cNvPr id="291" name=""/>
            <p:cNvSpPr/>
            <p:nvPr/>
          </p:nvSpPr>
          <p:spPr>
            <a:xfrm>
              <a:off x="12970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1560" y="3465360"/>
              <a:ext cx="101412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25680" y="3465360"/>
              <a:ext cx="101448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0160" y="3465360"/>
              <a:ext cx="3043440" cy="33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939960" y="3384720"/>
            <a:ext cx="5873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7080" y="3867120"/>
            <a:ext cx="6086520" cy="338040"/>
            <a:chOff x="1297080" y="3867120"/>
            <a:chExt cx="6086520" cy="338040"/>
          </a:xfrm>
        </p:grpSpPr>
        <p:sp>
          <p:nvSpPr>
            <p:cNvPr id="297" name=""/>
            <p:cNvSpPr/>
            <p:nvPr/>
          </p:nvSpPr>
          <p:spPr>
            <a:xfrm>
              <a:off x="1297080" y="386712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11560" y="3867120"/>
              <a:ext cx="507204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39960" y="3786120"/>
            <a:ext cx="4859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26 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1800" y="3497400"/>
            <a:ext cx="401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4320" y="1479600"/>
            <a:ext cx="75153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 and Jum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5360" y="312840"/>
            <a:ext cx="345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eq $t4,$t5,Labe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xt instruction is at Label if $t4 = $t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s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uld specify a register (like lw and sw) and add it to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Instruction Address Register (PC = program cou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 branches are local (principle of loc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mp instructions just use high order bits of P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ress boundaries of 256 MB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0964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2412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8600" y="2963880"/>
            <a:ext cx="10144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53080" y="2963880"/>
            <a:ext cx="3044880" cy="33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2520" y="2882880"/>
            <a:ext cx="587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2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1521000"/>
                <a:tab algn="l" pos="2540160"/>
                <a:tab algn="l" pos="3557520"/>
                <a:tab algn="l" pos="4638600"/>
                <a:tab algn="l" pos="559440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16 bit addr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2997360"/>
            <a:ext cx="401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ddresses in Bran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 summariz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038240"/>
          <a:ext cx="6377040" cy="134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38240"/>
                    <a:ext cx="63770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28680" y="2476440"/>
          <a:ext cx="6396120" cy="405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8680" y="2476440"/>
                    <a:ext cx="639612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833480" y="1014480"/>
            <a:ext cx="55022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PS arithme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implicity favors regularity.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f course this complicates some things..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= B + C + D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 = F - A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1, $s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0, $t0, $s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 $s4, $s5, $s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nds must be registers, only 32 registers provi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:  smaller is faster.      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5360" y="312840"/>
            <a:ext cx="3695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lternat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vide more powerfu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al is to reduce number of instruction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nger is a slower cycle time and/or a higher C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etimes referred to as “RISC vs. CISC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rtually all new instruction sets since 1982 have been RIS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X:  minimize code size, make assembly language easy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instructions from 1 to 54 bytes lo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’ll look at PowerPC and 80x86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e Archite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exempl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strar transparência do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ilustrar estrutura ge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ray e poin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será cobr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werPC (Motorola, Apple, IB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2 registradores de 32 bits, instruções de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dexed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1,$a0+$s3  #$t1=Memory[$a0+$s3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pdate a register as part of load (for marching through arr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lwu $t0,4($s3) #$t0=Memory[$s3+4];$s3=$s3+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do we have to do in MIP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multiple/store multi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al counter register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c Loop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” 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decrement counter, if not 0 goto loop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78:  The Intel 8086 is announced (16 bit archit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:  The 8087 floating point coprocessor is ad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2:  The 80286 increases address space to 24 bits, +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:  The 80386 extends to 32 bits, new addressing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9-1995:  The 80486, Pentium, Pentium Pro add a few  instru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stly designed for higher performa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7:  MMX is added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This history illustrates the impact of the “golden handcuffs” of compatibili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dding new features as someone might add clothing to a packed bag”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an architecture that is difficult to explain and impossible to love”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dominant architecture:  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your textbook for a more detailed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rom 1 to 17 bytes 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must act as both a source an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perand can come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addressing mod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“base or scaled index with 8 or 32 bit displac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 gra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st frequently used instructions are not too difficult to bui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s avoid the portions of the architecture that are s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the 80x86 lacks in style is made up in quantity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king it beautiful from the right perspecti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61800" y="1200240"/>
            <a:ext cx="8114760" cy="33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: instruções mais poderosas aumentam desempen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X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: salva endereço de retorno, nº de parâmetros, quaisquer registros modificados e valor antigo do 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 para apagar lista duplamente lig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60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instruções mais freqüentes: 8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instruções mais freqüentes: 90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instruções mais freqüentes: 95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instruções mais freqüentes: 99% das ocorrê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280" y="4416480"/>
          <a:ext cx="8763120" cy="251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16480"/>
                    <a:ext cx="876312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5360" y="312840"/>
            <a:ext cx="139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complexity is only one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wer instruction count vs. higher CPI / lower clock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Princi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ty favors regularity (facilidade de proje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ller is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ood design demands comprom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ke the common case fast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very important abstraction indeed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48040" y="1162440"/>
            <a:ext cx="85716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 = A * B + C * C    onde X, A, B, C são endereços de posições de 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66880" y="1600200"/>
            <a:ext cx="2514600" cy="2209680"/>
            <a:chOff x="2666880" y="1600200"/>
            <a:chExt cx="2514600" cy="2209680"/>
          </a:xfrm>
        </p:grpSpPr>
        <p:sp>
          <p:nvSpPr>
            <p:cNvPr id="339" name=""/>
            <p:cNvSpPr/>
            <p:nvPr/>
          </p:nvSpPr>
          <p:spPr>
            <a:xfrm>
              <a:off x="2666880" y="1600200"/>
              <a:ext cx="2514600" cy="2209680"/>
            </a:xfrm>
            <a:prstGeom prst="roundRect">
              <a:avLst>
                <a:gd name="adj" fmla="val 16667"/>
              </a:avLst>
            </a:prstGeom>
            <a:solidFill>
              <a:srgbClr val="cefe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48120" y="2165400"/>
              <a:ext cx="1600200" cy="115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T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OVE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X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85960" y="332100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1 op EN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51000" y="176184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oi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28600" y="2362320"/>
            <a:ext cx="1905120" cy="2514600"/>
            <a:chOff x="228600" y="2362320"/>
            <a:chExt cx="1905120" cy="2514600"/>
          </a:xfrm>
        </p:grpSpPr>
        <p:sp>
          <p:nvSpPr>
            <p:cNvPr id="344" name=""/>
            <p:cNvSpPr/>
            <p:nvPr/>
          </p:nvSpPr>
          <p:spPr>
            <a:xfrm>
              <a:off x="228600" y="236232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fb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000" y="2743560"/>
              <a:ext cx="124740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080" y="23623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m endere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00" y="4419720"/>
              <a:ext cx="178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C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AC op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772240" y="1676520"/>
            <a:ext cx="2514600" cy="1828800"/>
            <a:chOff x="5772240" y="1676520"/>
            <a:chExt cx="2514600" cy="1828800"/>
          </a:xfrm>
        </p:grpSpPr>
        <p:sp>
          <p:nvSpPr>
            <p:cNvPr id="349" name=""/>
            <p:cNvSpPr/>
            <p:nvPr/>
          </p:nvSpPr>
          <p:spPr>
            <a:xfrm>
              <a:off x="5772240" y="1676520"/>
              <a:ext cx="2514600" cy="1828800"/>
            </a:xfrm>
            <a:prstGeom prst="roundRect">
              <a:avLst>
                <a:gd name="adj" fmla="val 16667"/>
              </a:avLst>
            </a:prstGeom>
            <a:solidFill>
              <a:srgbClr val="ffe6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3120" y="2209680"/>
              <a:ext cx="190512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IPLY T, A, B MULTIPLY X, C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X, X,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7640" y="304812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END2 op EN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62480" y="182880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Três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715000" y="3657600"/>
            <a:ext cx="2514600" cy="2590920"/>
            <a:chOff x="5715000" y="3657600"/>
            <a:chExt cx="2514600" cy="2590920"/>
          </a:xfrm>
        </p:grpSpPr>
        <p:sp>
          <p:nvSpPr>
            <p:cNvPr id="354" name=""/>
            <p:cNvSpPr/>
            <p:nvPr/>
          </p:nvSpPr>
          <p:spPr>
            <a:xfrm>
              <a:off x="5715000" y="3657600"/>
              <a:ext cx="2514600" cy="2590920"/>
            </a:xfrm>
            <a:custGeom>
              <a:avLst/>
              <a:gdLst>
                <a:gd name="textAreaLeft" fmla="*/ 122760 w 2514600"/>
                <a:gd name="textAreaRight" fmla="*/ 2391840 w 2514600"/>
                <a:gd name="textAreaTop" fmla="*/ 122760 h 2590920"/>
                <a:gd name="textAreaBottom" fmla="*/ 2468160 h 2590920"/>
              </a:gdLst>
              <a:ahLst/>
              <a:rect l="textAreaLeft" t="textAreaTop" r="textAreaRight" b="textAreaBottom"/>
              <a:pathLst>
                <a:path w="21600" h="22255">
                  <a:moveTo>
                    <a:pt x="3600" y="0"/>
                  </a:moveTo>
                  <a:arcTo wR="3600" hR="3600" stAng="16200000" swAng="-5400000"/>
                  <a:lnTo>
                    <a:pt x="0" y="18655"/>
                  </a:lnTo>
                  <a:arcTo wR="3600" hR="3600" stAng="10800000" swAng="-5400000"/>
                  <a:lnTo>
                    <a:pt x="18000" y="22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cfe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5880" y="4038480"/>
              <a:ext cx="1905120" cy="179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ush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pop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93440" y="586728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os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tos op 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00560" y="3657600"/>
              <a:ext cx="168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Zero endere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66880" y="4038480"/>
            <a:ext cx="2514600" cy="2362320"/>
            <a:chOff x="2666880" y="4038480"/>
            <a:chExt cx="2514600" cy="2362320"/>
          </a:xfrm>
        </p:grpSpPr>
        <p:sp>
          <p:nvSpPr>
            <p:cNvPr id="359" name=""/>
            <p:cNvSpPr/>
            <p:nvPr/>
          </p:nvSpPr>
          <p:spPr>
            <a:xfrm>
              <a:off x="2666880" y="4038480"/>
              <a:ext cx="2514600" cy="2362320"/>
            </a:xfrm>
            <a:prstGeom prst="roundRect">
              <a:avLst>
                <a:gd name="adj" fmla="val 16667"/>
              </a:avLst>
            </a:prstGeom>
            <a:solidFill>
              <a:srgbClr val="feda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19720"/>
              <a:ext cx="1904760" cy="15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1,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2,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load R3,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1, R1, 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mult R3, R3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add R1, R1, 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urier New"/>
                </a:rPr>
                <a:t>store R1,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63680" y="6019920"/>
              <a:ext cx="157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76720" y="403848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Load-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0, 1, 2 e 3 endereç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melho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fo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código obj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cidade e desempenho do hardware para suportar arquitetu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ers vs. Memory (3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65120" y="3014640"/>
            <a:ext cx="4383360" cy="2343240"/>
            <a:chOff x="1365120" y="3014640"/>
            <a:chExt cx="4383360" cy="2343240"/>
          </a:xfrm>
        </p:grpSpPr>
        <p:sp>
          <p:nvSpPr>
            <p:cNvPr id="55" name=""/>
            <p:cNvSpPr/>
            <p:nvPr/>
          </p:nvSpPr>
          <p:spPr>
            <a:xfrm>
              <a:off x="2817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84720" y="3024360"/>
              <a:ext cx="0" cy="22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65120" y="3014640"/>
              <a:ext cx="4383360" cy="2243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16040" y="4819680"/>
              <a:ext cx="15271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2160" y="4819680"/>
              <a:ext cx="6760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16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716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3880" y="3121200"/>
              <a:ext cx="1239840" cy="78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3880" y="4022640"/>
              <a:ext cx="1239840" cy="79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560" y="3233880"/>
              <a:ext cx="1014480" cy="15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033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033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68560" y="3691080"/>
              <a:ext cx="122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33760" y="32400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33760" y="4141800"/>
              <a:ext cx="1227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ithmetic instructions operands must be registers,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— only 32 registers provided (32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iler associates variables with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bout programs with lots of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ed as a large, single-dimension array, with an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address is an index into th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yte addressing" means that the index points to a byte of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3165480"/>
            <a:ext cx="1127160" cy="237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4974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8368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752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51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85136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51912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55292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2520" y="317196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351000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2520" y="384984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2520" y="41878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52520" y="452592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2520" y="48639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52520" y="5203800"/>
            <a:ext cx="501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2520" y="55418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0560" y="319716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0560" y="35352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38736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0560" y="4213080"/>
            <a:ext cx="127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4551480"/>
            <a:ext cx="127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488952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0560" y="522756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8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 are nice, but most data items use larger "words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IPS, a word is 32 bits or 4 bytes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 with byte addresses from 0 to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rds with byte addresses 0, 4, 8, ...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 are align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what are the  least 2 significant bits of a word addres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9720" y="2263680"/>
            <a:ext cx="1127160" cy="135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5560" y="2595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5560" y="29336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5560" y="327168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5560" y="36115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77880" y="226836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7880" y="260820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7880" y="2946240"/>
            <a:ext cx="50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65200" y="328464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5200" y="3622680"/>
            <a:ext cx="501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6280" y="229392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6280" y="263376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16280" y="297180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6280" y="3309840"/>
            <a:ext cx="1277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32 bit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08600" y="2708280"/>
            <a:ext cx="3606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s hold 32 bits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and stor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8] = h + A[8];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IPS code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0, $s2, $t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32($s3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word has destination l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member arithmetic operands are registers, not memory!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isto é chamado de arquitetura “load-store”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com array (pag. 11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ja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 = h + A[i];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nde A é um array de 100 palavras com base apontada por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s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o compilador associa as variáveis g, h e i com os registr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: $s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: $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: $s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t1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ecessário calcular o endereço do elemento (A+4*i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multiply) $t1, $s4, (valor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t1, $s3, $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ora é possível ler o endereço apontado por $t1 e executar a so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temp $t0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 $s1, $s2, $t0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# g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 + A[i]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4-02T23:55:28Z</dcterms:modified>
  <cp:revision>50</cp:revision>
  <dc:subject/>
  <dc:title>Lectures for 2nd Edition</dc:title>
</cp:coreProperties>
</file>