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60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4-</a:t>
            </a:r>
            <a:fld id="{38ED64C3-A5FF-4061-8AD3-7F6870784D67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o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 for Compu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02080" y="69372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3680" y="1198080"/>
            <a:ext cx="827100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verflow when adding a positive and a negative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verflow when signs are the same for subtr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ÇÕES DE OVERF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ng Over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71600" y="2362320"/>
          <a:ext cx="5708520" cy="28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570852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830240" y="518148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hardware, comparar o “vai-um” e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m-um” com relação ao bit de s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5360" y="31284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ception (interrupt) occu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jumps to predefined address for exception (EPC — EXCEPTION PROGRAM COU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ed address is saved for possible resum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0 (move from system control): copia endereço do EPC para qualquer regist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always want to detect overf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new MIPS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u, addiu, subu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i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still sign-extends!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i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for unsigned compari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 of Over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 (fig 4.52 - pag 309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-698400" y="522360"/>
          <a:ext cx="1066464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8400" y="522360"/>
                    <a:ext cx="1066464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5360" y="312840"/>
            <a:ext cx="678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Consider a logic function with three inputs:  A, B, and C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D is true if at least one input is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E is true if exactly two inputs are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 is true only if all three inputs are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truth table for these three function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Boolean equations for these three function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an implementation consisting of inverters, AND, and OR gate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:  Boolean Algebra &amp; G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build an ALU to support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ll just build a 1 bit ALU, and use 32 of the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e Implementation (sum-of-product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9960" y="330372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9960" y="288936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62160" y="2135160"/>
            <a:ext cx="3084480" cy="1673280"/>
            <a:chOff x="1262160" y="2135160"/>
            <a:chExt cx="3084480" cy="1673280"/>
          </a:xfrm>
        </p:grpSpPr>
        <p:sp>
          <p:nvSpPr>
            <p:cNvPr id="113" name=""/>
            <p:cNvSpPr/>
            <p:nvPr/>
          </p:nvSpPr>
          <p:spPr>
            <a:xfrm>
              <a:off x="1809720" y="2793960"/>
              <a:ext cx="789120" cy="10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62160" y="346392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4320" y="247032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2480" y="2135160"/>
              <a:ext cx="20541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2160" y="312588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4680" y="323856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3920" y="2925720"/>
              <a:ext cx="8017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559400" y="2181240"/>
            <a:ext cx="1815840" cy="2062080"/>
            <a:chOff x="4559400" y="2181240"/>
            <a:chExt cx="1815840" cy="2062080"/>
          </a:xfrm>
        </p:grpSpPr>
        <p:sp>
          <p:nvSpPr>
            <p:cNvPr id="121" name=""/>
            <p:cNvSpPr/>
            <p:nvPr/>
          </p:nvSpPr>
          <p:spPr>
            <a:xfrm>
              <a:off x="4960800" y="2392200"/>
              <a:ext cx="0" cy="18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99200" y="2392200"/>
              <a:ext cx="0" cy="18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5080" y="2595600"/>
              <a:ext cx="13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699160" y="2392200"/>
              <a:ext cx="38160" cy="1851120"/>
              <a:chOff x="5699160" y="2392200"/>
              <a:chExt cx="38160" cy="1851120"/>
            </a:xfrm>
          </p:grpSpPr>
          <p:sp>
            <p:nvSpPr>
              <p:cNvPr id="125" name=""/>
              <p:cNvSpPr/>
              <p:nvPr/>
            </p:nvSpPr>
            <p:spPr>
              <a:xfrm>
                <a:off x="5699160" y="2392200"/>
                <a:ext cx="0" cy="18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7320" y="2392200"/>
                <a:ext cx="0" cy="18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55940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84920" y="2181240"/>
              <a:ext cx="552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188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2444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566120" y="1123920"/>
            <a:ext cx="798480" cy="5086440"/>
            <a:chOff x="7566120" y="1123920"/>
            <a:chExt cx="798480" cy="5086440"/>
          </a:xfrm>
        </p:grpSpPr>
        <p:grpSp>
          <p:nvGrpSpPr>
            <p:cNvPr id="132" name=""/>
            <p:cNvGrpSpPr/>
            <p:nvPr/>
          </p:nvGrpSpPr>
          <p:grpSpPr>
            <a:xfrm>
              <a:off x="7566120" y="1123920"/>
              <a:ext cx="798480" cy="2152800"/>
              <a:chOff x="7566120" y="1123920"/>
              <a:chExt cx="798480" cy="21528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566120" y="1123920"/>
                <a:ext cx="798480" cy="460440"/>
                <a:chOff x="7566120" y="1123920"/>
                <a:chExt cx="798480" cy="460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00840" y="12207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66120" y="14652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994520" y="112392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66120" y="13399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67680" y="1378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566120" y="1687680"/>
                <a:ext cx="798480" cy="460080"/>
                <a:chOff x="7566120" y="1687680"/>
                <a:chExt cx="798480" cy="460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800840" y="178452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66120" y="20289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94520" y="168768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566120" y="19033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67680" y="19414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566120" y="2252520"/>
                <a:ext cx="798480" cy="460440"/>
                <a:chOff x="7566120" y="2252520"/>
                <a:chExt cx="798480" cy="460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800840" y="23493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66120" y="25938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994520" y="225252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6120" y="24685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167680" y="250524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566120" y="2816280"/>
                <a:ext cx="798480" cy="460440"/>
                <a:chOff x="7566120" y="2816280"/>
                <a:chExt cx="798480" cy="460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800840" y="291312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66120" y="31575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94520" y="281628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566120" y="303228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167680" y="3070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7566120" y="4057560"/>
              <a:ext cx="798480" cy="2152800"/>
              <a:chOff x="7566120" y="4057560"/>
              <a:chExt cx="798480" cy="21528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566120" y="4057560"/>
                <a:ext cx="798480" cy="460440"/>
                <a:chOff x="7566120" y="4057560"/>
                <a:chExt cx="798480" cy="460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800840" y="415440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66120" y="439884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994520" y="405756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66120" y="42735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167680" y="431172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566120" y="4621320"/>
                <a:ext cx="798480" cy="460440"/>
                <a:chOff x="7566120" y="4621320"/>
                <a:chExt cx="798480" cy="460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800840" y="47181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566120" y="49626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94520" y="46213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566120" y="48369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167680" y="487512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566120" y="5186520"/>
                <a:ext cx="798480" cy="460080"/>
                <a:chOff x="7566120" y="5186520"/>
                <a:chExt cx="798480" cy="4600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800840" y="528336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66120" y="55278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94520" y="51865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6120" y="54021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167680" y="54388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7566120" y="5749920"/>
                <a:ext cx="798480" cy="460440"/>
                <a:chOff x="7566120" y="5749920"/>
                <a:chExt cx="798480" cy="460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800840" y="58467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566120" y="60912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994520" y="57499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6120" y="59659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7680" y="6004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U (arithmetic logic un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5360" y="312840"/>
            <a:ext cx="364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s one of the  inputs to be the output, based on a control inpu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s build our ALU using a MUX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27160" y="1670040"/>
            <a:ext cx="2367000" cy="1836720"/>
            <a:chOff x="1127160" y="1670040"/>
            <a:chExt cx="2367000" cy="1836720"/>
          </a:xfrm>
        </p:grpSpPr>
        <p:sp>
          <p:nvSpPr>
            <p:cNvPr id="186" name=""/>
            <p:cNvSpPr/>
            <p:nvPr/>
          </p:nvSpPr>
          <p:spPr>
            <a:xfrm>
              <a:off x="1973160" y="2452680"/>
              <a:ext cx="338400" cy="1054080"/>
            </a:xfrm>
            <a:custGeom>
              <a:avLst/>
              <a:gdLst>
                <a:gd name="textAreaLeft" fmla="*/ 45720 w 338400"/>
                <a:gd name="textAreaRight" fmla="*/ 292680 w 338400"/>
                <a:gd name="textAreaTop" fmla="*/ 45720 h 1054080"/>
                <a:gd name="textAreaBottom" fmla="*/ 1008360 h 1054080"/>
              </a:gdLst>
              <a:ahLst/>
              <a:rect l="textAreaLeft" t="textAreaTop" r="textAreaRight" b="textAreaBottom"/>
              <a:pathLst>
                <a:path w="21600" h="67233">
                  <a:moveTo>
                    <a:pt x="10025" y="0"/>
                  </a:moveTo>
                  <a:arcTo wR="10025" hR="10025" stAng="16200000" swAng="-5400000"/>
                  <a:lnTo>
                    <a:pt x="0" y="57208"/>
                  </a:lnTo>
                  <a:arcTo wR="10025" hR="10025" stAng="10800000" swAng="-5400000"/>
                  <a:lnTo>
                    <a:pt x="11575" y="67233"/>
                  </a:lnTo>
                  <a:arcTo wR="10025" hR="10025" stAng="5400000" swAng="-5400000"/>
                  <a:lnTo>
                    <a:pt x="21600" y="10025"/>
                  </a:lnTo>
                  <a:arcTo wR="10025" hR="10025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5600" y="312408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1640" y="2117880"/>
              <a:ext cx="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03400" y="167004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25600" y="278604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0000" y="298620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671920"/>
              <a:ext cx="5763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7160" y="249696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9760" y="284796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43000" y="2685960"/>
            <a:ext cx="500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3035160"/>
            <a:ext cx="5000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:  The Multiplex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43080" y="2263680"/>
            <a:ext cx="334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note: we call this a 2-input 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ven though it has 3 inpu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5360" y="312840"/>
            <a:ext cx="382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asy to decide the “best” way to build some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want too many inputs to a single 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t want to have to go through too many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our purposes, ease of comprehension is impor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look at a 1-bit ALU for addition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uld we build a 1-bit ALU for add, and, and 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uld we build a 32-bit ALU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Implem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91560" y="3635280"/>
            <a:ext cx="3341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= a b + a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+ b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m = a xor b xor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19440" y="3276720"/>
            <a:ext cx="156672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5360" y="312840"/>
            <a:ext cx="314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a 32 bit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33560" y="2392200"/>
            <a:ext cx="1947960" cy="210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514840" y="1440000"/>
            <a:ext cx="2252880" cy="40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5360" y="312840"/>
            <a:ext cx="496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's complement approch:  just negate b and ad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- b  = a + (- 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negat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 a)  =  com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= com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+ 1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ery clever solu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subtraction  (a – b) 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141720" y="3429000"/>
            <a:ext cx="273528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tr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8280" y="1447920"/>
            <a:ext cx="1415880" cy="1253880"/>
            <a:chOff x="458280" y="1447920"/>
            <a:chExt cx="1415880" cy="1253880"/>
          </a:xfrm>
        </p:grpSpPr>
        <p:sp>
          <p:nvSpPr>
            <p:cNvPr id="214" name=""/>
            <p:cNvSpPr/>
            <p:nvPr/>
          </p:nvSpPr>
          <p:spPr>
            <a:xfrm>
              <a:off x="1371600" y="18288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1676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198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95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447920"/>
              <a:ext cx="304920" cy="76176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24">
                  <a:moveTo>
                    <a:pt x="3600" y="0"/>
                  </a:moveTo>
                  <a:arcTo wR="3600" hR="3600" stAng="16200000" swAng="-5400000"/>
                  <a:lnTo>
                    <a:pt x="0" y="50324"/>
                  </a:lnTo>
                  <a:arcTo wR="3600" hR="3600" stAng="10800000" swAng="-5400000"/>
                  <a:lnTo>
                    <a:pt x="18000" y="53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49920" y="23335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7240" y="150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280" y="18432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751120" y="16365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valente à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83280" y="1447920"/>
            <a:ext cx="1291320" cy="977760"/>
            <a:chOff x="5183280" y="1447920"/>
            <a:chExt cx="1291320" cy="977760"/>
          </a:xfrm>
        </p:grpSpPr>
        <p:grpSp>
          <p:nvGrpSpPr>
            <p:cNvPr id="224" name=""/>
            <p:cNvGrpSpPr/>
            <p:nvPr/>
          </p:nvGrpSpPr>
          <p:grpSpPr>
            <a:xfrm>
              <a:off x="5319360" y="1600200"/>
              <a:ext cx="1128960" cy="719280"/>
              <a:chOff x="5319360" y="1600200"/>
              <a:chExt cx="1128960" cy="71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5713920" y="160020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19360" y="1795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900400" y="18622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91120" y="1795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183280" y="1447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0360" y="20574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112840" y="3352680"/>
            <a:ext cx="4361760" cy="2057400"/>
            <a:chOff x="2112840" y="3352680"/>
            <a:chExt cx="4361760" cy="2057400"/>
          </a:xfrm>
        </p:grpSpPr>
        <p:sp>
          <p:nvSpPr>
            <p:cNvPr id="232" name=""/>
            <p:cNvSpPr/>
            <p:nvPr/>
          </p:nvSpPr>
          <p:spPr>
            <a:xfrm>
              <a:off x="5850360" y="33526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112840" y="3504960"/>
              <a:ext cx="686880" cy="1905120"/>
              <a:chOff x="2112840" y="3504960"/>
              <a:chExt cx="686880" cy="1905120"/>
            </a:xfrm>
          </p:grpSpPr>
          <p:sp>
            <p:nvSpPr>
              <p:cNvPr id="234" name=""/>
              <p:cNvSpPr/>
              <p:nvPr/>
            </p:nvSpPr>
            <p:spPr>
              <a:xfrm>
                <a:off x="241920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1284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6656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5400000">
                <a:off x="234252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2396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604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57112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028680" y="3504960"/>
              <a:ext cx="686880" cy="1905120"/>
              <a:chOff x="3028680" y="3504960"/>
              <a:chExt cx="686880" cy="1905120"/>
            </a:xfrm>
          </p:grpSpPr>
          <p:sp>
            <p:nvSpPr>
              <p:cNvPr id="242" name=""/>
              <p:cNvSpPr/>
              <p:nvPr/>
            </p:nvSpPr>
            <p:spPr>
              <a:xfrm>
                <a:off x="333504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2868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8240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400000">
                <a:off x="325836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3980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3188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48696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866760" y="3504960"/>
              <a:ext cx="686880" cy="1905120"/>
              <a:chOff x="3866760" y="3504960"/>
              <a:chExt cx="686880" cy="1905120"/>
            </a:xfrm>
          </p:grpSpPr>
          <p:sp>
            <p:nvSpPr>
              <p:cNvPr id="250" name=""/>
              <p:cNvSpPr/>
              <p:nvPr/>
            </p:nvSpPr>
            <p:spPr>
              <a:xfrm>
                <a:off x="417312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6676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2048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409644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7788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6996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432504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4781160" y="3504960"/>
              <a:ext cx="686880" cy="1905120"/>
              <a:chOff x="4781160" y="3504960"/>
              <a:chExt cx="686880" cy="1905120"/>
            </a:xfrm>
          </p:grpSpPr>
          <p:sp>
            <p:nvSpPr>
              <p:cNvPr id="258" name=""/>
              <p:cNvSpPr/>
              <p:nvPr/>
            </p:nvSpPr>
            <p:spPr>
              <a:xfrm>
                <a:off x="508752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8116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3488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400000">
                <a:off x="501084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9228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8436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23944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800080" y="36576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723400" y="4724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562200" y="472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476600" y="472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391000" y="4724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71880" y="36576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682080" y="362556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526640" y="3632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447880" y="363204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746320" y="363204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we've bee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(seconds, cycles, instruc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nstruction Set Architectu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ssembly Language and Machine Langu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's up ahea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ing the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6120" y="3687840"/>
            <a:ext cx="3295800" cy="2595600"/>
            <a:chOff x="1446120" y="3687840"/>
            <a:chExt cx="3295800" cy="2595600"/>
          </a:xfrm>
        </p:grpSpPr>
        <p:grpSp>
          <p:nvGrpSpPr>
            <p:cNvPr id="46" name=""/>
            <p:cNvGrpSpPr/>
            <p:nvPr/>
          </p:nvGrpSpPr>
          <p:grpSpPr>
            <a:xfrm>
              <a:off x="1446120" y="3687840"/>
              <a:ext cx="3295800" cy="2595600"/>
              <a:chOff x="1446120" y="3687840"/>
              <a:chExt cx="3295800" cy="2595600"/>
            </a:xfrm>
          </p:grpSpPr>
          <p:sp>
            <p:nvSpPr>
              <p:cNvPr id="47" name=""/>
              <p:cNvSpPr/>
              <p:nvPr/>
            </p:nvSpPr>
            <p:spPr>
              <a:xfrm>
                <a:off x="2498760" y="4440240"/>
                <a:ext cx="615960" cy="1744560"/>
              </a:xfrm>
              <a:custGeom>
                <a:avLst/>
                <a:gdLst/>
                <a:ahLst/>
                <a:rect l="l" t="t" r="r" b="b"/>
                <a:pathLst>
                  <a:path w="388" h="1099">
                    <a:moveTo>
                      <a:pt x="0" y="0"/>
                    </a:moveTo>
                    <a:lnTo>
                      <a:pt x="0" y="427"/>
                    </a:lnTo>
                    <a:lnTo>
                      <a:pt x="111" y="553"/>
                    </a:lnTo>
                    <a:lnTo>
                      <a:pt x="0" y="671"/>
                    </a:lnTo>
                    <a:lnTo>
                      <a:pt x="0" y="1098"/>
                    </a:lnTo>
                    <a:lnTo>
                      <a:pt x="387" y="790"/>
                    </a:lnTo>
                    <a:lnTo>
                      <a:pt x="387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681200" y="5907240"/>
                <a:ext cx="74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47840" y="5343480"/>
                <a:ext cx="74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836800" y="4024440"/>
                <a:ext cx="0" cy="63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70040" y="4765680"/>
                <a:ext cx="74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1870200" y="4687920"/>
                <a:ext cx="14760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35200" y="4878360"/>
                <a:ext cx="5889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735200" y="5816520"/>
                <a:ext cx="588960" cy="466920"/>
                <a:chOff x="1735200" y="5816520"/>
                <a:chExt cx="588960" cy="466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1870200" y="5816520"/>
                  <a:ext cx="147600" cy="18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735200" y="6006960"/>
                  <a:ext cx="588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313080" y="5253120"/>
                <a:ext cx="588960" cy="466560"/>
                <a:chOff x="3313080" y="5253120"/>
                <a:chExt cx="588960" cy="466560"/>
              </a:xfrm>
            </p:grpSpPr>
            <p:sp>
              <p:nvSpPr>
                <p:cNvPr id="58" name=""/>
                <p:cNvSpPr/>
                <p:nvPr/>
              </p:nvSpPr>
              <p:spPr>
                <a:xfrm flipH="1">
                  <a:off x="3448080" y="5253120"/>
                  <a:ext cx="14760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313080" y="5443560"/>
                  <a:ext cx="5889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2746440" y="4211640"/>
                <a:ext cx="1839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73280" y="3687840"/>
                <a:ext cx="117792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ope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51360" y="5105520"/>
                <a:ext cx="790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resul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46120" y="4514760"/>
                <a:ext cx="50184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46120" y="5643720"/>
                <a:ext cx="5018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560680" y="4876920"/>
              <a:ext cx="7142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5360" y="312840"/>
            <a:ext cx="434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upport the set-on-less-than instruction (sl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:  slt is an arithmetic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a 1 if rs &lt; rt and 0 other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ubtraction:  (a-b) &lt; 0 implies a &lt;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upport test for equality (beq $t5, $t6, $t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ubtraction:  (a-b) = 0 implies a =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iloring the ALU to the 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ing s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5960" y="1018440"/>
            <a:ext cx="83264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we figure out the ide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53040" y="352440"/>
            <a:ext cx="3116160" cy="6175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22280" y="838080"/>
            <a:ext cx="4187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6200" y="2362320"/>
            <a:ext cx="3481200" cy="1511280"/>
            <a:chOff x="916200" y="2362320"/>
            <a:chExt cx="3481200" cy="1511280"/>
          </a:xfrm>
        </p:grpSpPr>
        <p:sp>
          <p:nvSpPr>
            <p:cNvPr id="283" name=""/>
            <p:cNvSpPr/>
            <p:nvPr/>
          </p:nvSpPr>
          <p:spPr>
            <a:xfrm>
              <a:off x="1295280" y="2743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95280" y="3276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520" y="304812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7920" y="2523960"/>
              <a:ext cx="304560" cy="1057320"/>
            </a:xfrm>
            <a:custGeom>
              <a:avLst/>
              <a:gdLst/>
              <a:ahLst/>
              <a:rect l="l" t="t" r="r" b="b"/>
              <a:pathLst>
                <a:path w="192" h="666">
                  <a:moveTo>
                    <a:pt x="0" y="0"/>
                  </a:moveTo>
                  <a:lnTo>
                    <a:pt x="1" y="282"/>
                  </a:lnTo>
                  <a:lnTo>
                    <a:pt x="65" y="330"/>
                  </a:lnTo>
                  <a:lnTo>
                    <a:pt x="1" y="378"/>
                  </a:lnTo>
                  <a:lnTo>
                    <a:pt x="1" y="666"/>
                  </a:lnTo>
                  <a:lnTo>
                    <a:pt x="192" y="522"/>
                  </a:lnTo>
                  <a:lnTo>
                    <a:pt x="192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29000" y="3048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057400" y="3276720"/>
              <a:ext cx="1600200" cy="152280"/>
              <a:chOff x="2057400" y="3276720"/>
              <a:chExt cx="1600200" cy="152280"/>
            </a:xfrm>
          </p:grpSpPr>
          <p:sp>
            <p:nvSpPr>
              <p:cNvPr id="289" name=""/>
              <p:cNvSpPr/>
              <p:nvPr/>
            </p:nvSpPr>
            <p:spPr>
              <a:xfrm>
                <a:off x="2057400" y="3276720"/>
                <a:ext cx="1600200" cy="15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2680" y="32767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590920" y="2819520"/>
              <a:ext cx="152280" cy="4572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24320" y="2498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6200" y="23623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93080" y="3352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6960" y="266688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t de s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48960" y="3505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ubtr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38560" y="1514520"/>
            <a:ext cx="268272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for e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control lines: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 =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 = 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10 = ad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0 = subtra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1 = sl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6280" y="3962520"/>
            <a:ext cx="365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Times New Roman"/>
              </a:rPr>
              <a:t>Note:  zero is a 1 when the result is zer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200480" y="1292400"/>
            <a:ext cx="425916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84520" y="1219320"/>
            <a:ext cx="2865960" cy="2007720"/>
            <a:chOff x="884520" y="1219320"/>
            <a:chExt cx="2865960" cy="2007720"/>
          </a:xfrm>
        </p:grpSpPr>
        <p:sp>
          <p:nvSpPr>
            <p:cNvPr id="305" name=""/>
            <p:cNvSpPr/>
            <p:nvPr/>
          </p:nvSpPr>
          <p:spPr>
            <a:xfrm>
              <a:off x="1981080" y="15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219320" y="1676520"/>
              <a:ext cx="1675440" cy="1550520"/>
              <a:chOff x="1219320" y="1676520"/>
              <a:chExt cx="1675440" cy="1550520"/>
            </a:xfrm>
          </p:grpSpPr>
          <p:sp>
            <p:nvSpPr>
              <p:cNvPr id="307" name=""/>
              <p:cNvSpPr/>
              <p:nvPr/>
            </p:nvSpPr>
            <p:spPr>
              <a:xfrm>
                <a:off x="2113200" y="244512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13200" y="266832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13200" y="222120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19320" y="1998000"/>
                <a:ext cx="67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19320" y="2780280"/>
                <a:ext cx="67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78040" y="1676520"/>
                <a:ext cx="446400" cy="1550520"/>
              </a:xfrm>
              <a:custGeom>
                <a:avLst/>
                <a:gdLst/>
                <a:ahLst/>
                <a:rect l="l" t="t" r="r" b="b"/>
                <a:pathLst>
                  <a:path w="192" h="666">
                    <a:moveTo>
                      <a:pt x="0" y="0"/>
                    </a:moveTo>
                    <a:lnTo>
                      <a:pt x="1" y="282"/>
                    </a:lnTo>
                    <a:lnTo>
                      <a:pt x="65" y="330"/>
                    </a:lnTo>
                    <a:lnTo>
                      <a:pt x="1" y="378"/>
                    </a:lnTo>
                    <a:lnTo>
                      <a:pt x="1" y="666"/>
                    </a:lnTo>
                    <a:lnTo>
                      <a:pt x="192" y="522"/>
                    </a:lnTo>
                    <a:lnTo>
                      <a:pt x="192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2669040" y="260496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ver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1320" y="12193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LU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4520" y="18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98560" y="2585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8680" y="1905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Ze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4520" y="22525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952880" y="160020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2 bits: A, B,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bit: Zero,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 bits: ALU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2880" y="3048120"/>
          <a:ext cx="6258240" cy="353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3048120"/>
                    <a:ext cx="625824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build an ALU to support the MIPS instruction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idea:  use multiplexor to select the output we w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efficiently perform subtraction using two’s co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replicate a 1-bit ALU to produce a 32-bit A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about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gates are always 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eed of a gate is affected by the number of inputs to the 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eed of a circuit is affected by the number of gates in ser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n the “critical path” or the “deepest level of logic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rimary focus:  comprehension,  howev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ver changes to organization can improve 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using better algorithms in softwa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look at two examples for addition and multi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32-bit ALU as fast as a 1-bit ALU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so (en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a ou carry = 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estágio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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more than one way to do addi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extremes: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ripple carry (2nG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sum-of-products (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you see the ripple?  How could you get rid of it?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easible!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ripple carry adder is s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22525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roach in-between our two extr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didn't know the value of carry-in, what could we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ould we always generate a carry?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ould we propagate the carry?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 we get rid of the rippl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 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le!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so:  en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G) 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arry (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aídas (2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72840" y="5715000"/>
            <a:ext cx="3195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: 5G independente d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5360" y="312840"/>
            <a:ext cx="7051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52800" y="2886120"/>
            <a:ext cx="497232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’t build a 16 bit adder this way... (too bi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ld use ripple carry of 4-bit CLA add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:  use the CLA principle again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propagate (ver pag 24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generate (ver pag 24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 exercícios 4.44, 45 e 46 (não será cobrado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principle to build bigger ad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019160" y="1028880"/>
            <a:ext cx="286236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25360" y="312840"/>
            <a:ext cx="2054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icated than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mplished via shifting and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ime and mor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look at 3 versions based on gradeschool algorith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numbers:  convert and multip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better techniques, we won’t look at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43000" y="2724120"/>
          <a:ext cx="6721560" cy="314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24120"/>
                    <a:ext cx="67215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5360" y="312840"/>
            <a:ext cx="1416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are just bits (no inherent meanin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nventions define relationship between bits and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numbers (base 2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 0001 0010 0011 0100 0101 0110 0111 1000 1001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mal:  0...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urse it gets more complicated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 are finite (overflow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s and real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no MIPS subi instruction; addi can add a negative numb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 represent negative numbers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which bit patterns will represent which numb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: 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1792440" cy="2300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613404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134040" cy="2970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324480" y="1219320"/>
            <a:ext cx="179244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935240" cy="2971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1792080" cy="20923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600200" y="4495680"/>
            <a:ext cx="6035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novos registradores de uso dedicado para multiplicação: Hi e Lo (32 bits c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 $t1, $t2         # Hi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t1 * $t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hi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H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lo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mo de Booth (visão geral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10480" y="1196280"/>
            <a:ext cx="7970040" cy="52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déia: “acelerar” multiplicação no caso de cadeia de “1´s” no multiplicad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1 1 1 0 * (multiplicando)  =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+    1 0 0 0 0 * (multiplican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  0 0 0 1 0 * (multiplican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lhando bits do multiplicador 2 a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0   n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1   soma (fi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0  subtrai (começ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1  nada  (meio da cadeia de u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iona também para números nega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o curso: só os conceitos bás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oritmo de Booth estend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re os bits do multiplicador de 2 em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pensava-se: shift é mais rápido do que so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 metade dos produtos parciais: metade dos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ção rápida dos produtos parci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17760" y="987480"/>
          <a:ext cx="4938480" cy="23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987480"/>
                    <a:ext cx="49384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143000" y="3581280"/>
            <a:ext cx="647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495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548640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752840" y="3580920"/>
            <a:ext cx="606600" cy="605880"/>
            <a:chOff x="1752840" y="3580920"/>
            <a:chExt cx="606600" cy="605880"/>
          </a:xfrm>
        </p:grpSpPr>
        <p:sp>
          <p:nvSpPr>
            <p:cNvPr id="362" name=""/>
            <p:cNvSpPr/>
            <p:nvPr/>
          </p:nvSpPr>
          <p:spPr>
            <a:xfrm>
              <a:off x="1887120" y="3580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2840" y="3715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57120" y="39848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707200">
              <a:off x="1911240" y="37576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10240" y="3580920"/>
            <a:ext cx="606600" cy="605880"/>
            <a:chOff x="3810240" y="3580920"/>
            <a:chExt cx="606600" cy="605880"/>
          </a:xfrm>
        </p:grpSpPr>
        <p:sp>
          <p:nvSpPr>
            <p:cNvPr id="367" name=""/>
            <p:cNvSpPr/>
            <p:nvPr/>
          </p:nvSpPr>
          <p:spPr>
            <a:xfrm>
              <a:off x="3944520" y="3580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10240" y="3715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14520" y="39848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707200">
              <a:off x="3968640" y="37576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005880" y="3585600"/>
            <a:ext cx="606600" cy="605880"/>
            <a:chOff x="6005880" y="3585600"/>
            <a:chExt cx="606600" cy="605880"/>
          </a:xfrm>
        </p:grpSpPr>
        <p:sp>
          <p:nvSpPr>
            <p:cNvPr id="372" name=""/>
            <p:cNvSpPr/>
            <p:nvPr/>
          </p:nvSpPr>
          <p:spPr>
            <a:xfrm>
              <a:off x="6140160" y="3585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05880" y="3720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10160" y="39895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707200">
              <a:off x="6164280" y="37623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752840" y="4495320"/>
            <a:ext cx="606600" cy="605880"/>
            <a:chOff x="1752840" y="4495320"/>
            <a:chExt cx="606600" cy="605880"/>
          </a:xfrm>
        </p:grpSpPr>
        <p:sp>
          <p:nvSpPr>
            <p:cNvPr id="377" name=""/>
            <p:cNvSpPr/>
            <p:nvPr/>
          </p:nvSpPr>
          <p:spPr>
            <a:xfrm>
              <a:off x="1887120" y="4495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52840" y="4630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57120" y="48992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707200">
              <a:off x="1911240" y="46720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810240" y="4495320"/>
            <a:ext cx="606600" cy="605880"/>
            <a:chOff x="3810240" y="4495320"/>
            <a:chExt cx="606600" cy="605880"/>
          </a:xfrm>
        </p:grpSpPr>
        <p:sp>
          <p:nvSpPr>
            <p:cNvPr id="382" name=""/>
            <p:cNvSpPr/>
            <p:nvPr/>
          </p:nvSpPr>
          <p:spPr>
            <a:xfrm>
              <a:off x="3944520" y="4495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10240" y="4630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14520" y="48992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707200">
              <a:off x="3968640" y="46720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019920" y="4485600"/>
            <a:ext cx="606240" cy="605160"/>
            <a:chOff x="6019920" y="4485600"/>
            <a:chExt cx="606240" cy="605160"/>
          </a:xfrm>
        </p:grpSpPr>
        <p:sp>
          <p:nvSpPr>
            <p:cNvPr id="387" name=""/>
            <p:cNvSpPr/>
            <p:nvPr/>
          </p:nvSpPr>
          <p:spPr>
            <a:xfrm>
              <a:off x="6154560" y="4485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920" y="4620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24200" y="4889160"/>
              <a:ext cx="20196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707200">
              <a:off x="6178320" y="4661640"/>
              <a:ext cx="367560" cy="32724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752840" y="5481000"/>
            <a:ext cx="606600" cy="605880"/>
            <a:chOff x="1752840" y="5481000"/>
            <a:chExt cx="606600" cy="605880"/>
          </a:xfrm>
        </p:grpSpPr>
        <p:sp>
          <p:nvSpPr>
            <p:cNvPr id="392" name=""/>
            <p:cNvSpPr/>
            <p:nvPr/>
          </p:nvSpPr>
          <p:spPr>
            <a:xfrm>
              <a:off x="1887120" y="5481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2840" y="5616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7120" y="58849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707200">
              <a:off x="1911240" y="56577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810240" y="5481000"/>
            <a:ext cx="606600" cy="605880"/>
            <a:chOff x="3810240" y="5481000"/>
            <a:chExt cx="606600" cy="605880"/>
          </a:xfrm>
        </p:grpSpPr>
        <p:sp>
          <p:nvSpPr>
            <p:cNvPr id="397" name=""/>
            <p:cNvSpPr/>
            <p:nvPr/>
          </p:nvSpPr>
          <p:spPr>
            <a:xfrm>
              <a:off x="3944520" y="5481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0240" y="5616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58849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707200">
              <a:off x="3968640" y="56577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019920" y="5485680"/>
            <a:ext cx="606240" cy="605160"/>
            <a:chOff x="6019920" y="5485680"/>
            <a:chExt cx="606240" cy="605160"/>
          </a:xfrm>
        </p:grpSpPr>
        <p:sp>
          <p:nvSpPr>
            <p:cNvPr id="402" name=""/>
            <p:cNvSpPr/>
            <p:nvPr/>
          </p:nvSpPr>
          <p:spPr>
            <a:xfrm>
              <a:off x="6154560" y="548568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562068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24200" y="5889240"/>
              <a:ext cx="20196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707200">
              <a:off x="6178320" y="5661720"/>
              <a:ext cx="367560" cy="32724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836000" y="3048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93400" y="3048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7320" y="30481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640" y="3200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5640" y="4114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5640" y="5105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396252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96252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396252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594360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594360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594360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 Save Adders (soma de produtos parciai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F0456" descr=""/>
          <p:cNvPicPr/>
          <p:nvPr/>
        </p:nvPicPr>
        <p:blipFill>
          <a:blip r:embed="rId1"/>
          <a:stretch/>
        </p:blipFill>
        <p:spPr>
          <a:xfrm>
            <a:off x="1890720" y="1152360"/>
            <a:ext cx="5729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45200" y="1100160"/>
            <a:ext cx="56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29   =   3  *   Q   +   R  =   3  *  9  +  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2461200">
            <a:off x="3200040" y="15966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d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2461200">
            <a:off x="3962520" y="150444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2461200">
            <a:off x="4462920" y="15994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o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2461200">
            <a:off x="5212440" y="1459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0680" y="2779560"/>
            <a:ext cx="332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 011101          3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373392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1 1 1 0 1         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95800" y="376236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0"/>
                </a:moveTo>
                <a:lnTo>
                  <a:pt x="0" y="192"/>
                </a:lnTo>
                <a:lnTo>
                  <a:pt x="768" y="1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95320" y="403848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1                   0 1 0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14400" y="4429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0 1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2320" y="4714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029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 = 9     R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4952880"/>
            <a:ext cx="3962520" cy="3682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implementar em hardwa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1: divisão com restaur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2666880"/>
          <a:ext cx="6218280" cy="31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6218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"/>
          <p:cNvGrpSpPr/>
          <p:nvPr/>
        </p:nvGrpSpPr>
        <p:grpSpPr>
          <a:xfrm>
            <a:off x="1676520" y="5638680"/>
            <a:ext cx="4495680" cy="457200"/>
            <a:chOff x="1676520" y="5638680"/>
            <a:chExt cx="4495680" cy="457200"/>
          </a:xfrm>
        </p:grpSpPr>
        <p:sp>
          <p:nvSpPr>
            <p:cNvPr id="444" name=""/>
            <p:cNvSpPr/>
            <p:nvPr/>
          </p:nvSpPr>
          <p:spPr>
            <a:xfrm>
              <a:off x="1676520" y="5638680"/>
              <a:ext cx="4495680" cy="457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76720" y="5667480"/>
              <a:ext cx="2585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= 01001 =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29520" y="56674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 = 11 =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905840" y="990720"/>
            <a:ext cx="48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rdware não sabe se “vai caber ou nã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para guardar rest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ificação do sinal do rest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so negativ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stau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2: divisão sem restaur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12720" y="3578400"/>
          <a:ext cx="7823160" cy="269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578400"/>
                    <a:ext cx="78231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0" y="1066680"/>
          <a:ext cx="9510840" cy="291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66680"/>
                    <a:ext cx="951084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231120" y="1066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2: conversão do result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66680" y="1371600"/>
                <a:ext cx="4456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2433600" y="199224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6   -  8   + 4  -   2   -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371600" y="3048120"/>
                <a:ext cx="55497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/>
                          <m:sup>
                            <m:sSub>
                              <m:e/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828800" y="3962520"/>
                <a:ext cx="1252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828800" y="4419720"/>
                <a:ext cx="1225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494080" y="4876920"/>
                <a:ext cx="55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3733920" y="4038480"/>
            <a:ext cx="4724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de somas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de subtrações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S: se resto &lt; 0 deve haver correção de um divisor para que resto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5360" y="312840"/>
            <a:ext cx="37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 Magnitude:         One's Complement     Two's Complement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:  balance, number of zeros, ease of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one is best?  Why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Repres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ção das altern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7578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 para divisão: terceira alterna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F0441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4916520" cy="3129120"/>
          </a:xfrm>
          <a:prstGeom prst="rect">
            <a:avLst/>
          </a:prstGeom>
          <a:ln w="0">
            <a:noFill/>
          </a:ln>
        </p:spPr>
      </p:pic>
      <p:pic>
        <p:nvPicPr>
          <p:cNvPr id="466" name="F0440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4488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1752480"/>
            <a:ext cx="603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novos registradores de uso dedicado para multiplicação: Hi e Lo (32 bits c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 $t1, $t2         # Hi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t1 * $t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hi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H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lo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divis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v $s2, $s3          #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3    /    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Hi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3 mod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vu $s2, $s3          #  idem para “unsign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31200" y="1245960"/>
            <a:ext cx="8175960" cy="261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presentação de números não intei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mentar a capacidade de representação (maiores ou meno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o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XXXXXXXXX .....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yyy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no caso geral B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yyy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295280" y="3733920"/>
            <a:ext cx="4343400" cy="657720"/>
            <a:chOff x="1295280" y="3733920"/>
            <a:chExt cx="4343400" cy="657720"/>
          </a:xfrm>
        </p:grpSpPr>
        <p:grpSp>
          <p:nvGrpSpPr>
            <p:cNvPr id="472" name=""/>
            <p:cNvGrpSpPr/>
            <p:nvPr/>
          </p:nvGrpSpPr>
          <p:grpSpPr>
            <a:xfrm>
              <a:off x="1295280" y="3733920"/>
              <a:ext cx="4343400" cy="304560"/>
              <a:chOff x="1295280" y="3733920"/>
              <a:chExt cx="4343400" cy="304560"/>
            </a:xfrm>
          </p:grpSpPr>
          <p:sp>
            <p:nvSpPr>
              <p:cNvPr id="473" name=""/>
              <p:cNvSpPr/>
              <p:nvPr/>
            </p:nvSpPr>
            <p:spPr>
              <a:xfrm>
                <a:off x="1295280" y="3733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00200" y="3733920"/>
                <a:ext cx="17524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352680" y="3733920"/>
                <a:ext cx="22860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mantissa ou signific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576520" y="4038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63600" y="4054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924120" y="5715000"/>
            <a:ext cx="39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nal-magnitude            (-1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F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4495680"/>
            <a:ext cx="304920" cy="838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4648320" y="4495680"/>
            <a:ext cx="2672640" cy="916920"/>
            <a:chOff x="4648320" y="4495680"/>
            <a:chExt cx="2672640" cy="916920"/>
          </a:xfrm>
        </p:grpSpPr>
        <p:sp>
          <p:nvSpPr>
            <p:cNvPr id="481" name=""/>
            <p:cNvSpPr/>
            <p:nvPr/>
          </p:nvSpPr>
          <p:spPr>
            <a:xfrm>
              <a:off x="4648320" y="44956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mantis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44400" y="4495680"/>
              <a:ext cx="127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aixa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eci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to Flutuante e padrão IEEE 7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371600" y="4876920"/>
            <a:ext cx="4343400" cy="657720"/>
            <a:chOff x="1371600" y="4876920"/>
            <a:chExt cx="4343400" cy="657720"/>
          </a:xfrm>
        </p:grpSpPr>
        <p:grpSp>
          <p:nvGrpSpPr>
            <p:cNvPr id="485" name=""/>
            <p:cNvGrpSpPr/>
            <p:nvPr/>
          </p:nvGrpSpPr>
          <p:grpSpPr>
            <a:xfrm>
              <a:off x="1371600" y="4876920"/>
              <a:ext cx="4343400" cy="304560"/>
              <a:chOff x="1371600" y="4876920"/>
              <a:chExt cx="4343400" cy="304560"/>
            </a:xfrm>
          </p:grpSpPr>
          <p:sp>
            <p:nvSpPr>
              <p:cNvPr id="486" name=""/>
              <p:cNvSpPr/>
              <p:nvPr/>
            </p:nvSpPr>
            <p:spPr>
              <a:xfrm>
                <a:off x="1371600" y="4876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76520" y="4876920"/>
                <a:ext cx="17524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29000" y="4876920"/>
                <a:ext cx="22860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mantissa ou signific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2652840" y="5181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9920" y="5197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899640" y="1292400"/>
            <a:ext cx="547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oente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[-128 , 127]                         se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28 = 8 + 10 * 12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8 + 10 * 12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10 * 12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2 *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verflow 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Nº &gt;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nderflow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Nº &lt;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-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DRÃO IEEE 7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XXXX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81280" y="3657600"/>
            <a:ext cx="1447920" cy="533520"/>
          </a:xfrm>
          <a:prstGeom prst="wedgeRoundRectCallout">
            <a:avLst>
              <a:gd name="adj1" fmla="val -61402"/>
              <a:gd name="adj2" fmla="val 119347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implí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27040" y="5599080"/>
            <a:ext cx="45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tissa: precisão simples: 23 bits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isão dupla:     52 bits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drão IEEE754: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72520" y="1186920"/>
            <a:ext cx="8293320" cy="11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= (-1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(1 + Mantissa)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simplificar a ordenação (sorting): B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120" y="2514600"/>
            <a:ext cx="4114800" cy="1054080"/>
            <a:chOff x="762120" y="2514600"/>
            <a:chExt cx="4114800" cy="1054080"/>
          </a:xfrm>
        </p:grpSpPr>
        <p:sp>
          <p:nvSpPr>
            <p:cNvPr id="498" name=""/>
            <p:cNvSpPr/>
            <p:nvPr/>
          </p:nvSpPr>
          <p:spPr>
            <a:xfrm>
              <a:off x="838440" y="2971800"/>
              <a:ext cx="30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440" y="2895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62320" y="289548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6200" y="2895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2120" y="251460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0                  127                   2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43000" y="3200400"/>
              <a:ext cx="22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p        Bias     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38640" y="32004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600" y="32004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952880" y="2590920"/>
            <a:ext cx="3197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padrão:  2 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nE - 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- 1 = 1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 =  CAMPO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-  B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3809880"/>
            <a:ext cx="678168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 representar - 0,75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- (1/2 + 1/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0,75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 - 0,11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-1,11 *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tissa = 1000000 ......        (23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po expoente: - 1 + 127 = 126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0111 1110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133720" y="6019920"/>
            <a:ext cx="5104800" cy="304560"/>
            <a:chOff x="2133720" y="6019920"/>
            <a:chExt cx="5104800" cy="304560"/>
          </a:xfrm>
        </p:grpSpPr>
        <p:sp>
          <p:nvSpPr>
            <p:cNvPr id="509" name=""/>
            <p:cNvSpPr/>
            <p:nvPr/>
          </p:nvSpPr>
          <p:spPr>
            <a:xfrm>
              <a:off x="2133720" y="6019920"/>
              <a:ext cx="30456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38280" y="6019920"/>
              <a:ext cx="175212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0111 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0760" y="6019920"/>
              <a:ext cx="304776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000 0000 0000 0000 0000 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ela de faixas de representação do IEEE 7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-231840" y="1442880"/>
          <a:ext cx="9063000" cy="38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1442880"/>
                    <a:ext cx="9063000" cy="38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a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F0444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40561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A para soma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F0445" descr=""/>
          <p:cNvPicPr/>
          <p:nvPr/>
        </p:nvPicPr>
        <p:blipFill>
          <a:blip r:embed="rId1"/>
          <a:stretch/>
        </p:blipFill>
        <p:spPr>
          <a:xfrm>
            <a:off x="2209680" y="961920"/>
            <a:ext cx="60213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plicação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F0446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697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5360" y="312840"/>
            <a:ext cx="8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bit signed numbers:</a:t>
            </a:r>
            <a:br>
              <a:rPr sz="1800"/>
            </a:br>
            <a:br>
              <a:rPr sz="18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0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11 1111 1111 1111 1111 1111 1111 11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,147,483,646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11 1111 1111 1111 1111 1111 1111 111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,147,483,64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0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8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6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3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1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427880" y="2697120"/>
            <a:ext cx="1144800" cy="389160"/>
            <a:chOff x="7427880" y="2697120"/>
            <a:chExt cx="1144800" cy="389160"/>
          </a:xfrm>
        </p:grpSpPr>
        <p:sp>
          <p:nvSpPr>
            <p:cNvPr id="75" name=""/>
            <p:cNvSpPr/>
            <p:nvPr/>
          </p:nvSpPr>
          <p:spPr>
            <a:xfrm>
              <a:off x="7709040" y="2697120"/>
              <a:ext cx="8636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Times New Roman"/>
                </a:rPr>
                <a:t>max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427880" y="2918880"/>
              <a:ext cx="18432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429680" y="3249720"/>
            <a:ext cx="1029960" cy="388800"/>
            <a:chOff x="7429680" y="3249720"/>
            <a:chExt cx="1029960" cy="388800"/>
          </a:xfrm>
        </p:grpSpPr>
        <p:sp>
          <p:nvSpPr>
            <p:cNvPr id="78" name=""/>
            <p:cNvSpPr/>
            <p:nvPr/>
          </p:nvSpPr>
          <p:spPr>
            <a:xfrm>
              <a:off x="7645320" y="3249720"/>
              <a:ext cx="8143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Times New Roman"/>
                </a:rPr>
                <a:t>min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29680" y="3333600"/>
              <a:ext cx="18396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junto de instruções do MIPS para f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22440" y="102708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g 4.47         Pag 2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ing Point Complex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are somewhat more complicated (see tex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 to overflow we can have “underflow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 can be a big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754 keeps two extra bits, guard and r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rounding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divided by zero yields “infinity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divide by zero yields “not a numb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omplex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ing the standard can be trick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sing the standard can be even wo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text for description of 80x86 and Pentium bu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our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rithmetic is constrained by limited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patterns have no inherent meaning but standards do ex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’s co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754 floating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instructions determine “meaning” of  the bit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and accuracy are important so there are ma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ies in real machines (i.e., algorithms and implementation)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ready to move on (and implement the processor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y want to look back (Section 4.12 is great reading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5360" y="312840"/>
            <a:ext cx="453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ng a two's complement number:  invert all bits and add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:  “negate” and “invert” are quite differe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ing n bit numbers into numbers with more than n b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16 bit immediate gets converted to 32 bits for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the most significant bit (the sign bit) into the other b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0  -&gt; 0000 00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  -&gt; 1111 1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ign extension"   (lbu  vs.  l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's Complemen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as instruçõ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8880" y="1223640"/>
            <a:ext cx="8220600" cy="20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 “unsigned”: (exemplo de aplicação, cálculo de memóri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tu $t1, $t2, $t3                  # diferença é “sem sinal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ti     e   slti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# envolve imediato, com ou sem si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 pag 215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por $s0 = FF FF FF FF e $s1 = 00 00 00 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7560" y="3352680"/>
            <a:ext cx="6622920" cy="238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t0, $s0, $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$s0 &lt; 0 e $s1 &gt; 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&lt;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$t0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u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t0, $s0, $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$s0 e $s1 não tem sinal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&gt;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$t0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idados com extensão 16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 $s0, $s1, nn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salta para PC + nnn se test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nn tem 16 bits e PC tem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nder de 16 para 32 bits antes daoperação aritmé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nn &g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ncher com zeros à esquer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nn &lt; 0         CUID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ncher com 1´s à esquer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c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este motivo operação é chamada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ÃO DE S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like in grade school  (carry/borrow 1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01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- 01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- 0101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's complement operations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ction using addition of negative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10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 (result too large for finite computer wor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 adding two n-bit numbers does not yield an n-bit numb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00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 that overflow term is somewhat misleading,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t does not mean a carry “overflowe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 &amp; Sub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4-12T01:16:48Z</dcterms:modified>
  <cp:revision>61</cp:revision>
  <dc:subject/>
  <dc:title>Lectures for 2nd Edition</dc:title>
</cp:coreProperties>
</file>