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784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39280" y="6477120"/>
            <a:ext cx="168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5B-</a:t>
            </a:r>
            <a:fld id="{2BED3B23-580E-4600-842B-364986EBF67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hapter Five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Processor: Datapath and Control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Parte C: microprogramaçã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5360" y="312840"/>
            <a:ext cx="325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bit for each datapath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ster, requires more memory (log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d for Vax 780 — an astonishing 400K of memor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ts of enco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d the microinstructions through logic to get control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s less memory, sl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istorical context of CIS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o much logic to put on a single chip with everything 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e a ROM (or even RAM) to hold the micro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’s easy to add new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ximally vs. Minimally Enco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25360" y="312840"/>
            <a:ext cx="335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code: 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tinction between specification and implementation is sometimes blurred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pecification 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design and 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ign architecture and microcod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(off-chip ROM) Advant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asy to change since values are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emulate other archite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n make use of intern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lementation Disadvantages,  SLOWER now 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 is implemented on same chip as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M is no longer faster than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need to go back and make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5360" y="312840"/>
            <a:ext cx="231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822320" y="1004760"/>
            <a:ext cx="5035320" cy="3454200"/>
            <a:chOff x="1822320" y="1004760"/>
            <a:chExt cx="5035320" cy="3454200"/>
          </a:xfrm>
        </p:grpSpPr>
        <p:grpSp>
          <p:nvGrpSpPr>
            <p:cNvPr id="795" name=""/>
            <p:cNvGrpSpPr/>
            <p:nvPr/>
          </p:nvGrpSpPr>
          <p:grpSpPr>
            <a:xfrm>
              <a:off x="1822320" y="1225440"/>
              <a:ext cx="5034960" cy="2756880"/>
              <a:chOff x="1822320" y="1225440"/>
              <a:chExt cx="5034960" cy="2756880"/>
            </a:xfrm>
          </p:grpSpPr>
          <p:sp>
            <p:nvSpPr>
              <p:cNvPr id="796" name=""/>
              <p:cNvSpPr/>
              <p:nvPr/>
            </p:nvSpPr>
            <p:spPr>
              <a:xfrm>
                <a:off x="1822320" y="35946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22320" y="2728800"/>
                <a:ext cx="5034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822320" y="1864440"/>
                <a:ext cx="50349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37780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4246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2180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581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042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6442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73744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77992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372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941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866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28528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340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434320" y="1431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2108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6190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1260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59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856960" y="1431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0196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93904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35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2520" y="12254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794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83076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929760" y="1225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96468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50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1084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155840" y="1225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2447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8940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86960" y="1225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34480" y="1225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532400" y="12254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8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08880" y="14313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94380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4352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36040" y="14313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90760" y="1431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89760" y="14313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8552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28080" y="13284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64800" y="1328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55372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0844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009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7996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564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008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048000" y="1328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04160" y="1328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202080" y="132840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145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58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57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501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466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6402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7378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216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627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538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531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32668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4127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052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6042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51040" y="2292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7072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800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66240" y="20854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7792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86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600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0140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03776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2524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6124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207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5340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49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44888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316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7992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5942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7596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7270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203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678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9646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11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579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5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24800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33620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38228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42260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1476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7592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18480" y="2085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552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4412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298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978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9000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46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458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7380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934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92480" y="20854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3648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084000" y="208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17076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26328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6012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55520" y="2085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99440" y="2085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98440" y="208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656760" y="2085480"/>
                <a:ext cx="3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40800" y="22921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4412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28804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83800" y="2292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230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05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0412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9664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48840" y="2292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29480" y="229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28480" y="2292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76000" y="22921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099120" y="229212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233040" y="22921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77040" y="22921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38716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7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578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7048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1224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015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3724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941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1866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285280" y="31471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40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43432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5210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190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126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597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85696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0196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9390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355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1824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096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048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03360" y="29462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946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2612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39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8358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92940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262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12524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7168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073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0596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984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604480" y="294624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13200" y="29462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900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1520" y="2946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13720" y="2946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006600" y="2946240"/>
                <a:ext cx="3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62000" y="31471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1492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0744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04640" y="31471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40280" y="314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39280" y="3147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99512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04264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186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8492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3216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419560" y="37994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55780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65644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5364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000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92960" y="37994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44080" y="379944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7936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71880" y="379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31712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1220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590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5764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36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5372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63448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7084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876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62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74080" y="3799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8676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2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8426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34800" y="3799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902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88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3960" y="3799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71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708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637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0404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9728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816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6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617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60000" y="4006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9636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83480" y="400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292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85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8436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232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3448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28440" y="379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5372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502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4380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1720" y="3799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8888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85360" y="379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79320" y="3799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20360" y="3799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440" y="3799800"/>
              <a:ext cx="3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152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4588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38760" y="40064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82400" y="4006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5640" y="4006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37200" y="400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22320" y="1009800"/>
              <a:ext cx="5035320" cy="3449160"/>
            </a:xfrm>
            <a:custGeom>
              <a:avLst/>
              <a:gdLst/>
              <a:ahLst/>
              <a:rect l="l" t="t" r="r" b="b"/>
              <a:pathLst>
                <a:path w="2781" h="1904">
                  <a:moveTo>
                    <a:pt x="2781" y="1901"/>
                  </a:moveTo>
                  <a:lnTo>
                    <a:pt x="2781" y="0"/>
                  </a:lnTo>
                  <a:lnTo>
                    <a:pt x="0" y="0"/>
                  </a:lnTo>
                  <a:lnTo>
                    <a:pt x="0" y="1904"/>
                  </a:lnTo>
                  <a:lnTo>
                    <a:pt x="2781" y="1904"/>
                  </a:lnTo>
                  <a:lnTo>
                    <a:pt x="2781" y="19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41520" y="1004760"/>
              <a:ext cx="5040" cy="34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5794920" y="166896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69080" y="19573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111200" y="166896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55320" y="19573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70320" y="1669320"/>
              <a:ext cx="1530000" cy="338760"/>
            </a:xfrm>
            <a:custGeom>
              <a:avLst/>
              <a:gdLst/>
              <a:ahLst/>
              <a:rect l="l" t="t" r="r" b="b"/>
              <a:pathLst>
                <a:path w="845" h="187">
                  <a:moveTo>
                    <a:pt x="842" y="176"/>
                  </a:moveTo>
                  <a:lnTo>
                    <a:pt x="845" y="0"/>
                  </a:lnTo>
                  <a:lnTo>
                    <a:pt x="0" y="18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7760" y="1963080"/>
              <a:ext cx="93960" cy="8100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52" y="45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5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1200" y="1669320"/>
              <a:ext cx="1530000" cy="338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599080" y="1963080"/>
              <a:ext cx="92160" cy="810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5794920" y="2527560"/>
              <a:ext cx="504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69080" y="2817720"/>
              <a:ext cx="8676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111200" y="2527560"/>
              <a:ext cx="3600" cy="32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55320" y="2817720"/>
              <a:ext cx="86400" cy="867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5" y="4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70320" y="2527920"/>
              <a:ext cx="1530000" cy="340560"/>
            </a:xfrm>
            <a:custGeom>
              <a:avLst/>
              <a:gdLst/>
              <a:ahLst/>
              <a:rect l="l" t="t" r="r" b="b"/>
              <a:pathLst>
                <a:path w="845" h="188">
                  <a:moveTo>
                    <a:pt x="842" y="177"/>
                  </a:moveTo>
                  <a:lnTo>
                    <a:pt x="845" y="0"/>
                  </a:lnTo>
                  <a:lnTo>
                    <a:pt x="0" y="18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17760" y="282168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3"/>
                  </a:moveTo>
                  <a:lnTo>
                    <a:pt x="43" y="0"/>
                  </a:lnTo>
                  <a:lnTo>
                    <a:pt x="0" y="32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11200" y="2524680"/>
              <a:ext cx="1530000" cy="34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99080" y="282168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3"/>
                  </a:moveTo>
                  <a:lnTo>
                    <a:pt x="12" y="0"/>
                  </a:lnTo>
                  <a:lnTo>
                    <a:pt x="51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111200" y="3382920"/>
              <a:ext cx="360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794920" y="3382920"/>
              <a:ext cx="5040" cy="318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9080" y="3671280"/>
              <a:ext cx="8676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111200" y="3388680"/>
              <a:ext cx="3600" cy="31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55320" y="3671280"/>
              <a:ext cx="86400" cy="885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0"/>
                  </a:moveTo>
                  <a:lnTo>
                    <a:pt x="0" y="3"/>
                  </a:lnTo>
                  <a:lnTo>
                    <a:pt x="25" y="4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70320" y="3383280"/>
              <a:ext cx="1530000" cy="345600"/>
            </a:xfrm>
            <a:custGeom>
              <a:avLst/>
              <a:gdLst/>
              <a:ahLst/>
              <a:rect l="l" t="t" r="r" b="b"/>
              <a:pathLst>
                <a:path w="845" h="191">
                  <a:moveTo>
                    <a:pt x="842" y="176"/>
                  </a:moveTo>
                  <a:lnTo>
                    <a:pt x="845" y="0"/>
                  </a:lnTo>
                  <a:lnTo>
                    <a:pt x="0" y="19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17760" y="3676320"/>
              <a:ext cx="93960" cy="831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52" y="46"/>
                  </a:moveTo>
                  <a:lnTo>
                    <a:pt x="43" y="0"/>
                  </a:lnTo>
                  <a:lnTo>
                    <a:pt x="0" y="34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11200" y="3383280"/>
              <a:ext cx="1530000" cy="34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599080" y="3676320"/>
              <a:ext cx="92160" cy="8316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46"/>
                  </a:moveTo>
                  <a:lnTo>
                    <a:pt x="12" y="0"/>
                  </a:lnTo>
                  <a:lnTo>
                    <a:pt x="51" y="3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2351520" y="4784760"/>
            <a:ext cx="449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r “Historical perspective and further read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ISC x CI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rdw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croprogramado (firmw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5360" y="312840"/>
            <a:ext cx="43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720" y="91260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lex instructions:  the "next state" is often current state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other Implementation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6880" y="1371600"/>
            <a:ext cx="5083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4118040" cy="2962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85280" y="2190600"/>
            <a:ext cx="4391280" cy="4017240"/>
            <a:chOff x="485280" y="2190600"/>
            <a:chExt cx="4391280" cy="4017240"/>
          </a:xfrm>
        </p:grpSpPr>
        <p:sp>
          <p:nvSpPr>
            <p:cNvPr id="50" name=""/>
            <p:cNvSpPr/>
            <p:nvPr/>
          </p:nvSpPr>
          <p:spPr>
            <a:xfrm>
              <a:off x="2438280" y="3962520"/>
              <a:ext cx="1905120" cy="1218960"/>
            </a:xfrm>
            <a:custGeom>
              <a:avLst/>
              <a:gdLst/>
              <a:ahLst/>
              <a:rect l="l" t="t" r="r" b="b"/>
              <a:pathLst>
                <a:path w="1200" h="768">
                  <a:moveTo>
                    <a:pt x="960" y="0"/>
                  </a:moveTo>
                  <a:lnTo>
                    <a:pt x="1200" y="0"/>
                  </a:lnTo>
                  <a:lnTo>
                    <a:pt x="1200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886200" y="2666880"/>
              <a:ext cx="990360" cy="838440"/>
              <a:chOff x="3886200" y="2666880"/>
              <a:chExt cx="990360" cy="838440"/>
            </a:xfrm>
          </p:grpSpPr>
          <p:sp>
            <p:nvSpPr>
              <p:cNvPr id="52" name=""/>
              <p:cNvSpPr/>
              <p:nvPr/>
            </p:nvSpPr>
            <p:spPr>
              <a:xfrm>
                <a:off x="3886200" y="26668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86200" y="28195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86200" y="29718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86200" y="31240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86200" y="32767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86200" y="33526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86200" y="35053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90720" y="2819520"/>
              <a:ext cx="2057400" cy="129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e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icro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4419720"/>
              <a:ext cx="19051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280" y="438768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0" idx="0"/>
              <a:endCxn id="59" idx="2"/>
            </p:cNvCxnSpPr>
            <p:nvPr/>
          </p:nvCxnSpPr>
          <p:spPr>
            <a:xfrm flipV="1">
              <a:off x="2018880" y="411408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" name=""/>
            <p:cNvSpPr/>
            <p:nvPr/>
          </p:nvSpPr>
          <p:spPr>
            <a:xfrm>
              <a:off x="2971800" y="4572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02040" y="431496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N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360" y="49528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tabel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0" idx="2"/>
            </p:cNvCxnSpPr>
            <p:nvPr/>
          </p:nvCxnSpPr>
          <p:spPr>
            <a:xfrm flipV="1">
              <a:off x="2014200" y="4647960"/>
              <a:ext cx="54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2357280" y="5867280"/>
              <a:ext cx="1828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1120" y="58705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71480" y="586728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5" idx="2"/>
            </p:cNvCxnSpPr>
            <p:nvPr/>
          </p:nvCxnSpPr>
          <p:spPr>
            <a:xfrm flipV="1">
              <a:off x="2014200" y="5486040"/>
              <a:ext cx="1080" cy="381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1753920" y="38433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2523240" y="3340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3276720" y="2971440"/>
              <a:ext cx="11430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3505320" y="388584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2209680"/>
              <a:ext cx="4038480" cy="3429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219060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nidade de controle </a:t>
              </a: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gram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3326760" y="2750400"/>
              <a:ext cx="50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7360" y="898560"/>
          <a:ext cx="6594480" cy="122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898560"/>
                    <a:ext cx="65944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1520" y="4629240"/>
          <a:ext cx="6062760" cy="205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520" y="4629240"/>
                    <a:ext cx="6062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48160" y="1638360"/>
            <a:ext cx="411804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2400" y="2221560"/>
            <a:ext cx="8053560" cy="41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at are the “microinstructions”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19320" y="1330200"/>
            <a:ext cx="491976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463920" y="982800"/>
            <a:ext cx="5451480" cy="5645880"/>
            <a:chOff x="3463920" y="982800"/>
            <a:chExt cx="5451480" cy="5645880"/>
          </a:xfrm>
        </p:grpSpPr>
        <p:grpSp>
          <p:nvGrpSpPr>
            <p:cNvPr id="90" name=""/>
            <p:cNvGrpSpPr/>
            <p:nvPr/>
          </p:nvGrpSpPr>
          <p:grpSpPr>
            <a:xfrm>
              <a:off x="3514680" y="2795400"/>
              <a:ext cx="5078880" cy="2471040"/>
              <a:chOff x="3514680" y="2795400"/>
              <a:chExt cx="5078880" cy="2471040"/>
            </a:xfrm>
          </p:grpSpPr>
          <p:sp>
            <p:nvSpPr>
              <p:cNvPr id="91" name=""/>
              <p:cNvSpPr/>
              <p:nvPr/>
            </p:nvSpPr>
            <p:spPr>
              <a:xfrm>
                <a:off x="8057520" y="3155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24480" y="3155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197200" y="31554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290800" y="3155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25720" y="3155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49840" y="3155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76480" y="3155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35880" y="31554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89264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61040" y="3277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35560" y="3277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0360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724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216280" y="327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49400" y="3277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001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5596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2960" y="3277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43440" y="3277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7188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528760" y="3277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1004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20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860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5232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1720" y="2972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8444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51040" y="2972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4160" y="2972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5280" y="2972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0368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30680" y="2972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90800" y="2972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17800" y="2972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76840" y="2972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26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92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76800" y="3095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4952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17920" y="3095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50680" y="3095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1800" y="30952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6876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97200" y="3095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57680" y="3095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8432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43000" y="3095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97720" y="30952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95440" y="32126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6204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9640" y="3212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92720" y="321264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715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060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57600" y="32126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4840" y="3212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4148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00160" y="3212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54880" y="32126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76360" y="33346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4332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9280" y="333468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4680" y="33346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47800" y="33346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8680" y="33346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985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54360" y="33346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2708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8432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9760" y="3334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97720" y="333468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2884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95800" y="3453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71760" y="3453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38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236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1040" y="3453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84160" y="3453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49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9072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7720" y="3453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78200" y="3453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0664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63520" y="3453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7760" y="2834640"/>
                <a:ext cx="91260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3"/>
                    </a:moveTo>
                    <a:lnTo>
                      <a:pt x="335" y="571"/>
                    </a:lnTo>
                    <a:lnTo>
                      <a:pt x="379" y="560"/>
                    </a:lnTo>
                    <a:lnTo>
                      <a:pt x="419" y="543"/>
                    </a:lnTo>
                    <a:lnTo>
                      <a:pt x="458" y="520"/>
                    </a:lnTo>
                    <a:lnTo>
                      <a:pt x="490" y="491"/>
                    </a:lnTo>
                    <a:lnTo>
                      <a:pt x="519" y="456"/>
                    </a:lnTo>
                    <a:lnTo>
                      <a:pt x="544" y="420"/>
                    </a:lnTo>
                    <a:lnTo>
                      <a:pt x="561" y="378"/>
                    </a:lnTo>
                    <a:lnTo>
                      <a:pt x="571" y="334"/>
                    </a:lnTo>
                    <a:lnTo>
                      <a:pt x="575" y="288"/>
                    </a:lnTo>
                    <a:lnTo>
                      <a:pt x="571" y="240"/>
                    </a:lnTo>
                    <a:lnTo>
                      <a:pt x="561" y="196"/>
                    </a:lnTo>
                    <a:lnTo>
                      <a:pt x="544" y="155"/>
                    </a:lnTo>
                    <a:lnTo>
                      <a:pt x="519" y="117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9" y="14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4"/>
                    </a:lnTo>
                    <a:lnTo>
                      <a:pt x="155" y="33"/>
                    </a:lnTo>
                    <a:lnTo>
                      <a:pt x="118" y="56"/>
                    </a:lnTo>
                    <a:lnTo>
                      <a:pt x="84" y="85"/>
                    </a:lnTo>
                    <a:lnTo>
                      <a:pt x="55" y="117"/>
                    </a:lnTo>
                    <a:lnTo>
                      <a:pt x="32" y="155"/>
                    </a:lnTo>
                    <a:lnTo>
                      <a:pt x="15" y="196"/>
                    </a:lnTo>
                    <a:lnTo>
                      <a:pt x="3" y="240"/>
                    </a:lnTo>
                    <a:lnTo>
                      <a:pt x="0" y="288"/>
                    </a:lnTo>
                    <a:lnTo>
                      <a:pt x="3" y="334"/>
                    </a:lnTo>
                    <a:lnTo>
                      <a:pt x="15" y="378"/>
                    </a:lnTo>
                    <a:lnTo>
                      <a:pt x="32" y="420"/>
                    </a:lnTo>
                    <a:lnTo>
                      <a:pt x="55" y="456"/>
                    </a:lnTo>
                    <a:lnTo>
                      <a:pt x="84" y="491"/>
                    </a:lnTo>
                    <a:lnTo>
                      <a:pt x="118" y="520"/>
                    </a:lnTo>
                    <a:lnTo>
                      <a:pt x="155" y="543"/>
                    </a:lnTo>
                    <a:lnTo>
                      <a:pt x="197" y="560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334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000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57640" y="3115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036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8760" y="3115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31520" y="3115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82640" y="3115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49600" y="3115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78040" y="3115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44640" y="3115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99000" y="3115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8736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5396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13000" y="32382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8608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52680" y="32382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85440" y="32382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36920" y="32382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0496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1960" y="32382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92440" y="32382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1908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74520" y="32382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2480" y="32382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9920" y="3355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061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63760" y="3355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37200" y="3355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1604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182640" y="33555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44560" y="3355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71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325560" y="3355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44800" y="435420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19" y="458"/>
                    </a:lnTo>
                    <a:lnTo>
                      <a:pt x="542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2" y="157"/>
                    </a:lnTo>
                    <a:lnTo>
                      <a:pt x="519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3" y="3"/>
                    </a:lnTo>
                    <a:lnTo>
                      <a:pt x="287" y="0"/>
                    </a:lnTo>
                    <a:lnTo>
                      <a:pt x="241" y="3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08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3316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0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46200" y="4609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18920" y="4609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7184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9848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5480" y="4609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85960" y="4609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14400" y="4609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72000" y="4609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16240" y="4728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88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4296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00200" y="4728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5600" y="472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28720" y="4728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52480" y="4728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80920" y="472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38880" y="472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8160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65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24520" y="4851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98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3648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92280" y="4851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500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224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7804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08280" y="4851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65520" y="4851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92160" y="4851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79920" y="435420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4" y="571"/>
                    </a:lnTo>
                    <a:lnTo>
                      <a:pt x="378" y="561"/>
                    </a:lnTo>
                    <a:lnTo>
                      <a:pt x="420" y="544"/>
                    </a:lnTo>
                    <a:lnTo>
                      <a:pt x="458" y="521"/>
                    </a:lnTo>
                    <a:lnTo>
                      <a:pt x="491" y="492"/>
                    </a:lnTo>
                    <a:lnTo>
                      <a:pt x="520" y="458"/>
                    </a:lnTo>
                    <a:lnTo>
                      <a:pt x="543" y="419"/>
                    </a:lnTo>
                    <a:lnTo>
                      <a:pt x="560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0" y="197"/>
                    </a:lnTo>
                    <a:lnTo>
                      <a:pt x="543" y="157"/>
                    </a:lnTo>
                    <a:lnTo>
                      <a:pt x="520" y="118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78" y="15"/>
                    </a:lnTo>
                    <a:lnTo>
                      <a:pt x="334" y="3"/>
                    </a:lnTo>
                    <a:lnTo>
                      <a:pt x="288" y="0"/>
                    </a:lnTo>
                    <a:lnTo>
                      <a:pt x="242" y="3"/>
                    </a:lnTo>
                    <a:lnTo>
                      <a:pt x="198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6" y="118"/>
                    </a:lnTo>
                    <a:lnTo>
                      <a:pt x="33" y="157"/>
                    </a:lnTo>
                    <a:lnTo>
                      <a:pt x="15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5" y="379"/>
                    </a:lnTo>
                    <a:lnTo>
                      <a:pt x="33" y="419"/>
                    </a:lnTo>
                    <a:lnTo>
                      <a:pt x="56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1140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949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5108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36400" y="46922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30360" y="4692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6720" y="4692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87240" y="469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156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364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538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088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38120" y="4811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971600" y="481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4468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73120" y="481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33600" y="481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60240" y="481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14680" y="4350960"/>
                <a:ext cx="91260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8" y="575"/>
                    </a:moveTo>
                    <a:lnTo>
                      <a:pt x="336" y="571"/>
                    </a:lnTo>
                    <a:lnTo>
                      <a:pt x="380" y="561"/>
                    </a:lnTo>
                    <a:lnTo>
                      <a:pt x="420" y="544"/>
                    </a:lnTo>
                    <a:lnTo>
                      <a:pt x="458" y="519"/>
                    </a:lnTo>
                    <a:lnTo>
                      <a:pt x="491" y="490"/>
                    </a:lnTo>
                    <a:lnTo>
                      <a:pt x="520" y="458"/>
                    </a:lnTo>
                    <a:lnTo>
                      <a:pt x="543" y="420"/>
                    </a:lnTo>
                    <a:lnTo>
                      <a:pt x="562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62" y="197"/>
                    </a:lnTo>
                    <a:lnTo>
                      <a:pt x="543" y="155"/>
                    </a:lnTo>
                    <a:lnTo>
                      <a:pt x="520" y="119"/>
                    </a:lnTo>
                    <a:lnTo>
                      <a:pt x="491" y="84"/>
                    </a:lnTo>
                    <a:lnTo>
                      <a:pt x="458" y="55"/>
                    </a:lnTo>
                    <a:lnTo>
                      <a:pt x="420" y="32"/>
                    </a:lnTo>
                    <a:lnTo>
                      <a:pt x="380" y="15"/>
                    </a:lnTo>
                    <a:lnTo>
                      <a:pt x="336" y="4"/>
                    </a:lnTo>
                    <a:lnTo>
                      <a:pt x="288" y="0"/>
                    </a:lnTo>
                    <a:lnTo>
                      <a:pt x="242" y="4"/>
                    </a:lnTo>
                    <a:lnTo>
                      <a:pt x="198" y="15"/>
                    </a:lnTo>
                    <a:lnTo>
                      <a:pt x="156" y="32"/>
                    </a:lnTo>
                    <a:lnTo>
                      <a:pt x="119" y="55"/>
                    </a:lnTo>
                    <a:lnTo>
                      <a:pt x="85" y="84"/>
                    </a:lnTo>
                    <a:lnTo>
                      <a:pt x="56" y="119"/>
                    </a:lnTo>
                    <a:lnTo>
                      <a:pt x="33" y="155"/>
                    </a:lnTo>
                    <a:lnTo>
                      <a:pt x="16" y="197"/>
                    </a:lnTo>
                    <a:lnTo>
                      <a:pt x="4" y="241"/>
                    </a:lnTo>
                    <a:lnTo>
                      <a:pt x="0" y="287"/>
                    </a:lnTo>
                    <a:lnTo>
                      <a:pt x="4" y="335"/>
                    </a:lnTo>
                    <a:lnTo>
                      <a:pt x="16" y="379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5" y="490"/>
                    </a:lnTo>
                    <a:lnTo>
                      <a:pt x="119" y="519"/>
                    </a:lnTo>
                    <a:lnTo>
                      <a:pt x="156" y="544"/>
                    </a:lnTo>
                    <a:lnTo>
                      <a:pt x="198" y="561"/>
                    </a:lnTo>
                    <a:lnTo>
                      <a:pt x="242" y="571"/>
                    </a:lnTo>
                    <a:lnTo>
                      <a:pt x="288" y="575"/>
                    </a:lnTo>
                    <a:lnTo>
                      <a:pt x="288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73356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15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73240" y="46922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8920" y="46922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3164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8708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4320" y="4692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00480" y="46922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76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0304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58840" y="48142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891960" y="48142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96504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95280" y="48142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3960" y="4814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80600" y="4814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27280" y="279540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5" y="571"/>
                    </a:lnTo>
                    <a:lnTo>
                      <a:pt x="379" y="562"/>
                    </a:lnTo>
                    <a:lnTo>
                      <a:pt x="420" y="545"/>
                    </a:lnTo>
                    <a:lnTo>
                      <a:pt x="458" y="520"/>
                    </a:lnTo>
                    <a:lnTo>
                      <a:pt x="491" y="491"/>
                    </a:lnTo>
                    <a:lnTo>
                      <a:pt x="519" y="458"/>
                    </a:lnTo>
                    <a:lnTo>
                      <a:pt x="544" y="420"/>
                    </a:lnTo>
                    <a:lnTo>
                      <a:pt x="562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62" y="198"/>
                    </a:lnTo>
                    <a:lnTo>
                      <a:pt x="544" y="156"/>
                    </a:lnTo>
                    <a:lnTo>
                      <a:pt x="519" y="119"/>
                    </a:lnTo>
                    <a:lnTo>
                      <a:pt x="491" y="85"/>
                    </a:lnTo>
                    <a:lnTo>
                      <a:pt x="458" y="56"/>
                    </a:lnTo>
                    <a:lnTo>
                      <a:pt x="420" y="33"/>
                    </a:lnTo>
                    <a:lnTo>
                      <a:pt x="379" y="16"/>
                    </a:lnTo>
                    <a:lnTo>
                      <a:pt x="335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9" y="56"/>
                    </a:lnTo>
                    <a:lnTo>
                      <a:pt x="84" y="85"/>
                    </a:lnTo>
                    <a:lnTo>
                      <a:pt x="56" y="119"/>
                    </a:lnTo>
                    <a:lnTo>
                      <a:pt x="33" y="156"/>
                    </a:lnTo>
                    <a:lnTo>
                      <a:pt x="15" y="198"/>
                    </a:lnTo>
                    <a:lnTo>
                      <a:pt x="4" y="242"/>
                    </a:lnTo>
                    <a:lnTo>
                      <a:pt x="0" y="288"/>
                    </a:lnTo>
                    <a:lnTo>
                      <a:pt x="4" y="336"/>
                    </a:lnTo>
                    <a:lnTo>
                      <a:pt x="15" y="380"/>
                    </a:lnTo>
                    <a:lnTo>
                      <a:pt x="33" y="420"/>
                    </a:lnTo>
                    <a:lnTo>
                      <a:pt x="56" y="458"/>
                    </a:lnTo>
                    <a:lnTo>
                      <a:pt x="84" y="491"/>
                    </a:lnTo>
                    <a:lnTo>
                      <a:pt x="119" y="520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90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840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16000" y="30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8872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55680" y="30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88440" y="30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41360" y="30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796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34960" y="30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6880" y="30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23520" y="30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78240" y="30729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5724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2528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463920" y="1047600"/>
              <a:ext cx="5224320" cy="5581080"/>
              <a:chOff x="3463920" y="1047600"/>
              <a:chExt cx="5224320" cy="5581080"/>
            </a:xfrm>
          </p:grpSpPr>
          <p:sp>
            <p:nvSpPr>
              <p:cNvPr id="292" name=""/>
              <p:cNvSpPr/>
              <p:nvPr/>
            </p:nvSpPr>
            <p:spPr>
              <a:xfrm>
                <a:off x="3782520" y="3195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5560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22200" y="31950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55320" y="31950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007880" y="31950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448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01480" y="3195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63400" y="3195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90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44400" y="3195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03440" y="31950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00080" y="33141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632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5360" y="33141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98800" y="33141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76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164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61880" y="33141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20560" y="3314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756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04440" y="3314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746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221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7576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35160" y="5914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07520" y="5914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55400" y="5914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98240" y="5914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71320" y="5914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0360" y="59144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85760" y="6033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58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1248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71520" y="6033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65120" y="6033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98240" y="6033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23800" y="6033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50440" y="6033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08400" y="6033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7344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58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13120" y="61560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98440" y="6156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508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82680" y="61560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5540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1084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81040" y="61560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0520" y="61560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06680" y="61560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83040" y="6276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63920" y="5616000"/>
                <a:ext cx="1015920" cy="1012680"/>
              </a:xfrm>
              <a:custGeom>
                <a:avLst/>
                <a:gdLst/>
                <a:ahLst/>
                <a:rect l="l" t="t" r="r" b="b"/>
                <a:pathLst>
                  <a:path w="640" h="638">
                    <a:moveTo>
                      <a:pt x="320" y="638"/>
                    </a:moveTo>
                    <a:lnTo>
                      <a:pt x="372" y="635"/>
                    </a:lnTo>
                    <a:lnTo>
                      <a:pt x="421" y="623"/>
                    </a:lnTo>
                    <a:lnTo>
                      <a:pt x="467" y="604"/>
                    </a:lnTo>
                    <a:lnTo>
                      <a:pt x="508" y="577"/>
                    </a:lnTo>
                    <a:lnTo>
                      <a:pt x="546" y="546"/>
                    </a:lnTo>
                    <a:lnTo>
                      <a:pt x="577" y="508"/>
                    </a:lnTo>
                    <a:lnTo>
                      <a:pt x="603" y="466"/>
                    </a:lnTo>
                    <a:lnTo>
                      <a:pt x="623" y="420"/>
                    </a:lnTo>
                    <a:lnTo>
                      <a:pt x="634" y="372"/>
                    </a:lnTo>
                    <a:lnTo>
                      <a:pt x="640" y="320"/>
                    </a:lnTo>
                    <a:lnTo>
                      <a:pt x="634" y="268"/>
                    </a:lnTo>
                    <a:lnTo>
                      <a:pt x="623" y="219"/>
                    </a:lnTo>
                    <a:lnTo>
                      <a:pt x="603" y="173"/>
                    </a:lnTo>
                    <a:lnTo>
                      <a:pt x="577" y="130"/>
                    </a:lnTo>
                    <a:lnTo>
                      <a:pt x="546" y="94"/>
                    </a:lnTo>
                    <a:lnTo>
                      <a:pt x="508" y="61"/>
                    </a:lnTo>
                    <a:lnTo>
                      <a:pt x="467" y="37"/>
                    </a:lnTo>
                    <a:lnTo>
                      <a:pt x="421" y="17"/>
                    </a:lnTo>
                    <a:lnTo>
                      <a:pt x="372" y="4"/>
                    </a:lnTo>
                    <a:lnTo>
                      <a:pt x="320" y="0"/>
                    </a:lnTo>
                    <a:lnTo>
                      <a:pt x="268" y="4"/>
                    </a:lnTo>
                    <a:lnTo>
                      <a:pt x="218" y="17"/>
                    </a:lnTo>
                    <a:lnTo>
                      <a:pt x="172" y="37"/>
                    </a:lnTo>
                    <a:lnTo>
                      <a:pt x="132" y="61"/>
                    </a:lnTo>
                    <a:lnTo>
                      <a:pt x="94" y="94"/>
                    </a:lnTo>
                    <a:lnTo>
                      <a:pt x="61" y="130"/>
                    </a:lnTo>
                    <a:lnTo>
                      <a:pt x="36" y="173"/>
                    </a:lnTo>
                    <a:lnTo>
                      <a:pt x="17" y="219"/>
                    </a:lnTo>
                    <a:lnTo>
                      <a:pt x="5" y="268"/>
                    </a:lnTo>
                    <a:lnTo>
                      <a:pt x="0" y="320"/>
                    </a:lnTo>
                    <a:lnTo>
                      <a:pt x="5" y="372"/>
                    </a:lnTo>
                    <a:lnTo>
                      <a:pt x="17" y="420"/>
                    </a:lnTo>
                    <a:lnTo>
                      <a:pt x="36" y="466"/>
                    </a:lnTo>
                    <a:lnTo>
                      <a:pt x="61" y="508"/>
                    </a:lnTo>
                    <a:lnTo>
                      <a:pt x="94" y="546"/>
                    </a:lnTo>
                    <a:lnTo>
                      <a:pt x="132" y="577"/>
                    </a:lnTo>
                    <a:lnTo>
                      <a:pt x="172" y="604"/>
                    </a:lnTo>
                    <a:lnTo>
                      <a:pt x="218" y="623"/>
                    </a:lnTo>
                    <a:lnTo>
                      <a:pt x="268" y="635"/>
                    </a:lnTo>
                    <a:lnTo>
                      <a:pt x="320" y="638"/>
                    </a:lnTo>
                    <a:lnTo>
                      <a:pt x="320" y="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31040" y="2223720"/>
                <a:ext cx="1440" cy="56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470120" y="1925280"/>
                <a:ext cx="3332160" cy="121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338520" y="2077560"/>
                <a:ext cx="1554120" cy="78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454520" y="2183760"/>
                <a:ext cx="587160" cy="69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75280" y="2831760"/>
                <a:ext cx="912960" cy="91224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2"/>
                    </a:lnTo>
                    <a:lnTo>
                      <a:pt x="419" y="545"/>
                    </a:lnTo>
                    <a:lnTo>
                      <a:pt x="458" y="522"/>
                    </a:lnTo>
                    <a:lnTo>
                      <a:pt x="490" y="493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80"/>
                    </a:lnTo>
                    <a:lnTo>
                      <a:pt x="571" y="336"/>
                    </a:lnTo>
                    <a:lnTo>
                      <a:pt x="575" y="288"/>
                    </a:lnTo>
                    <a:lnTo>
                      <a:pt x="571" y="242"/>
                    </a:lnTo>
                    <a:lnTo>
                      <a:pt x="559" y="198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5"/>
                    </a:lnTo>
                    <a:lnTo>
                      <a:pt x="458" y="56"/>
                    </a:lnTo>
                    <a:lnTo>
                      <a:pt x="419" y="33"/>
                    </a:lnTo>
                    <a:lnTo>
                      <a:pt x="377" y="16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6"/>
                    </a:lnTo>
                    <a:lnTo>
                      <a:pt x="155" y="33"/>
                    </a:lnTo>
                    <a:lnTo>
                      <a:pt x="117" y="56"/>
                    </a:lnTo>
                    <a:lnTo>
                      <a:pt x="84" y="85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8"/>
                    </a:lnTo>
                    <a:lnTo>
                      <a:pt x="3" y="242"/>
                    </a:lnTo>
                    <a:lnTo>
                      <a:pt x="0" y="288"/>
                    </a:lnTo>
                    <a:lnTo>
                      <a:pt x="3" y="336"/>
                    </a:lnTo>
                    <a:lnTo>
                      <a:pt x="15" y="380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3"/>
                    </a:lnTo>
                    <a:lnTo>
                      <a:pt x="117" y="522"/>
                    </a:lnTo>
                    <a:lnTo>
                      <a:pt x="155" y="545"/>
                    </a:lnTo>
                    <a:lnTo>
                      <a:pt x="197" y="562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00560" y="3744360"/>
                <a:ext cx="1440" cy="58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71880" y="3708000"/>
                <a:ext cx="1440" cy="62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46320" y="5559120"/>
                <a:ext cx="49320" cy="5040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0"/>
                    </a:moveTo>
                    <a:lnTo>
                      <a:pt x="0" y="0"/>
                    </a:lnTo>
                    <a:lnTo>
                      <a:pt x="16" y="32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71880" y="5266800"/>
                <a:ext cx="1440" cy="29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775280" y="1310760"/>
                <a:ext cx="912960" cy="912600"/>
              </a:xfrm>
              <a:custGeom>
                <a:avLst/>
                <a:gdLst/>
                <a:ahLst/>
                <a:rect l="l" t="t" r="r" b="b"/>
                <a:pathLst>
                  <a:path w="575" h="575">
                    <a:moveTo>
                      <a:pt x="287" y="575"/>
                    </a:moveTo>
                    <a:lnTo>
                      <a:pt x="333" y="571"/>
                    </a:lnTo>
                    <a:lnTo>
                      <a:pt x="377" y="561"/>
                    </a:lnTo>
                    <a:lnTo>
                      <a:pt x="419" y="544"/>
                    </a:lnTo>
                    <a:lnTo>
                      <a:pt x="458" y="521"/>
                    </a:lnTo>
                    <a:lnTo>
                      <a:pt x="490" y="492"/>
                    </a:lnTo>
                    <a:lnTo>
                      <a:pt x="519" y="458"/>
                    </a:lnTo>
                    <a:lnTo>
                      <a:pt x="542" y="420"/>
                    </a:lnTo>
                    <a:lnTo>
                      <a:pt x="559" y="379"/>
                    </a:lnTo>
                    <a:lnTo>
                      <a:pt x="571" y="335"/>
                    </a:lnTo>
                    <a:lnTo>
                      <a:pt x="575" y="287"/>
                    </a:lnTo>
                    <a:lnTo>
                      <a:pt x="571" y="241"/>
                    </a:lnTo>
                    <a:lnTo>
                      <a:pt x="559" y="197"/>
                    </a:lnTo>
                    <a:lnTo>
                      <a:pt x="542" y="157"/>
                    </a:lnTo>
                    <a:lnTo>
                      <a:pt x="519" y="119"/>
                    </a:lnTo>
                    <a:lnTo>
                      <a:pt x="490" y="84"/>
                    </a:lnTo>
                    <a:lnTo>
                      <a:pt x="458" y="55"/>
                    </a:lnTo>
                    <a:lnTo>
                      <a:pt x="419" y="32"/>
                    </a:lnTo>
                    <a:lnTo>
                      <a:pt x="377" y="15"/>
                    </a:lnTo>
                    <a:lnTo>
                      <a:pt x="333" y="4"/>
                    </a:lnTo>
                    <a:lnTo>
                      <a:pt x="287" y="0"/>
                    </a:lnTo>
                    <a:lnTo>
                      <a:pt x="241" y="4"/>
                    </a:lnTo>
                    <a:lnTo>
                      <a:pt x="197" y="15"/>
                    </a:lnTo>
                    <a:lnTo>
                      <a:pt x="155" y="32"/>
                    </a:lnTo>
                    <a:lnTo>
                      <a:pt x="117" y="55"/>
                    </a:lnTo>
                    <a:lnTo>
                      <a:pt x="84" y="84"/>
                    </a:lnTo>
                    <a:lnTo>
                      <a:pt x="55" y="119"/>
                    </a:lnTo>
                    <a:lnTo>
                      <a:pt x="32" y="157"/>
                    </a:lnTo>
                    <a:lnTo>
                      <a:pt x="15" y="197"/>
                    </a:lnTo>
                    <a:lnTo>
                      <a:pt x="3" y="241"/>
                    </a:lnTo>
                    <a:lnTo>
                      <a:pt x="0" y="287"/>
                    </a:lnTo>
                    <a:lnTo>
                      <a:pt x="3" y="335"/>
                    </a:lnTo>
                    <a:lnTo>
                      <a:pt x="15" y="379"/>
                    </a:lnTo>
                    <a:lnTo>
                      <a:pt x="32" y="420"/>
                    </a:lnTo>
                    <a:lnTo>
                      <a:pt x="55" y="458"/>
                    </a:lnTo>
                    <a:lnTo>
                      <a:pt x="84" y="492"/>
                    </a:lnTo>
                    <a:lnTo>
                      <a:pt x="117" y="521"/>
                    </a:lnTo>
                    <a:lnTo>
                      <a:pt x="155" y="544"/>
                    </a:lnTo>
                    <a:lnTo>
                      <a:pt x="197" y="561"/>
                    </a:lnTo>
                    <a:lnTo>
                      <a:pt x="241" y="571"/>
                    </a:lnTo>
                    <a:lnTo>
                      <a:pt x="287" y="575"/>
                    </a:lnTo>
                    <a:lnTo>
                      <a:pt x="287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68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3520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94240" y="1572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16732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3920" y="15728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66680" y="15728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319600" y="15728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8620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413200" y="15728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471880" y="1572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501760" y="1572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556480" y="1572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3548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0172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0760" y="16948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3384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200440" y="16948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33560" y="16948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86120" y="16948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5272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79720" y="16948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36960" y="16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68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522640" y="1694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581680" y="16948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78320" y="181548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4456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03600" y="1815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77040" y="181548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5408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0988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36880" y="181548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98800" y="1815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25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79800" y="1815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7664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6016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16320" y="13298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00200" y="13298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92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31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85600" y="132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45000" y="13298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20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8744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46480" y="14504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1920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85800" y="14504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18920" y="145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1840" y="14504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3844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265440" y="14504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325560" y="1450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54000" y="1450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11600" y="14504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76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4612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03360" y="1569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36840" y="15696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0992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36920" y="15696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98480" y="1569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25480" y="1569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1640" y="1569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324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70240" y="169164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42960" y="169164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36920" y="1691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1480" y="16916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95600" y="1691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2240" y="1691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81640" y="169164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8736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539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13000" y="18108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98608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52680" y="1810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85440" y="18108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36920" y="18108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0496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31960" y="18108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92440" y="18108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31908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77760" y="1810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32480" y="18108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30200" y="1931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9680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954400" y="193140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27480" y="19314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063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6536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92360" y="193140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49600" y="1931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7768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34920" y="19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91080" y="1931400"/>
                <a:ext cx="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27040" y="20505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94000" y="20505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66720" y="20505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62120" y="20505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95240" y="20505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9360" y="20505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46000" y="20505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05400" y="205056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6360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30560" y="217296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06520" y="217296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73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2712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85800" y="217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18920" y="2172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1714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2548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52480" y="21729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14400" y="2172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140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98280" y="2172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16280" y="1255320"/>
                <a:ext cx="1141560" cy="1137960"/>
              </a:xfrm>
              <a:custGeom>
                <a:avLst/>
                <a:gdLst/>
                <a:ahLst/>
                <a:rect l="l" t="t" r="r" b="b"/>
                <a:pathLst>
                  <a:path w="719" h="717">
                    <a:moveTo>
                      <a:pt x="359" y="717"/>
                    </a:moveTo>
                    <a:lnTo>
                      <a:pt x="418" y="713"/>
                    </a:lnTo>
                    <a:lnTo>
                      <a:pt x="474" y="700"/>
                    </a:lnTo>
                    <a:lnTo>
                      <a:pt x="526" y="677"/>
                    </a:lnTo>
                    <a:lnTo>
                      <a:pt x="572" y="648"/>
                    </a:lnTo>
                    <a:lnTo>
                      <a:pt x="614" y="614"/>
                    </a:lnTo>
                    <a:lnTo>
                      <a:pt x="650" y="572"/>
                    </a:lnTo>
                    <a:lnTo>
                      <a:pt x="679" y="524"/>
                    </a:lnTo>
                    <a:lnTo>
                      <a:pt x="700" y="472"/>
                    </a:lnTo>
                    <a:lnTo>
                      <a:pt x="713" y="418"/>
                    </a:lnTo>
                    <a:lnTo>
                      <a:pt x="719" y="359"/>
                    </a:lnTo>
                    <a:lnTo>
                      <a:pt x="713" y="301"/>
                    </a:lnTo>
                    <a:lnTo>
                      <a:pt x="700" y="246"/>
                    </a:lnTo>
                    <a:lnTo>
                      <a:pt x="679" y="194"/>
                    </a:lnTo>
                    <a:lnTo>
                      <a:pt x="650" y="148"/>
                    </a:lnTo>
                    <a:lnTo>
                      <a:pt x="614" y="106"/>
                    </a:lnTo>
                    <a:lnTo>
                      <a:pt x="572" y="69"/>
                    </a:lnTo>
                    <a:lnTo>
                      <a:pt x="526" y="41"/>
                    </a:lnTo>
                    <a:lnTo>
                      <a:pt x="474" y="20"/>
                    </a:lnTo>
                    <a:lnTo>
                      <a:pt x="418" y="6"/>
                    </a:lnTo>
                    <a:lnTo>
                      <a:pt x="361" y="0"/>
                    </a:lnTo>
                    <a:lnTo>
                      <a:pt x="301" y="6"/>
                    </a:lnTo>
                    <a:lnTo>
                      <a:pt x="246" y="20"/>
                    </a:lnTo>
                    <a:lnTo>
                      <a:pt x="196" y="41"/>
                    </a:lnTo>
                    <a:lnTo>
                      <a:pt x="148" y="69"/>
                    </a:lnTo>
                    <a:lnTo>
                      <a:pt x="106" y="106"/>
                    </a:lnTo>
                    <a:lnTo>
                      <a:pt x="71" y="148"/>
                    </a:lnTo>
                    <a:lnTo>
                      <a:pt x="41" y="194"/>
                    </a:lnTo>
                    <a:lnTo>
                      <a:pt x="20" y="246"/>
                    </a:lnTo>
                    <a:lnTo>
                      <a:pt x="6" y="301"/>
                    </a:lnTo>
                    <a:lnTo>
                      <a:pt x="0" y="359"/>
                    </a:lnTo>
                    <a:lnTo>
                      <a:pt x="6" y="418"/>
                    </a:lnTo>
                    <a:lnTo>
                      <a:pt x="20" y="472"/>
                    </a:lnTo>
                    <a:lnTo>
                      <a:pt x="41" y="524"/>
                    </a:lnTo>
                    <a:lnTo>
                      <a:pt x="71" y="572"/>
                    </a:lnTo>
                    <a:lnTo>
                      <a:pt x="106" y="614"/>
                    </a:lnTo>
                    <a:lnTo>
                      <a:pt x="148" y="648"/>
                    </a:lnTo>
                    <a:lnTo>
                      <a:pt x="196" y="677"/>
                    </a:lnTo>
                    <a:lnTo>
                      <a:pt x="246" y="700"/>
                    </a:lnTo>
                    <a:lnTo>
                      <a:pt x="301" y="713"/>
                    </a:lnTo>
                    <a:lnTo>
                      <a:pt x="361" y="717"/>
                    </a:lnTo>
                    <a:lnTo>
                      <a:pt x="361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46680" y="1766520"/>
                <a:ext cx="1089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0496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16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888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414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68400" y="11282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0152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45696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0808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36520" y="11282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60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1428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73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032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2696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6000" y="1128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12640" y="11282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865200" y="112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925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92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600360" y="982800"/>
              <a:ext cx="5315040" cy="5141520"/>
              <a:chOff x="3600360" y="982800"/>
              <a:chExt cx="5315040" cy="5141520"/>
            </a:xfrm>
          </p:grpSpPr>
          <p:sp>
            <p:nvSpPr>
              <p:cNvPr id="493" name=""/>
              <p:cNvSpPr/>
              <p:nvPr/>
            </p:nvSpPr>
            <p:spPr>
              <a:xfrm>
                <a:off x="787788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2576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57440" y="1047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99056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04456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97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24120" y="10476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478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0332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6092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289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430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400240" y="1047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280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0824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565480" y="1047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619480" y="10476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648640" y="1047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3548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9686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2728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081280" y="11649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1064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1576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8424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240040" y="1164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27352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0376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30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386200" y="11649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416080" y="11649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465400" y="11649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90440" y="258912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4300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00960" y="258912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82680" y="2589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542080" y="258912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290440" y="27082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34300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400960" y="27082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826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417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5622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619480" y="27082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647920" y="27082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66844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727480" y="270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11360" y="25686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7960" y="25686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110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6832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3760" y="25686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4880" y="2568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3920" y="256860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220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714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29360" y="268740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1432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6832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1938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788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488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00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5408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87440" y="268740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953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03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61680" y="2687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12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68600" y="26874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95240" y="268740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190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74800" y="2687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0036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853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43280" y="25160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250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826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53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68280" y="25160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949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5072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0760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63400" y="2516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9760" y="2516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537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05960" y="25160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54200" y="251604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93240" y="2638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458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00160" y="263844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548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4416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9852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28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84200" y="26384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0840" y="263844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346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0400" y="2638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0832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932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512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329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9056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233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66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0760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1648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70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2663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236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7256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21316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9668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52840" y="4119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38160" y="4119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95400" y="4119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8520" y="4119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78200" y="4119480"/>
                <a:ext cx="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21244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664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1864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69760" y="42386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252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77400" y="42386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5440" y="425448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38520" y="4254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7164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9828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50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0484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6388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90520" y="42544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64308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97440" y="4254480"/>
                <a:ext cx="9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827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400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196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19200" y="4254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6200" y="425448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852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25400" y="425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74480" y="548316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7132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04440" y="5483160"/>
                <a:ext cx="2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2712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25376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11000" y="54831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45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999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5680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93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55868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88560" y="54831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38240" y="548316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6488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22120" y="5483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81480" y="3598920"/>
                <a:ext cx="642600" cy="73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76600" y="982800"/>
                <a:ext cx="4438800" cy="5141520"/>
              </a:xfrm>
              <a:custGeom>
                <a:avLst/>
                <a:gdLst/>
                <a:ahLst/>
                <a:rect l="l" t="t" r="r" b="b"/>
                <a:pathLst>
                  <a:path w="2796" h="3239">
                    <a:moveTo>
                      <a:pt x="0" y="3237"/>
                    </a:moveTo>
                    <a:lnTo>
                      <a:pt x="2796" y="3239"/>
                    </a:lnTo>
                    <a:lnTo>
                      <a:pt x="2796" y="0"/>
                    </a:lnTo>
                    <a:lnTo>
                      <a:pt x="1023" y="0"/>
                    </a:lnTo>
                    <a:lnTo>
                      <a:pt x="1023" y="15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03712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00560" y="5267160"/>
                <a:ext cx="1440" cy="80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16600" y="174312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0"/>
                    </a:moveTo>
                    <a:lnTo>
                      <a:pt x="0" y="33"/>
                    </a:lnTo>
                    <a:lnTo>
                      <a:pt x="3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207280" y="277812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0"/>
                    </a:moveTo>
                    <a:lnTo>
                      <a:pt x="0" y="0"/>
                    </a:lnTo>
                    <a:lnTo>
                      <a:pt x="15" y="3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30760" y="2857320"/>
                <a:ext cx="52560" cy="53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9"/>
                    </a:moveTo>
                    <a:lnTo>
                      <a:pt x="10" y="0"/>
                    </a:lnTo>
                    <a:lnTo>
                      <a:pt x="0" y="34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05400" y="2828880"/>
                <a:ext cx="57240" cy="4572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34" y="29"/>
                    </a:moveTo>
                    <a:lnTo>
                      <a:pt x="23" y="0"/>
                    </a:lnTo>
                    <a:lnTo>
                      <a:pt x="0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430520" y="3112920"/>
                <a:ext cx="58680" cy="47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8"/>
                    </a:moveTo>
                    <a:lnTo>
                      <a:pt x="25" y="0"/>
                    </a:lnTo>
                    <a:lnTo>
                      <a:pt x="0" y="25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400000">
                <a:off x="4743000" y="2886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0400000">
                <a:off x="4768560" y="28764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400000">
                <a:off x="4800240" y="28569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0400000">
                <a:off x="4872960" y="28314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0400000">
                <a:off x="4925520" y="2820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0400000">
                <a:off x="4952520" y="280476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400000">
                <a:off x="5007960" y="279000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0400000">
                <a:off x="5035320" y="278280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400000">
                <a:off x="5052240" y="276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0400000">
                <a:off x="5103360" y="27396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00000">
                <a:off x="5197320" y="27255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400000">
                <a:off x="5214600" y="27129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400000">
                <a:off x="5246280" y="270432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400000">
                <a:off x="5272920" y="26856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400000">
                <a:off x="5324400" y="2673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400000">
                <a:off x="5358960" y="26614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400000">
                <a:off x="5383080" y="26510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400000">
                <a:off x="5414760" y="263160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400000">
                <a:off x="5487120" y="2607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400000">
                <a:off x="5542920" y="2594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400000">
                <a:off x="5566680" y="257904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00000">
                <a:off x="5625720" y="25646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400000">
                <a:off x="5651280" y="255744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400000">
                <a:off x="5666760" y="2541240"/>
                <a:ext cx="77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400000">
                <a:off x="5730120" y="2511000"/>
                <a:ext cx="10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400000">
                <a:off x="5824440" y="2496960"/>
                <a:ext cx="21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400000">
                <a:off x="5841720" y="248436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980000">
                <a:off x="6798600" y="246348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980000">
                <a:off x="6826320" y="2437560"/>
                <a:ext cx="89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980000">
                <a:off x="6896880" y="2408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980000">
                <a:off x="6951240" y="23918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980000">
                <a:off x="6973200" y="2369520"/>
                <a:ext cx="67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980000">
                <a:off x="7030440" y="235224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980000">
                <a:off x="7053120" y="2326320"/>
                <a:ext cx="8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9980000">
              <a:off x="7117920" y="230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980000">
              <a:off x="7147800" y="2290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9980000">
              <a:off x="7176240" y="2272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9980000">
              <a:off x="7219080" y="2249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9980000">
              <a:off x="7268400" y="2225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9980000">
              <a:off x="7322760" y="220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8600000">
              <a:off x="7520040" y="259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8600000">
              <a:off x="7535520" y="25441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8600000">
              <a:off x="7589520" y="249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8600000">
              <a:off x="7631280" y="2466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8600000">
              <a:off x="7641720" y="242856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8600000">
              <a:off x="7688160" y="239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8600000">
              <a:off x="7709040" y="23835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8600000">
              <a:off x="7710480" y="2344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600000">
              <a:off x="7753320" y="22935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8600000">
              <a:off x="7797600" y="223632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8600000">
              <a:off x="7858440" y="220428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8600000">
              <a:off x="7866000" y="2181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6200000">
              <a:off x="8134200" y="2619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6200000">
              <a:off x="8109000" y="2558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8121240" y="249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8137080" y="245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8119800" y="24058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137080" y="2367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8142480" y="23436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8124120" y="230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8142480" y="2273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6200000">
              <a:off x="8134200" y="2244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880000">
              <a:off x="4452120" y="3636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880000">
              <a:off x="4467600" y="3660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880000">
              <a:off x="4486680" y="37029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880000">
              <a:off x="4542120" y="3754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880000">
              <a:off x="4581720" y="3785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880000">
              <a:off x="4597920" y="382032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880000">
              <a:off x="4640760" y="3849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880000">
              <a:off x="4659840" y="386676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880000">
              <a:off x="4666320" y="39016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880000">
              <a:off x="4703760" y="396540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80000">
              <a:off x="4779360" y="40032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80000">
              <a:off x="4791600" y="4025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3870360" y="4200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3845160" y="413784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6200000">
              <a:off x="3857400" y="407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6200000">
              <a:off x="3873240" y="403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855960" y="3988080"/>
              <a:ext cx="6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3873240" y="39452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3878640" y="392292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6200000">
              <a:off x="3857400" y="3883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6200000">
              <a:off x="3835080" y="38037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3878640" y="3753000"/>
              <a:ext cx="2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3870360" y="3726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4632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6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94200" y="4302000"/>
              <a:ext cx="54000" cy="550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3" y="0"/>
                  </a:moveTo>
                  <a:lnTo>
                    <a:pt x="0" y="23"/>
                  </a:lnTo>
                  <a:lnTo>
                    <a:pt x="34" y="3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6800" y="429552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7680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11560" y="606744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6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22480" y="60973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7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69400" y="5595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8440" y="1241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92200" y="1339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79220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2696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6172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33040" y="2860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6172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9828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33040" y="43815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76800" y="1204920"/>
              <a:ext cx="49320" cy="50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20920" y="1766880"/>
              <a:ext cx="49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59400" y="1743120"/>
              <a:ext cx="5220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2" y="33"/>
                  </a:lnTo>
                  <a:lnTo>
                    <a:pt x="33" y="15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5600" y="17128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2220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53880" y="171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7880" y="1712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41360" y="17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858160" y="38732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31040" y="3744720"/>
              <a:ext cx="644400" cy="152280"/>
            </a:xfrm>
            <a:custGeom>
              <a:avLst/>
              <a:gdLst/>
              <a:ahLst/>
              <a:rect l="l" t="t" r="r" b="b"/>
              <a:pathLst>
                <a:path w="406" h="96">
                  <a:moveTo>
                    <a:pt x="0" y="0"/>
                  </a:moveTo>
                  <a:lnTo>
                    <a:pt x="0" y="96"/>
                  </a:lnTo>
                  <a:lnTo>
                    <a:pt x="406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858160" y="402588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5800" y="3744720"/>
              <a:ext cx="1709640" cy="304560"/>
            </a:xfrm>
            <a:custGeom>
              <a:avLst/>
              <a:gdLst/>
              <a:ahLst/>
              <a:rect l="l" t="t" r="r" b="b"/>
              <a:pathLst>
                <a:path w="1077" h="192">
                  <a:moveTo>
                    <a:pt x="0" y="0"/>
                  </a:moveTo>
                  <a:lnTo>
                    <a:pt x="0" y="192"/>
                  </a:lnTo>
                  <a:lnTo>
                    <a:pt x="107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2" name=""/>
          <p:cNvGraphicFramePr/>
          <p:nvPr/>
        </p:nvGraphicFramePr>
        <p:xfrm>
          <a:off x="152280" y="1143000"/>
          <a:ext cx="3276720" cy="205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 microprograma horizon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228600" y="3321000"/>
            <a:ext cx="8381880" cy="30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6" name=""/>
          <p:cNvGraphicFramePr/>
          <p:nvPr/>
        </p:nvGraphicFramePr>
        <p:xfrm>
          <a:off x="2286000" y="990720"/>
          <a:ext cx="3276720" cy="205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990720"/>
                    <a:ext cx="32767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25360" y="31284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specification method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propriate if hundreds of opcodes, modes, cycl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gnals specified symbolically using microinstruct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ill two implementations of the same architecture have the same micro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imes New Roman"/>
              </a:rPr>
              <a:t>What would a microassembler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46280" y="2390760"/>
          <a:ext cx="766440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390760"/>
                    <a:ext cx="7664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croinstruction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81080" y="689040"/>
          <a:ext cx="8796240" cy="58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689040"/>
                    <a:ext cx="8796240" cy="58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22:54Z</dcterms:created>
  <dc:creator>Tod Amon</dc:creator>
  <dc:description/>
  <dc:language>en-US</dc:language>
  <cp:lastModifiedBy>User</cp:lastModifiedBy>
  <cp:lastPrinted>1997-09-04T16:36:12Z</cp:lastPrinted>
  <dcterms:modified xsi:type="dcterms:W3CDTF">2002-05-04T12:07:32Z</dcterms:modified>
  <cp:revision>52</cp:revision>
  <dc:subject/>
  <dc:title>Chapter Five</dc:title>
</cp:coreProperties>
</file>