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25240" y="647712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6-</a:t>
            </a:r>
            <a:fld id="{55B7612A-53D0-4152-877B-714C909A0F45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i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7" name="F0623" descr=""/>
          <p:cNvPicPr/>
          <p:nvPr/>
        </p:nvPicPr>
        <p:blipFill>
          <a:blip r:embed="rId1"/>
          <a:stretch/>
        </p:blipFill>
        <p:spPr>
          <a:xfrm>
            <a:off x="3171960" y="297000"/>
            <a:ext cx="5057640" cy="6264000"/>
          </a:xfrm>
          <a:prstGeom prst="rect">
            <a:avLst/>
          </a:prstGeom>
          <a:ln w="0">
            <a:noFill/>
          </a:ln>
        </p:spPr>
      </p:pic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-360" y="121896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com sub e lw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28240" y="1599840"/>
            <a:ext cx="2514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com sub e lw (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0" name="F0624" descr=""/>
          <p:cNvPicPr/>
          <p:nvPr/>
        </p:nvPicPr>
        <p:blipFill>
          <a:blip r:embed="rId1"/>
          <a:stretch/>
        </p:blipFill>
        <p:spPr>
          <a:xfrm>
            <a:off x="3108240" y="449280"/>
            <a:ext cx="550224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ally Representing Pipel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elp with answering questions lik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cycles does it take to execute this cod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ALU doing during cycle 4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is representation to help understand data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3" name=""/>
          <p:cNvGrpSpPr/>
          <p:nvPr/>
        </p:nvGrpSpPr>
        <p:grpSpPr>
          <a:xfrm>
            <a:off x="919440" y="958680"/>
            <a:ext cx="7290360" cy="2640960"/>
            <a:chOff x="919440" y="958680"/>
            <a:chExt cx="7290360" cy="2640960"/>
          </a:xfrm>
        </p:grpSpPr>
        <p:grpSp>
          <p:nvGrpSpPr>
            <p:cNvPr id="2114" name=""/>
            <p:cNvGrpSpPr/>
            <p:nvPr/>
          </p:nvGrpSpPr>
          <p:grpSpPr>
            <a:xfrm>
              <a:off x="919440" y="958680"/>
              <a:ext cx="7280640" cy="2640960"/>
              <a:chOff x="919440" y="958680"/>
              <a:chExt cx="7280640" cy="2640960"/>
            </a:xfrm>
          </p:grpSpPr>
          <p:sp>
            <p:nvSpPr>
              <p:cNvPr id="2115" name=""/>
              <p:cNvSpPr/>
              <p:nvPr/>
            </p:nvSpPr>
            <p:spPr>
              <a:xfrm>
                <a:off x="4953600" y="3032640"/>
                <a:ext cx="6832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4953600" y="3259080"/>
                <a:ext cx="6832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979960" y="3144960"/>
                <a:ext cx="6854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665400" y="1894320"/>
                <a:ext cx="225360" cy="4550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6665400" y="1894320"/>
                <a:ext cx="225360" cy="45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V="1">
                <a:off x="7120080" y="1884960"/>
                <a:ext cx="1800" cy="47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H="1">
                <a:off x="6883560" y="1894320"/>
                <a:ext cx="2358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H="1">
                <a:off x="6883560" y="2349720"/>
                <a:ext cx="2358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63960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63960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410640" y="1894320"/>
                <a:ext cx="24264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410640" y="2349720"/>
                <a:ext cx="2426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558520" y="1894320"/>
                <a:ext cx="228240" cy="4550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558520" y="1894320"/>
                <a:ext cx="228240" cy="45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329920" y="1894320"/>
                <a:ext cx="228600" cy="45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47464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517840" y="2032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51504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6248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70728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580608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580608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581800" y="1894320"/>
                <a:ext cx="228240" cy="455040"/>
              </a:xfrm>
              <a:custGeom>
                <a:avLst/>
                <a:gdLst/>
                <a:ahLst/>
                <a:rect l="l" t="t" r="r" b="b"/>
                <a:pathLst>
                  <a:path w="96" h="191">
                    <a:moveTo>
                      <a:pt x="94" y="0"/>
                    </a:moveTo>
                    <a:lnTo>
                      <a:pt x="0" y="0"/>
                    </a:lnTo>
                    <a:lnTo>
                      <a:pt x="0" y="191"/>
                    </a:lnTo>
                    <a:lnTo>
                      <a:pt x="96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69592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805360" y="2032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676476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87456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69602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787120" y="2123280"/>
                <a:ext cx="6282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867840" y="2008800"/>
                <a:ext cx="6832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898880" y="2123280"/>
                <a:ext cx="68292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034320" y="2123280"/>
                <a:ext cx="6310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867840" y="2235240"/>
                <a:ext cx="6832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296520" y="2008800"/>
                <a:ext cx="113760" cy="11448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8"/>
                    </a:moveTo>
                    <a:lnTo>
                      <a:pt x="2" y="0"/>
                    </a:lnTo>
                    <a:lnTo>
                      <a:pt x="4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465160" y="2123280"/>
                <a:ext cx="802080" cy="340200"/>
              </a:xfrm>
              <a:custGeom>
                <a:avLst/>
                <a:gdLst/>
                <a:ahLst/>
                <a:rect l="l" t="t" r="r" b="b"/>
                <a:pathLst>
                  <a:path w="337" h="143">
                    <a:moveTo>
                      <a:pt x="0" y="0"/>
                    </a:moveTo>
                    <a:lnTo>
                      <a:pt x="2" y="143"/>
                    </a:lnTo>
                    <a:lnTo>
                      <a:pt x="289" y="143"/>
                    </a:lnTo>
                    <a:lnTo>
                      <a:pt x="289" y="47"/>
                    </a:lnTo>
                    <a:lnTo>
                      <a:pt x="337" y="4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750440" y="2918880"/>
                <a:ext cx="226080" cy="454680"/>
              </a:xfrm>
              <a:custGeom>
                <a:avLst/>
                <a:gdLst/>
                <a:ahLst/>
                <a:rect l="l" t="t" r="r" b="b"/>
                <a:pathLst>
                  <a:path w="95" h="191">
                    <a:moveTo>
                      <a:pt x="94" y="191"/>
                    </a:moveTo>
                    <a:lnTo>
                      <a:pt x="0" y="191"/>
                    </a:lnTo>
                    <a:lnTo>
                      <a:pt x="0" y="0"/>
                    </a:lnTo>
                    <a:lnTo>
                      <a:pt x="95" y="0"/>
                    </a:lnTo>
                    <a:lnTo>
                      <a:pt x="94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750440" y="2918880"/>
                <a:ext cx="226080" cy="454680"/>
              </a:xfrm>
              <a:custGeom>
                <a:avLst/>
                <a:gdLst/>
                <a:ahLst/>
                <a:rect l="l" t="t" r="r" b="b"/>
                <a:pathLst>
                  <a:path w="95" h="191">
                    <a:moveTo>
                      <a:pt x="94" y="191"/>
                    </a:moveTo>
                    <a:lnTo>
                      <a:pt x="0" y="191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H="1">
                <a:off x="7969320" y="2918880"/>
                <a:ext cx="2307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H="1">
                <a:off x="7969320" y="3373560"/>
                <a:ext cx="2307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639600" y="2918880"/>
                <a:ext cx="232920" cy="45468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639600" y="2918880"/>
                <a:ext cx="232920" cy="45468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415320" y="2918880"/>
                <a:ext cx="228600" cy="454680"/>
              </a:xfrm>
              <a:custGeom>
                <a:avLst/>
                <a:gdLst/>
                <a:ahLst/>
                <a:rect l="l" t="t" r="r" b="b"/>
                <a:pathLst>
                  <a:path w="96" h="191">
                    <a:moveTo>
                      <a:pt x="94" y="0"/>
                    </a:moveTo>
                    <a:lnTo>
                      <a:pt x="0" y="0"/>
                    </a:lnTo>
                    <a:lnTo>
                      <a:pt x="0" y="191"/>
                    </a:lnTo>
                    <a:lnTo>
                      <a:pt x="96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55824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603240" y="3054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4725000" y="2918880"/>
                <a:ext cx="228240" cy="454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4725000" y="2918880"/>
                <a:ext cx="228240" cy="454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4496400" y="2918880"/>
                <a:ext cx="2379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4496400" y="3373560"/>
                <a:ext cx="2379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4595760" y="30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47044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47926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577120" y="2689920"/>
                <a:ext cx="480960" cy="905040"/>
              </a:xfrm>
              <a:custGeom>
                <a:avLst/>
                <a:gdLst/>
                <a:ahLst/>
                <a:rect l="l" t="t" r="r" b="b"/>
                <a:pathLst>
                  <a:path w="202" h="380">
                    <a:moveTo>
                      <a:pt x="0" y="0"/>
                    </a:moveTo>
                    <a:lnTo>
                      <a:pt x="0" y="155"/>
                    </a:lnTo>
                    <a:lnTo>
                      <a:pt x="46" y="191"/>
                    </a:lnTo>
                    <a:lnTo>
                      <a:pt x="0" y="228"/>
                    </a:lnTo>
                    <a:lnTo>
                      <a:pt x="0" y="380"/>
                    </a:lnTo>
                    <a:lnTo>
                      <a:pt x="202" y="268"/>
                    </a:lnTo>
                    <a:lnTo>
                      <a:pt x="202" y="12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577120" y="2689920"/>
                <a:ext cx="480960" cy="905040"/>
              </a:xfrm>
              <a:custGeom>
                <a:avLst/>
                <a:gdLst/>
                <a:ahLst/>
                <a:rect l="l" t="t" r="r" b="b"/>
                <a:pathLst>
                  <a:path w="202" h="380">
                    <a:moveTo>
                      <a:pt x="0" y="0"/>
                    </a:moveTo>
                    <a:lnTo>
                      <a:pt x="0" y="155"/>
                    </a:lnTo>
                    <a:lnTo>
                      <a:pt x="46" y="191"/>
                    </a:lnTo>
                    <a:lnTo>
                      <a:pt x="0" y="228"/>
                    </a:lnTo>
                    <a:lnTo>
                      <a:pt x="0" y="380"/>
                    </a:lnTo>
                    <a:lnTo>
                      <a:pt x="202" y="268"/>
                    </a:lnTo>
                    <a:lnTo>
                      <a:pt x="202" y="12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665400" y="2918880"/>
                <a:ext cx="454320" cy="454680"/>
              </a:xfrm>
              <a:custGeom>
                <a:avLst/>
                <a:gdLst/>
                <a:ahLst/>
                <a:rect l="l" t="t" r="r" b="b"/>
                <a:pathLst>
                  <a:path w="191" h="191">
                    <a:moveTo>
                      <a:pt x="191" y="191"/>
                    </a:moveTo>
                    <a:lnTo>
                      <a:pt x="191" y="0"/>
                    </a:lnTo>
                    <a:lnTo>
                      <a:pt x="0" y="0"/>
                    </a:lnTo>
                    <a:lnTo>
                      <a:pt x="0" y="191"/>
                    </a:lnTo>
                    <a:lnTo>
                      <a:pt x="191" y="191"/>
                    </a:lnTo>
                    <a:lnTo>
                      <a:pt x="191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776640" y="30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6886080" y="3054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850160" y="30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9599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80409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867840" y="3144960"/>
                <a:ext cx="6282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120080" y="3144960"/>
                <a:ext cx="6260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4382280" y="3032640"/>
                <a:ext cx="113760" cy="11232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0" y="47"/>
                    </a:moveTo>
                    <a:lnTo>
                      <a:pt x="0" y="0"/>
                    </a:lnTo>
                    <a:lnTo>
                      <a:pt x="4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6550920" y="3144960"/>
                <a:ext cx="797040" cy="342720"/>
              </a:xfrm>
              <a:custGeom>
                <a:avLst/>
                <a:gdLst/>
                <a:ahLst/>
                <a:rect l="l" t="t" r="r" b="b"/>
                <a:pathLst>
                  <a:path w="335" h="144">
                    <a:moveTo>
                      <a:pt x="0" y="0"/>
                    </a:moveTo>
                    <a:lnTo>
                      <a:pt x="0" y="144"/>
                    </a:lnTo>
                    <a:lnTo>
                      <a:pt x="287" y="144"/>
                    </a:lnTo>
                    <a:lnTo>
                      <a:pt x="287" y="48"/>
                    </a:lnTo>
                    <a:lnTo>
                      <a:pt x="335" y="4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9364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50308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261288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265248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47940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58884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69864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73932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56012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66956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77936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81860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64588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75532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86512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90436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72660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83604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94584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98868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781236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792180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803160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807444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2329560" y="958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241992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2453040" y="9586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258084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2667960" y="958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2707920" y="958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275796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279180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2877480" y="958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291780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299628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302652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311544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19140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264840" y="958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30552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38436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346032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353448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356904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365328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3729960" y="958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189080" y="2032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22472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33452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3766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45728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54548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63188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67220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71216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80000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881720" y="2032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19310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0192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100960" y="2032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961200" y="1968480"/>
                <a:ext cx="1800" cy="134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925560" y="3294720"/>
                <a:ext cx="75960" cy="7884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31" y="0"/>
                    </a:moveTo>
                    <a:lnTo>
                      <a:pt x="0" y="0"/>
                    </a:lnTo>
                    <a:lnTo>
                      <a:pt x="15" y="33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920520" y="12135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1024920" y="1213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1074240" y="121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157400" y="121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243800" y="1213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293120" y="121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377360" y="1213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1503720" y="121356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91944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006200" y="1394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108360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1165320" y="1394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124308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1327320" y="1394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372320" y="1394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40256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48608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572840" y="139428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919440" y="157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005840" y="15732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055160" y="157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143000" y="157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224720" y="15732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275480" y="157320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920520" y="1753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970200" y="1753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00512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089360" y="175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134720" y="1753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16424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253520" y="175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27320" y="175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68000" y="1753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42164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503360" y="175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1582200" y="175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1622880" y="1753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165492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174060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1822320" y="175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1900800" y="1753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3822480" y="1044360"/>
                <a:ext cx="355212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358040" y="100872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189080" y="3054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126684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134784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43712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14763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156240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6455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173232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177264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181440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19000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198216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202968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0692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1502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3015360" y="1668240"/>
                <a:ext cx="171360" cy="909720"/>
              </a:xfrm>
              <a:custGeom>
                <a:avLst/>
                <a:gdLst/>
                <a:ahLst/>
                <a:rect l="l" t="t" r="r" b="b"/>
                <a:pathLst>
                  <a:path w="72" h="382">
                    <a:moveTo>
                      <a:pt x="70" y="382"/>
                    </a:moveTo>
                    <a:lnTo>
                      <a:pt x="72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2" y="382"/>
                    </a:lnTo>
                    <a:lnTo>
                      <a:pt x="72" y="382"/>
                    </a:lnTo>
                    <a:lnTo>
                      <a:pt x="70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3015360" y="1668240"/>
                <a:ext cx="171360" cy="909720"/>
              </a:xfrm>
              <a:custGeom>
                <a:avLst/>
                <a:gdLst/>
                <a:ahLst/>
                <a:rect l="l" t="t" r="r" b="b"/>
                <a:pathLst>
                  <a:path w="72" h="382">
                    <a:moveTo>
                      <a:pt x="70" y="382"/>
                    </a:moveTo>
                    <a:lnTo>
                      <a:pt x="72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2" y="382"/>
                    </a:lnTo>
                    <a:lnTo>
                      <a:pt x="72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410112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410112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181840" y="166824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181840" y="166824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26760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26760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410112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410112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18184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518184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26760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26760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34832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34832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4491360" y="1663920"/>
                <a:ext cx="480960" cy="900000"/>
              </a:xfrm>
              <a:custGeom>
                <a:avLst/>
                <a:gdLst/>
                <a:ahLst/>
                <a:rect l="l" t="t" r="r" b="b"/>
                <a:pathLst>
                  <a:path w="202" h="378">
                    <a:moveTo>
                      <a:pt x="0" y="0"/>
                    </a:moveTo>
                    <a:lnTo>
                      <a:pt x="2" y="153"/>
                    </a:lnTo>
                    <a:lnTo>
                      <a:pt x="48" y="189"/>
                    </a:lnTo>
                    <a:lnTo>
                      <a:pt x="2" y="225"/>
                    </a:lnTo>
                    <a:lnTo>
                      <a:pt x="2" y="378"/>
                    </a:lnTo>
                    <a:lnTo>
                      <a:pt x="202" y="265"/>
                    </a:lnTo>
                    <a:lnTo>
                      <a:pt x="202" y="11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5" name=""/>
            <p:cNvSpPr/>
            <p:nvPr/>
          </p:nvSpPr>
          <p:spPr>
            <a:xfrm>
              <a:off x="4491360" y="1663920"/>
              <a:ext cx="480960" cy="900000"/>
            </a:xfrm>
            <a:custGeom>
              <a:avLst/>
              <a:gdLst/>
              <a:ahLst/>
              <a:rect l="l" t="t" r="r" b="b"/>
              <a:pathLst>
                <a:path w="202" h="378">
                  <a:moveTo>
                    <a:pt x="0" y="0"/>
                  </a:moveTo>
                  <a:lnTo>
                    <a:pt x="2" y="153"/>
                  </a:lnTo>
                  <a:lnTo>
                    <a:pt x="48" y="189"/>
                  </a:lnTo>
                  <a:lnTo>
                    <a:pt x="2" y="225"/>
                  </a:lnTo>
                  <a:lnTo>
                    <a:pt x="2" y="378"/>
                  </a:lnTo>
                  <a:lnTo>
                    <a:pt x="202" y="265"/>
                  </a:lnTo>
                  <a:lnTo>
                    <a:pt x="202" y="11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650840" y="203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752360" y="2032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838760" y="2032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737680" y="3064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837760" y="306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924520" y="30643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8205840" y="2908800"/>
              <a:ext cx="396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4491360" y="2908800"/>
              <a:ext cx="252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410640" y="1885320"/>
              <a:ext cx="2520" cy="47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: analogia com linha de produ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1760" y="3664800"/>
            <a:ext cx="8214840" cy="21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 de fabricação de um carro: C+M+C+P+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xa de produção (carros/h): medido na saí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: depende do número de estágios e do balanceame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 do pipelin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ir e balancear o tempo em cada estág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imizar o uso de HW dos estágios (taxa de ocupaçã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mo: aumentar a velocidade e diminuir o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1028880"/>
          <a:ext cx="8696160" cy="232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28880"/>
                    <a:ext cx="8696160" cy="23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084040" y="83808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920" y="838800"/>
            <a:ext cx="8228520" cy="388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 perfomance by increasing instruction throughput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 de execução de uma instrução: 8 ns e 9 ns (com ou sem pip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: 1 instr / 8ns (sem pipeline) ou 1 instr / 2 ns (co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de estágios = 5; ganho de 4:1; para obter 5:1 ?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54320" y="3460680"/>
            <a:ext cx="66387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13320" y="1219320"/>
            <a:ext cx="7471440" cy="4246200"/>
            <a:chOff x="913320" y="1219320"/>
            <a:chExt cx="7471440" cy="4246200"/>
          </a:xfrm>
        </p:grpSpPr>
        <p:sp>
          <p:nvSpPr>
            <p:cNvPr id="52" name=""/>
            <p:cNvSpPr/>
            <p:nvPr/>
          </p:nvSpPr>
          <p:spPr>
            <a:xfrm>
              <a:off x="224964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348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52600" y="1851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1524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51240" y="1851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8904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62840" y="1851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2080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56800" y="18511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8560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5508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24560" y="185112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99760" y="198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3324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06680" y="198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4052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0064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703040" y="2247120"/>
              <a:ext cx="71280" cy="6768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3"/>
                  </a:moveTo>
                  <a:lnTo>
                    <a:pt x="2" y="0"/>
                  </a:lnTo>
                  <a:lnTo>
                    <a:pt x="32" y="18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19400" y="179172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0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13120" y="1916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0708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7512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62720" y="1791720"/>
              <a:ext cx="321480" cy="39420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2" y="190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4" y="192"/>
                  </a:lnTo>
                  <a:lnTo>
                    <a:pt x="144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91920" y="1916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7868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45280" y="1916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84200" y="1791720"/>
              <a:ext cx="640800" cy="394200"/>
            </a:xfrm>
            <a:custGeom>
              <a:avLst/>
              <a:gdLst/>
              <a:ahLst/>
              <a:rect l="l" t="t" r="r" b="b"/>
              <a:pathLst>
                <a:path w="287" h="192">
                  <a:moveTo>
                    <a:pt x="285" y="190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7" y="192"/>
                  </a:lnTo>
                  <a:lnTo>
                    <a:pt x="28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12560" y="185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0400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7132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0552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78600" y="185112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4992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1688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8168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4504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1344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7428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25360" y="179172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0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19440" y="1916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1232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8072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68680" y="1791720"/>
              <a:ext cx="319320" cy="394200"/>
            </a:xfrm>
            <a:custGeom>
              <a:avLst/>
              <a:gdLst/>
              <a:ahLst/>
              <a:rect l="l" t="t" r="r" b="b"/>
              <a:pathLst>
                <a:path w="143" h="192">
                  <a:moveTo>
                    <a:pt x="141" y="190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3" y="192"/>
                  </a:lnTo>
                  <a:lnTo>
                    <a:pt x="143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279160" y="2280240"/>
              <a:ext cx="245268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28040" y="2247120"/>
              <a:ext cx="69120" cy="676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33"/>
                  </a:moveTo>
                  <a:lnTo>
                    <a:pt x="31" y="0"/>
                  </a:lnTo>
                  <a:lnTo>
                    <a:pt x="0" y="18"/>
                  </a:lnTo>
                  <a:lnTo>
                    <a:pt x="31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58080" y="2315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40880" y="2315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78680" y="2315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58960" y="2315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1896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5244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21560" y="2243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8456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20200" y="22431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5800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31800" y="2243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976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25760" y="22431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348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2404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91360" y="22431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68720" y="2380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0076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76000" y="2380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0984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6960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72360" y="2641320"/>
              <a:ext cx="71640" cy="655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2"/>
                  </a:moveTo>
                  <a:lnTo>
                    <a:pt x="2" y="0"/>
                  </a:lnTo>
                  <a:lnTo>
                    <a:pt x="32" y="17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13480" y="3025440"/>
              <a:ext cx="71280" cy="6732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3"/>
                  </a:moveTo>
                  <a:lnTo>
                    <a:pt x="0" y="0"/>
                  </a:lnTo>
                  <a:lnTo>
                    <a:pt x="32" y="18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88360" y="21859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89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2080" y="2310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7640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4552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31680" y="2185920"/>
              <a:ext cx="318960" cy="391680"/>
            </a:xfrm>
            <a:custGeom>
              <a:avLst/>
              <a:gdLst/>
              <a:ahLst/>
              <a:rect l="l" t="t" r="r" b="b"/>
              <a:pathLst>
                <a:path w="143" h="191">
                  <a:moveTo>
                    <a:pt x="142" y="189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3" y="191"/>
                  </a:lnTo>
                  <a:lnTo>
                    <a:pt x="143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59800" y="2310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4764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14600" y="2310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51000" y="21859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89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81520" y="2243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7332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4064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7592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48280" y="22431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1924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8656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5100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1580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8312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4324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94320" y="2185920"/>
              <a:ext cx="641160" cy="39168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286" y="189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7" y="191"/>
                  </a:lnTo>
                  <a:lnTo>
                    <a:pt x="287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86240" y="2310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8272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4968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35840" y="218592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89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848120" y="2672280"/>
              <a:ext cx="245268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97000" y="2641320"/>
              <a:ext cx="69120" cy="6552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32"/>
                  </a:moveTo>
                  <a:lnTo>
                    <a:pt x="31" y="0"/>
                  </a:lnTo>
                  <a:lnTo>
                    <a:pt x="0" y="17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27040" y="270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07680" y="270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47640" y="270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28640" y="270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88280" y="2637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2032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91240" y="2637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53520" y="2637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89880" y="2637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732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01120" y="2637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59440" y="2637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94720" y="2637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2388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9156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60680" y="26373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38040" y="2774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71160" y="2774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45320" y="2774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78800" y="2774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37480" y="2774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57320" y="257760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0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7417800" y="3066480"/>
              <a:ext cx="4716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8235360" y="3066480"/>
              <a:ext cx="936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66320" y="3033360"/>
              <a:ext cx="68760" cy="676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33"/>
                  </a:moveTo>
                  <a:lnTo>
                    <a:pt x="31" y="0"/>
                  </a:lnTo>
                  <a:lnTo>
                    <a:pt x="0" y="18"/>
                  </a:lnTo>
                  <a:lnTo>
                    <a:pt x="31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87440" y="309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25600" y="309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06960" y="309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46200" y="309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22520" y="309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65440" y="1471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50040" y="14713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81720" y="14713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00520" y="1471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14920" y="19108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44080" y="1910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46680" y="1910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848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6728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44320" y="1910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87880" y="1910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60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0092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844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65440" y="1910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122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9000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71000" y="1910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14920" y="2305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44080" y="2305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46680" y="2305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848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6728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4320" y="2305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87880" y="2305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260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092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44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65440" y="2305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122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9000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71000" y="2305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14920" y="2696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44080" y="2696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46680" y="26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848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6728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44320" y="26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87880" y="26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260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0092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844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65440" y="2696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122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9000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71000" y="2696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70560" y="1923480"/>
              <a:ext cx="3960" cy="1062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34560" y="2904120"/>
              <a:ext cx="73800" cy="676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0"/>
                  </a:moveTo>
                  <a:lnTo>
                    <a:pt x="0" y="0"/>
                  </a:lnTo>
                  <a:lnTo>
                    <a:pt x="18" y="33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28040" y="1553760"/>
              <a:ext cx="60339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44360" y="1520640"/>
              <a:ext cx="73440" cy="676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2844360" y="1555200"/>
              <a:ext cx="43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015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487680" y="1555200"/>
              <a:ext cx="43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4304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129200" y="1555200"/>
              <a:ext cx="43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849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772520" y="1555200"/>
              <a:ext cx="180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2608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414040" y="1555200"/>
              <a:ext cx="396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283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075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057360" y="1555200"/>
              <a:ext cx="180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695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519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027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787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689160" y="1555200"/>
              <a:ext cx="25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7332480" y="1555200"/>
              <a:ext cx="25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974000" y="1555200"/>
              <a:ext cx="180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4428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231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753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5780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60760" y="3710520"/>
              <a:ext cx="73440" cy="6588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28040" y="3745440"/>
              <a:ext cx="495036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844360" y="3753720"/>
              <a:ext cx="432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0152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487680" y="3753720"/>
              <a:ext cx="432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4304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129200" y="3753720"/>
              <a:ext cx="432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8492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772520" y="3753720"/>
              <a:ext cx="180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2608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414040" y="3753720"/>
              <a:ext cx="396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2836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0756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057360" y="3753720"/>
              <a:ext cx="180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685200" y="3753720"/>
              <a:ext cx="180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6952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5196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02760" y="3542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78720" y="3542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995960" y="289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56080" y="289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14400" y="289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13320" y="1219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12680" y="1219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57680" y="121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33640" y="121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17160" y="1219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64680" y="121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41360" y="12193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61960" y="121932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1404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4320" y="137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812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44080" y="137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1644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93840" y="1373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36320" y="13730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6728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4324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6760" y="13730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14040" y="1529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94680" y="1529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41120" y="1529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22840" y="1529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00600" y="1529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47040" y="152928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14400" y="168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60840" y="1686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9432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72440" y="1686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14920" y="1686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4408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226880" y="168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93840" y="1686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34160" y="168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8528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61600" y="168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35040" y="1686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72840" y="1686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0092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8444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60760" y="168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34920" y="168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5900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910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61600" y="4030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2424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60240" y="4030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0236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69320" y="4030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3448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70120" y="40305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942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626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35720" y="40305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13080" y="4172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4512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15680" y="4172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4916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1396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88560" y="4433400"/>
              <a:ext cx="7380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0" y="0"/>
                  </a:lnTo>
                  <a:lnTo>
                    <a:pt x="33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28040" y="39733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34960" y="410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2316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9120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91040" y="397332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27080" y="4102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0556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76120" y="410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12520" y="39733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42680" y="4030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312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0612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3960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09440" y="40305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8292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5240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1252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7372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4428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0908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56200" y="3973320"/>
              <a:ext cx="640800" cy="39168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285" y="191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7" y="191"/>
                  </a:lnTo>
                  <a:lnTo>
                    <a:pt x="287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52440" y="410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4064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1084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97000" y="397332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92840" y="446400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37040" y="443340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50400" y="3655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37160" y="3655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71000" y="36550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86560" y="365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24280" y="40924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52720" y="4092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60360" y="409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9816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7484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56920" y="409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95080" y="409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3360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1568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9344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74440" y="4092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1980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0116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80000" y="4092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24280" y="44845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52720" y="4484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60360" y="448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9816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7484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56920" y="448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95080" y="448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3360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1568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9344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74440" y="4484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1980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0116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80000" y="4484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24280" y="4876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52720" y="4876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60360" y="4876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9816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37484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56920" y="4876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95080" y="4876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3360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1568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9344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74440" y="4876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1980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0116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80000" y="4876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77040" y="4106880"/>
              <a:ext cx="1800" cy="99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43560" y="5085720"/>
              <a:ext cx="73440" cy="655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1" y="0"/>
                  </a:moveTo>
                  <a:lnTo>
                    <a:pt x="0" y="0"/>
                  </a:lnTo>
                  <a:lnTo>
                    <a:pt x="15" y="3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07320" y="44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84360" y="44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26840" y="44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04960" y="4496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9980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3328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02760" y="4424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6756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01400" y="4424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4208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13000" y="4424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7780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11280" y="4424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3756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0488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79400" y="442476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54240" y="456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8628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57200" y="456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9068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25512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32240" y="4825080"/>
              <a:ext cx="71280" cy="63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31"/>
                  </a:moveTo>
                  <a:lnTo>
                    <a:pt x="0" y="0"/>
                  </a:lnTo>
                  <a:lnTo>
                    <a:pt x="32" y="16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71360" y="4365360"/>
              <a:ext cx="641160" cy="394200"/>
            </a:xfrm>
            <a:custGeom>
              <a:avLst/>
              <a:gdLst/>
              <a:ahLst/>
              <a:rect l="l" t="t" r="r" b="b"/>
              <a:pathLst>
                <a:path w="287" h="192">
                  <a:moveTo>
                    <a:pt x="285" y="192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7" y="192"/>
                  </a:lnTo>
                  <a:lnTo>
                    <a:pt x="28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76120" y="4494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6432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3488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34360" y="4365360"/>
              <a:ext cx="321480" cy="39420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2" y="192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4" y="192"/>
                  </a:lnTo>
                  <a:lnTo>
                    <a:pt x="144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68240" y="4494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5068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19440" y="4494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56200" y="4365360"/>
              <a:ext cx="640800" cy="394200"/>
            </a:xfrm>
            <a:custGeom>
              <a:avLst/>
              <a:gdLst/>
              <a:ahLst/>
              <a:rect l="l" t="t" r="r" b="b"/>
              <a:pathLst>
                <a:path w="287" h="192">
                  <a:moveTo>
                    <a:pt x="285" y="192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7" y="192"/>
                  </a:lnTo>
                  <a:lnTo>
                    <a:pt x="28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84200" y="4424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7600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4764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8184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50960" y="442476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2624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9320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5404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1812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8580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5060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97000" y="436536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2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93240" y="4494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8540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5236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40320" y="4365360"/>
              <a:ext cx="319320" cy="394200"/>
            </a:xfrm>
            <a:custGeom>
              <a:avLst/>
              <a:gdLst/>
              <a:ahLst/>
              <a:rect l="l" t="t" r="r" b="b"/>
              <a:pathLst>
                <a:path w="143" h="192">
                  <a:moveTo>
                    <a:pt x="141" y="192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3" y="192"/>
                  </a:lnTo>
                  <a:lnTo>
                    <a:pt x="143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2934000" y="4857840"/>
              <a:ext cx="52272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78200" y="4825080"/>
              <a:ext cx="73440" cy="637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1" y="31"/>
                  </a:moveTo>
                  <a:lnTo>
                    <a:pt x="33" y="0"/>
                  </a:lnTo>
                  <a:lnTo>
                    <a:pt x="0" y="16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484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27680" y="4888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6872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46480" y="4888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4348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7588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46080" y="481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0944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44720" y="4816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8684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53800" y="481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1860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54600" y="4816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7872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676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20200" y="481680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97560" y="4958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3104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0520" y="4958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3400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9844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12520" y="475956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19440" y="488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090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7604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75160" y="475956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10120" y="4888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914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60600" y="488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97000" y="475956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27520" y="4816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1716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9096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300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94280" y="481680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6632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3652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9736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5820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2912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9392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40320" y="4759560"/>
              <a:ext cx="641160" cy="39168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285" y="191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7" y="191"/>
                  </a:lnTo>
                  <a:lnTo>
                    <a:pt x="287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36560" y="488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2656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956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81840" y="475956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7340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0" y="0"/>
                  </a:lnTo>
                  <a:lnTo>
                    <a:pt x="33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577680" y="525024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52188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9324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6992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024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8980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07720" y="5219280"/>
              <a:ext cx="71280" cy="6120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30"/>
                  </a:moveTo>
                  <a:lnTo>
                    <a:pt x="2" y="0"/>
                  </a:lnTo>
                  <a:lnTo>
                    <a:pt x="32" y="15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211280" y="5250240"/>
              <a:ext cx="524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60520" y="5219280"/>
              <a:ext cx="66600" cy="612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30"/>
                  </a:moveTo>
                  <a:lnTo>
                    <a:pt x="30" y="0"/>
                  </a:lnTo>
                  <a:lnTo>
                    <a:pt x="0" y="15"/>
                  </a:lnTo>
                  <a:lnTo>
                    <a:pt x="30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2972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0784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4600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52664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4456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4848480" y="525024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9304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6296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4468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8248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6528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83560" y="5219280"/>
              <a:ext cx="7380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0" y="0"/>
                  </a:lnTo>
                  <a:lnTo>
                    <a:pt x="33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5487480" y="5250240"/>
              <a:ext cx="5205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31680" y="5219280"/>
              <a:ext cx="71280" cy="6120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0" y="30"/>
                  </a:moveTo>
                  <a:lnTo>
                    <a:pt x="32" y="0"/>
                  </a:lnTo>
                  <a:lnTo>
                    <a:pt x="0" y="15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60124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7900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2148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79960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22200" y="5219280"/>
              <a:ext cx="71280" cy="6120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30"/>
                  </a:moveTo>
                  <a:lnTo>
                    <a:pt x="0" y="0"/>
                  </a:lnTo>
                  <a:lnTo>
                    <a:pt x="32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124320" y="525024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068520" y="5219280"/>
              <a:ext cx="68760" cy="612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0"/>
                  </a:lnTo>
                  <a:lnTo>
                    <a:pt x="0" y="15"/>
                  </a:lnTo>
                  <a:lnTo>
                    <a:pt x="31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3988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584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5580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3644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46360" y="421560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18720" y="3423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17000" y="3423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62360" y="342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39400" y="342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22920" y="3423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69000" y="342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45320" y="34232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466280" y="342324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1836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99000" y="3581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07244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48400" y="3581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2220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298520" y="3581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41000" y="35816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088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45224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30720" y="35816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18360" y="3733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98280" y="3733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45800" y="3733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28240" y="3733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04920" y="3733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51720" y="373320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18720" y="389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70200" y="389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9756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77120" y="389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19600" y="389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4840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31200" y="389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98520" y="389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341360" y="389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8600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465560" y="389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39360" y="389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77520" y="389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0524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8804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69400" y="389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839240" y="389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makes it eas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instructions are the same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a few instruction form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operands appear only in loads and stor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makes it har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al hazards:   suppose we had only one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hazards:  need to worry about branch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hazards:  an instruction depends on a previous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build a simple pipeline and look at these issu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talk about modern processors and what really makes it har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ing to improve performance with out-of-order execution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Id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at do we need to add to actually split the datapath into stag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673200" y="1195560"/>
            <a:ext cx="7790400" cy="4473360"/>
            <a:chOff x="673200" y="1195560"/>
            <a:chExt cx="7790400" cy="4473360"/>
          </a:xfrm>
        </p:grpSpPr>
        <p:sp>
          <p:nvSpPr>
            <p:cNvPr id="583" name=""/>
            <p:cNvSpPr/>
            <p:nvPr/>
          </p:nvSpPr>
          <p:spPr>
            <a:xfrm>
              <a:off x="2706840" y="4162320"/>
              <a:ext cx="5184720" cy="1179720"/>
            </a:xfrm>
            <a:custGeom>
              <a:avLst/>
              <a:gdLst/>
              <a:ahLst/>
              <a:rect l="l" t="t" r="r" b="b"/>
              <a:pathLst>
                <a:path w="2272" h="517">
                  <a:moveTo>
                    <a:pt x="67" y="34"/>
                  </a:moveTo>
                  <a:lnTo>
                    <a:pt x="0" y="34"/>
                  </a:lnTo>
                  <a:lnTo>
                    <a:pt x="0" y="517"/>
                  </a:lnTo>
                  <a:lnTo>
                    <a:pt x="2272" y="517"/>
                  </a:lnTo>
                  <a:lnTo>
                    <a:pt x="2272" y="0"/>
                  </a:lnTo>
                  <a:lnTo>
                    <a:pt x="2231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498680" y="1968480"/>
              <a:ext cx="57240" cy="554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28880" y="4214880"/>
              <a:ext cx="57240" cy="572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843280" y="3973680"/>
              <a:ext cx="4284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57440" y="3995640"/>
              <a:ext cx="3016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3817440" y="3933720"/>
              <a:ext cx="685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48280" y="3978360"/>
              <a:ext cx="1666800" cy="758880"/>
            </a:xfrm>
            <a:custGeom>
              <a:avLst/>
              <a:gdLst/>
              <a:ahLst/>
              <a:rect l="l" t="t" r="r" b="b"/>
              <a:pathLst>
                <a:path w="730" h="333">
                  <a:moveTo>
                    <a:pt x="730" y="161"/>
                  </a:moveTo>
                  <a:lnTo>
                    <a:pt x="690" y="161"/>
                  </a:lnTo>
                  <a:lnTo>
                    <a:pt x="690" y="333"/>
                  </a:lnTo>
                  <a:lnTo>
                    <a:pt x="0" y="33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21160" y="3767040"/>
              <a:ext cx="6224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35680" y="3746520"/>
              <a:ext cx="38160" cy="442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25600" y="1994040"/>
              <a:ext cx="4933800" cy="944280"/>
            </a:xfrm>
            <a:custGeom>
              <a:avLst/>
              <a:gdLst/>
              <a:ahLst/>
              <a:rect l="l" t="t" r="r" b="b"/>
              <a:pathLst>
                <a:path w="2162" h="414">
                  <a:moveTo>
                    <a:pt x="42" y="0"/>
                  </a:moveTo>
                  <a:lnTo>
                    <a:pt x="0" y="2"/>
                  </a:lnTo>
                  <a:lnTo>
                    <a:pt x="0" y="61"/>
                  </a:lnTo>
                  <a:lnTo>
                    <a:pt x="2162" y="61"/>
                  </a:lnTo>
                  <a:lnTo>
                    <a:pt x="2162" y="414"/>
                  </a:lnTo>
                  <a:lnTo>
                    <a:pt x="1642" y="414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97040" y="3352680"/>
              <a:ext cx="152280" cy="428760"/>
            </a:xfrm>
            <a:custGeom>
              <a:avLst/>
              <a:gdLst/>
              <a:ahLst/>
              <a:rect l="l" t="t" r="r" b="b"/>
              <a:pathLst>
                <a:path w="67" h="188">
                  <a:moveTo>
                    <a:pt x="67" y="188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8"/>
                  </a:lnTo>
                  <a:lnTo>
                    <a:pt x="67" y="188"/>
                  </a:lnTo>
                  <a:lnTo>
                    <a:pt x="67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97040" y="3352680"/>
              <a:ext cx="152280" cy="428760"/>
            </a:xfrm>
            <a:custGeom>
              <a:avLst/>
              <a:gdLst/>
              <a:ahLst/>
              <a:rect l="l" t="t" r="r" b="b"/>
              <a:pathLst>
                <a:path w="67" h="188">
                  <a:moveTo>
                    <a:pt x="67" y="188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8"/>
                  </a:lnTo>
                  <a:lnTo>
                    <a:pt x="67" y="188"/>
                  </a:lnTo>
                  <a:lnTo>
                    <a:pt x="67" y="18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165320" y="3389400"/>
              <a:ext cx="461880" cy="965160"/>
            </a:xfrm>
            <a:custGeom>
              <a:avLst/>
              <a:gdLst/>
              <a:ahLst/>
              <a:rect l="l" t="t" r="r" b="b"/>
              <a:pathLst>
                <a:path w="202" h="423">
                  <a:moveTo>
                    <a:pt x="202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2" y="423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165320" y="3389400"/>
              <a:ext cx="461880" cy="965160"/>
            </a:xfrm>
            <a:custGeom>
              <a:avLst/>
              <a:gdLst/>
              <a:ahLst/>
              <a:rect l="l" t="t" r="r" b="b"/>
              <a:pathLst>
                <a:path w="202" h="423">
                  <a:moveTo>
                    <a:pt x="202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2" y="4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27200" y="3394080"/>
              <a:ext cx="463680" cy="9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27200" y="3394080"/>
              <a:ext cx="463680" cy="960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25240" y="40147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44576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93280" y="4014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240" y="40147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555560" y="4014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58544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631160" y="4014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669680" y="40147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94880" y="40147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1216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5680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05040" y="401472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81040" y="41148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47280" y="4114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595520" y="41148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59960" y="4114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9280" y="4114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35920" y="4114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01320" y="35114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54960" y="3511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298160" y="3511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45680" y="3511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372680" y="3511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20200" y="351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59800" y="351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61040" y="3651120"/>
              <a:ext cx="460440" cy="9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61040" y="3651120"/>
              <a:ext cx="460440" cy="965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1480" y="365112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21480" y="365112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843280" y="3484440"/>
              <a:ext cx="42840" cy="399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39680" y="2443320"/>
              <a:ext cx="420840" cy="1123920"/>
            </a:xfrm>
            <a:custGeom>
              <a:avLst/>
              <a:gdLst/>
              <a:ahLst/>
              <a:rect l="l" t="t" r="r" b="b"/>
              <a:pathLst>
                <a:path w="184" h="492">
                  <a:moveTo>
                    <a:pt x="184" y="0"/>
                  </a:moveTo>
                  <a:lnTo>
                    <a:pt x="0" y="2"/>
                  </a:lnTo>
                  <a:lnTo>
                    <a:pt x="0" y="4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1307880" y="2938320"/>
              <a:ext cx="1522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90760" y="2276640"/>
              <a:ext cx="266760" cy="82692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8"/>
                  </a:lnTo>
                  <a:lnTo>
                    <a:pt x="39" y="182"/>
                  </a:lnTo>
                  <a:lnTo>
                    <a:pt x="0" y="217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90760" y="2276640"/>
              <a:ext cx="266760" cy="82692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8"/>
                  </a:lnTo>
                  <a:lnTo>
                    <a:pt x="39" y="182"/>
                  </a:lnTo>
                  <a:lnTo>
                    <a:pt x="0" y="217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81640" y="3913200"/>
              <a:ext cx="46080" cy="442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0" y="19"/>
                  </a:lnTo>
                  <a:lnTo>
                    <a:pt x="2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481640" y="4278240"/>
              <a:ext cx="46080" cy="446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0" y="19"/>
                  </a:lnTo>
                  <a:lnTo>
                    <a:pt x="20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762440" y="4095720"/>
              <a:ext cx="38160" cy="446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62440" y="3605040"/>
              <a:ext cx="38160" cy="46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0" y="2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96360" y="3957480"/>
              <a:ext cx="44280" cy="43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96360" y="4322880"/>
              <a:ext cx="44280" cy="442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0" y="20"/>
                  </a:lnTo>
                  <a:lnTo>
                    <a:pt x="19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13520" y="4421160"/>
              <a:ext cx="41040" cy="38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lnTo>
                    <a:pt x="0" y="17"/>
                  </a:lnTo>
                  <a:lnTo>
                    <a:pt x="1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441440" y="2427120"/>
              <a:ext cx="44640" cy="446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441440" y="2916360"/>
              <a:ext cx="4464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21840" y="288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1757520" y="2692440"/>
              <a:ext cx="28605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57680" y="2529000"/>
              <a:ext cx="511200" cy="823680"/>
            </a:xfrm>
            <a:custGeom>
              <a:avLst/>
              <a:gdLst/>
              <a:ahLst/>
              <a:rect l="l" t="t" r="r" b="b"/>
              <a:pathLst>
                <a:path w="224" h="361">
                  <a:moveTo>
                    <a:pt x="0" y="0"/>
                  </a:moveTo>
                  <a:lnTo>
                    <a:pt x="0" y="145"/>
                  </a:lnTo>
                  <a:lnTo>
                    <a:pt x="38" y="180"/>
                  </a:lnTo>
                  <a:lnTo>
                    <a:pt x="0" y="214"/>
                  </a:lnTo>
                  <a:lnTo>
                    <a:pt x="0" y="361"/>
                  </a:lnTo>
                  <a:lnTo>
                    <a:pt x="224" y="250"/>
                  </a:lnTo>
                  <a:lnTo>
                    <a:pt x="224" y="1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57680" y="2529000"/>
              <a:ext cx="511200" cy="823680"/>
            </a:xfrm>
            <a:custGeom>
              <a:avLst/>
              <a:gdLst/>
              <a:ahLst/>
              <a:rect l="l" t="t" r="r" b="b"/>
              <a:pathLst>
                <a:path w="224" h="361">
                  <a:moveTo>
                    <a:pt x="0" y="0"/>
                  </a:moveTo>
                  <a:lnTo>
                    <a:pt x="0" y="145"/>
                  </a:lnTo>
                  <a:lnTo>
                    <a:pt x="38" y="180"/>
                  </a:lnTo>
                  <a:lnTo>
                    <a:pt x="0" y="214"/>
                  </a:lnTo>
                  <a:lnTo>
                    <a:pt x="0" y="361"/>
                  </a:lnTo>
                  <a:lnTo>
                    <a:pt x="224" y="250"/>
                  </a:lnTo>
                  <a:lnTo>
                    <a:pt x="224" y="1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49320" y="3562200"/>
              <a:ext cx="1825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117440" y="3546360"/>
              <a:ext cx="46080" cy="381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0" y="17"/>
                  </a:lnTo>
                  <a:lnTo>
                    <a:pt x="2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46280" y="3546360"/>
              <a:ext cx="45720" cy="381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2" y="17"/>
                  </a:lnTo>
                  <a:lnTo>
                    <a:pt x="20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368520" y="4716360"/>
              <a:ext cx="42840" cy="446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21080" y="4416480"/>
              <a:ext cx="304920" cy="64908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6" y="283"/>
                  </a:lnTo>
                  <a:lnTo>
                    <a:pt x="88" y="277"/>
                  </a:lnTo>
                  <a:lnTo>
                    <a:pt x="97" y="270"/>
                  </a:lnTo>
                  <a:lnTo>
                    <a:pt x="105" y="258"/>
                  </a:lnTo>
                  <a:lnTo>
                    <a:pt x="115" y="243"/>
                  </a:lnTo>
                  <a:lnTo>
                    <a:pt x="120" y="228"/>
                  </a:lnTo>
                  <a:lnTo>
                    <a:pt x="126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6" y="76"/>
                  </a:lnTo>
                  <a:lnTo>
                    <a:pt x="120" y="57"/>
                  </a:lnTo>
                  <a:lnTo>
                    <a:pt x="115" y="42"/>
                  </a:lnTo>
                  <a:lnTo>
                    <a:pt x="105" y="26"/>
                  </a:lnTo>
                  <a:lnTo>
                    <a:pt x="97" y="15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7" y="0"/>
                  </a:lnTo>
                  <a:lnTo>
                    <a:pt x="55" y="2"/>
                  </a:lnTo>
                  <a:lnTo>
                    <a:pt x="46" y="5"/>
                  </a:lnTo>
                  <a:lnTo>
                    <a:pt x="36" y="15"/>
                  </a:lnTo>
                  <a:lnTo>
                    <a:pt x="26" y="26"/>
                  </a:lnTo>
                  <a:lnTo>
                    <a:pt x="19" y="42"/>
                  </a:lnTo>
                  <a:lnTo>
                    <a:pt x="11" y="57"/>
                  </a:lnTo>
                  <a:lnTo>
                    <a:pt x="5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5" y="208"/>
                  </a:lnTo>
                  <a:lnTo>
                    <a:pt x="11" y="228"/>
                  </a:lnTo>
                  <a:lnTo>
                    <a:pt x="19" y="243"/>
                  </a:lnTo>
                  <a:lnTo>
                    <a:pt x="26" y="258"/>
                  </a:lnTo>
                  <a:lnTo>
                    <a:pt x="36" y="270"/>
                  </a:lnTo>
                  <a:lnTo>
                    <a:pt x="46" y="277"/>
                  </a:lnTo>
                  <a:lnTo>
                    <a:pt x="55" y="283"/>
                  </a:lnTo>
                  <a:lnTo>
                    <a:pt x="67" y="285"/>
                  </a:lnTo>
                  <a:lnTo>
                    <a:pt x="67" y="285"/>
                  </a:lnTo>
                  <a:lnTo>
                    <a:pt x="65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21080" y="4416480"/>
              <a:ext cx="304920" cy="64908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6" y="283"/>
                  </a:lnTo>
                  <a:lnTo>
                    <a:pt x="88" y="277"/>
                  </a:lnTo>
                  <a:lnTo>
                    <a:pt x="97" y="270"/>
                  </a:lnTo>
                  <a:lnTo>
                    <a:pt x="105" y="258"/>
                  </a:lnTo>
                  <a:lnTo>
                    <a:pt x="115" y="243"/>
                  </a:lnTo>
                  <a:lnTo>
                    <a:pt x="120" y="228"/>
                  </a:lnTo>
                  <a:lnTo>
                    <a:pt x="126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6" y="76"/>
                  </a:lnTo>
                  <a:lnTo>
                    <a:pt x="120" y="57"/>
                  </a:lnTo>
                  <a:lnTo>
                    <a:pt x="115" y="42"/>
                  </a:lnTo>
                  <a:lnTo>
                    <a:pt x="105" y="26"/>
                  </a:lnTo>
                  <a:lnTo>
                    <a:pt x="97" y="15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7" y="0"/>
                  </a:lnTo>
                  <a:lnTo>
                    <a:pt x="55" y="2"/>
                  </a:lnTo>
                  <a:lnTo>
                    <a:pt x="46" y="5"/>
                  </a:lnTo>
                  <a:lnTo>
                    <a:pt x="36" y="15"/>
                  </a:lnTo>
                  <a:lnTo>
                    <a:pt x="26" y="26"/>
                  </a:lnTo>
                  <a:lnTo>
                    <a:pt x="19" y="42"/>
                  </a:lnTo>
                  <a:lnTo>
                    <a:pt x="11" y="57"/>
                  </a:lnTo>
                  <a:lnTo>
                    <a:pt x="5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5" y="208"/>
                  </a:lnTo>
                  <a:lnTo>
                    <a:pt x="11" y="228"/>
                  </a:lnTo>
                  <a:lnTo>
                    <a:pt x="19" y="243"/>
                  </a:lnTo>
                  <a:lnTo>
                    <a:pt x="26" y="258"/>
                  </a:lnTo>
                  <a:lnTo>
                    <a:pt x="36" y="270"/>
                  </a:lnTo>
                  <a:lnTo>
                    <a:pt x="46" y="277"/>
                  </a:lnTo>
                  <a:lnTo>
                    <a:pt x="55" y="283"/>
                  </a:lnTo>
                  <a:lnTo>
                    <a:pt x="67" y="285"/>
                  </a:lnTo>
                  <a:lnTo>
                    <a:pt x="67" y="28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6488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0952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13400" y="2671920"/>
              <a:ext cx="39600" cy="442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13400" y="3160800"/>
              <a:ext cx="39600" cy="428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43880" y="3905280"/>
              <a:ext cx="154080" cy="51912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18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5" y="23"/>
                  </a:lnTo>
                  <a:lnTo>
                    <a:pt x="67" y="26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4" y="208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8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08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43880" y="3905280"/>
              <a:ext cx="154080" cy="51912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18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5" y="23"/>
                  </a:lnTo>
                  <a:lnTo>
                    <a:pt x="67" y="26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4" y="208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8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08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29160" y="3860640"/>
              <a:ext cx="155520" cy="519120"/>
            </a:xfrm>
            <a:custGeom>
              <a:avLst/>
              <a:gdLst/>
              <a:ahLst/>
              <a:rect l="l" t="t" r="r" b="b"/>
              <a:pathLst>
                <a:path w="68" h="227">
                  <a:moveTo>
                    <a:pt x="0" y="32"/>
                  </a:moveTo>
                  <a:lnTo>
                    <a:pt x="2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2" y="9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8" y="23"/>
                  </a:lnTo>
                  <a:lnTo>
                    <a:pt x="68" y="26"/>
                  </a:lnTo>
                  <a:lnTo>
                    <a:pt x="68" y="32"/>
                  </a:lnTo>
                  <a:lnTo>
                    <a:pt x="68" y="193"/>
                  </a:lnTo>
                  <a:lnTo>
                    <a:pt x="68" y="199"/>
                  </a:lnTo>
                  <a:lnTo>
                    <a:pt x="68" y="204"/>
                  </a:lnTo>
                  <a:lnTo>
                    <a:pt x="64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5" y="225"/>
                  </a:lnTo>
                  <a:lnTo>
                    <a:pt x="41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4" y="225"/>
                  </a:lnTo>
                  <a:lnTo>
                    <a:pt x="20" y="224"/>
                  </a:lnTo>
                  <a:lnTo>
                    <a:pt x="16" y="222"/>
                  </a:lnTo>
                  <a:lnTo>
                    <a:pt x="12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29160" y="3860640"/>
              <a:ext cx="155520" cy="519120"/>
            </a:xfrm>
            <a:custGeom>
              <a:avLst/>
              <a:gdLst/>
              <a:ahLst/>
              <a:rect l="l" t="t" r="r" b="b"/>
              <a:pathLst>
                <a:path w="68" h="227">
                  <a:moveTo>
                    <a:pt x="0" y="32"/>
                  </a:moveTo>
                  <a:lnTo>
                    <a:pt x="2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2" y="9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8" y="23"/>
                  </a:lnTo>
                  <a:lnTo>
                    <a:pt x="68" y="26"/>
                  </a:lnTo>
                  <a:lnTo>
                    <a:pt x="68" y="32"/>
                  </a:lnTo>
                  <a:lnTo>
                    <a:pt x="68" y="193"/>
                  </a:lnTo>
                  <a:lnTo>
                    <a:pt x="68" y="199"/>
                  </a:lnTo>
                  <a:lnTo>
                    <a:pt x="68" y="204"/>
                  </a:lnTo>
                  <a:lnTo>
                    <a:pt x="64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5" y="225"/>
                  </a:lnTo>
                  <a:lnTo>
                    <a:pt x="41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4" y="225"/>
                  </a:lnTo>
                  <a:lnTo>
                    <a:pt x="20" y="224"/>
                  </a:lnTo>
                  <a:lnTo>
                    <a:pt x="16" y="222"/>
                  </a:lnTo>
                  <a:lnTo>
                    <a:pt x="12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60480" y="3884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63880" y="2886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20760" y="288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62160" y="288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003640" y="28479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60520" y="2847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05160" y="2847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54480" y="284796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938480" y="29304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62240" y="2930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07960" y="2930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51160" y="2930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097600" y="29304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13080" y="2930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43280" y="3728880"/>
              <a:ext cx="42840" cy="43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90800" y="338940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201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3" y="42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890800" y="338940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201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3" y="4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49800" y="3394080"/>
              <a:ext cx="463320" cy="9604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0" y="421"/>
                  </a:moveTo>
                  <a:lnTo>
                    <a:pt x="203" y="421"/>
                  </a:lnTo>
                  <a:lnTo>
                    <a:pt x="203" y="0"/>
                  </a:lnTo>
                  <a:lnTo>
                    <a:pt x="2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349800" y="3394080"/>
              <a:ext cx="463320" cy="9604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0" y="421"/>
                  </a:moveTo>
                  <a:lnTo>
                    <a:pt x="203" y="421"/>
                  </a:lnTo>
                  <a:lnTo>
                    <a:pt x="203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05280" y="3457440"/>
              <a:ext cx="515880" cy="825480"/>
            </a:xfrm>
            <a:custGeom>
              <a:avLst/>
              <a:gdLst/>
              <a:ahLst/>
              <a:rect l="l" t="t" r="r" b="b"/>
              <a:pathLst>
                <a:path w="226" h="362">
                  <a:moveTo>
                    <a:pt x="0" y="0"/>
                  </a:moveTo>
                  <a:lnTo>
                    <a:pt x="2" y="148"/>
                  </a:lnTo>
                  <a:lnTo>
                    <a:pt x="39" y="182"/>
                  </a:lnTo>
                  <a:lnTo>
                    <a:pt x="2" y="217"/>
                  </a:lnTo>
                  <a:lnTo>
                    <a:pt x="2" y="362"/>
                  </a:lnTo>
                  <a:lnTo>
                    <a:pt x="226" y="253"/>
                  </a:lnTo>
                  <a:lnTo>
                    <a:pt x="226" y="1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05280" y="3457440"/>
              <a:ext cx="515880" cy="825480"/>
            </a:xfrm>
            <a:custGeom>
              <a:avLst/>
              <a:gdLst/>
              <a:ahLst/>
              <a:rect l="l" t="t" r="r" b="b"/>
              <a:pathLst>
                <a:path w="226" h="362">
                  <a:moveTo>
                    <a:pt x="0" y="0"/>
                  </a:moveTo>
                  <a:lnTo>
                    <a:pt x="2" y="148"/>
                  </a:lnTo>
                  <a:lnTo>
                    <a:pt x="39" y="182"/>
                  </a:lnTo>
                  <a:lnTo>
                    <a:pt x="2" y="217"/>
                  </a:lnTo>
                  <a:lnTo>
                    <a:pt x="2" y="362"/>
                  </a:lnTo>
                  <a:lnTo>
                    <a:pt x="226" y="253"/>
                  </a:lnTo>
                  <a:lnTo>
                    <a:pt x="226" y="113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81480" y="2982960"/>
              <a:ext cx="252360" cy="40644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6" y="176"/>
                  </a:moveTo>
                  <a:lnTo>
                    <a:pt x="65" y="176"/>
                  </a:lnTo>
                  <a:lnTo>
                    <a:pt x="73" y="172"/>
                  </a:lnTo>
                  <a:lnTo>
                    <a:pt x="83" y="168"/>
                  </a:lnTo>
                  <a:lnTo>
                    <a:pt x="88" y="161"/>
                  </a:lnTo>
                  <a:lnTo>
                    <a:pt x="96" y="151"/>
                  </a:lnTo>
                  <a:lnTo>
                    <a:pt x="102" y="141"/>
                  </a:lnTo>
                  <a:lnTo>
                    <a:pt x="106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4"/>
                  </a:lnTo>
                  <a:lnTo>
                    <a:pt x="109" y="61"/>
                  </a:lnTo>
                  <a:lnTo>
                    <a:pt x="106" y="48"/>
                  </a:lnTo>
                  <a:lnTo>
                    <a:pt x="102" y="36"/>
                  </a:lnTo>
                  <a:lnTo>
                    <a:pt x="96" y="27"/>
                  </a:lnTo>
                  <a:lnTo>
                    <a:pt x="88" y="17"/>
                  </a:lnTo>
                  <a:lnTo>
                    <a:pt x="83" y="11"/>
                  </a:lnTo>
                  <a:lnTo>
                    <a:pt x="73" y="5"/>
                  </a:lnTo>
                  <a:lnTo>
                    <a:pt x="65" y="2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9" y="5"/>
                  </a:lnTo>
                  <a:lnTo>
                    <a:pt x="31" y="11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2" y="36"/>
                  </a:lnTo>
                  <a:lnTo>
                    <a:pt x="8" y="48"/>
                  </a:lnTo>
                  <a:lnTo>
                    <a:pt x="4" y="61"/>
                  </a:lnTo>
                  <a:lnTo>
                    <a:pt x="2" y="74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4" y="117"/>
                  </a:lnTo>
                  <a:lnTo>
                    <a:pt x="8" y="130"/>
                  </a:lnTo>
                  <a:lnTo>
                    <a:pt x="12" y="141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1" y="168"/>
                  </a:lnTo>
                  <a:lnTo>
                    <a:pt x="39" y="172"/>
                  </a:lnTo>
                  <a:lnTo>
                    <a:pt x="48" y="176"/>
                  </a:lnTo>
                  <a:lnTo>
                    <a:pt x="56" y="178"/>
                  </a:lnTo>
                  <a:lnTo>
                    <a:pt x="56" y="178"/>
                  </a:lnTo>
                  <a:lnTo>
                    <a:pt x="56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81480" y="2982960"/>
              <a:ext cx="252360" cy="40644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6" y="176"/>
                  </a:moveTo>
                  <a:lnTo>
                    <a:pt x="65" y="176"/>
                  </a:lnTo>
                  <a:lnTo>
                    <a:pt x="73" y="172"/>
                  </a:lnTo>
                  <a:lnTo>
                    <a:pt x="83" y="168"/>
                  </a:lnTo>
                  <a:lnTo>
                    <a:pt x="88" y="161"/>
                  </a:lnTo>
                  <a:lnTo>
                    <a:pt x="96" y="151"/>
                  </a:lnTo>
                  <a:lnTo>
                    <a:pt x="102" y="141"/>
                  </a:lnTo>
                  <a:lnTo>
                    <a:pt x="106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4"/>
                  </a:lnTo>
                  <a:lnTo>
                    <a:pt x="109" y="61"/>
                  </a:lnTo>
                  <a:lnTo>
                    <a:pt x="106" y="48"/>
                  </a:lnTo>
                  <a:lnTo>
                    <a:pt x="102" y="36"/>
                  </a:lnTo>
                  <a:lnTo>
                    <a:pt x="96" y="27"/>
                  </a:lnTo>
                  <a:lnTo>
                    <a:pt x="88" y="17"/>
                  </a:lnTo>
                  <a:lnTo>
                    <a:pt x="83" y="11"/>
                  </a:lnTo>
                  <a:lnTo>
                    <a:pt x="73" y="5"/>
                  </a:lnTo>
                  <a:lnTo>
                    <a:pt x="65" y="2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9" y="5"/>
                  </a:lnTo>
                  <a:lnTo>
                    <a:pt x="31" y="11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2" y="36"/>
                  </a:lnTo>
                  <a:lnTo>
                    <a:pt x="8" y="48"/>
                  </a:lnTo>
                  <a:lnTo>
                    <a:pt x="4" y="61"/>
                  </a:lnTo>
                  <a:lnTo>
                    <a:pt x="2" y="74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4" y="117"/>
                  </a:lnTo>
                  <a:lnTo>
                    <a:pt x="8" y="130"/>
                  </a:lnTo>
                  <a:lnTo>
                    <a:pt x="12" y="141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1" y="168"/>
                  </a:lnTo>
                  <a:lnTo>
                    <a:pt x="39" y="172"/>
                  </a:lnTo>
                  <a:lnTo>
                    <a:pt x="48" y="176"/>
                  </a:lnTo>
                  <a:lnTo>
                    <a:pt x="56" y="178"/>
                  </a:lnTo>
                  <a:lnTo>
                    <a:pt x="56" y="17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40160" y="3852720"/>
              <a:ext cx="41040" cy="428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540160" y="3728880"/>
              <a:ext cx="41040" cy="432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21080" y="30877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77960" y="308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22960" y="30877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38440" y="30877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466880" y="30877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487760" y="30877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12800" y="31878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28640" y="3187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74720" y="3187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93800" y="3187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422240" y="3187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42760" y="3187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08560" y="3384720"/>
              <a:ext cx="3240" cy="9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4533840" y="3182760"/>
              <a:ext cx="842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17840" y="3933720"/>
              <a:ext cx="1805040" cy="506520"/>
            </a:xfrm>
            <a:custGeom>
              <a:avLst/>
              <a:gdLst/>
              <a:ahLst/>
              <a:rect l="l" t="t" r="r" b="b"/>
              <a:pathLst>
                <a:path w="791" h="222">
                  <a:moveTo>
                    <a:pt x="791" y="220"/>
                  </a:moveTo>
                  <a:lnTo>
                    <a:pt x="0" y="22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085160" y="3978360"/>
              <a:ext cx="529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498680" y="1606680"/>
              <a:ext cx="4428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332000" y="1627200"/>
              <a:ext cx="557280" cy="1065240"/>
            </a:xfrm>
            <a:custGeom>
              <a:avLst/>
              <a:gdLst/>
              <a:ahLst/>
              <a:rect l="l" t="t" r="r" b="b"/>
              <a:pathLst>
                <a:path w="244" h="467">
                  <a:moveTo>
                    <a:pt x="83" y="0"/>
                  </a:moveTo>
                  <a:lnTo>
                    <a:pt x="0" y="0"/>
                  </a:lnTo>
                  <a:lnTo>
                    <a:pt x="0" y="262"/>
                  </a:lnTo>
                  <a:lnTo>
                    <a:pt x="244" y="262"/>
                  </a:lnTo>
                  <a:lnTo>
                    <a:pt x="244" y="4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73200" y="1492200"/>
              <a:ext cx="1120680" cy="2075040"/>
            </a:xfrm>
            <a:custGeom>
              <a:avLst/>
              <a:gdLst/>
              <a:ahLst/>
              <a:rect l="l" t="t" r="r" b="b"/>
              <a:pathLst>
                <a:path w="491" h="909">
                  <a:moveTo>
                    <a:pt x="40" y="907"/>
                  </a:moveTo>
                  <a:lnTo>
                    <a:pt x="0" y="909"/>
                  </a:lnTo>
                  <a:lnTo>
                    <a:pt x="0" y="0"/>
                  </a:lnTo>
                  <a:lnTo>
                    <a:pt x="491" y="0"/>
                  </a:lnTo>
                  <a:lnTo>
                    <a:pt x="491" y="142"/>
                  </a:lnTo>
                  <a:lnTo>
                    <a:pt x="450" y="1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7436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9488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4060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8416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804680" y="3822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83132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7884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1880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941120" y="38228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95696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0448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47640" y="1554120"/>
              <a:ext cx="152640" cy="5176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1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40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3" y="226"/>
                  </a:lnTo>
                  <a:lnTo>
                    <a:pt x="19" y="224"/>
                  </a:lnTo>
                  <a:lnTo>
                    <a:pt x="16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2" y="201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547640" y="1554120"/>
              <a:ext cx="152640" cy="5176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1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40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3" y="226"/>
                  </a:lnTo>
                  <a:lnTo>
                    <a:pt x="19" y="224"/>
                  </a:lnTo>
                  <a:lnTo>
                    <a:pt x="16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2" y="201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586160" y="16812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57440" y="168120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599840" y="176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47720" y="176364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599480" y="1841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79320" y="1576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579320" y="1946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595160" y="2643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47360" y="2643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95240" y="2643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0440" y="35164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73000" y="35164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78080" y="4297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197040" y="43480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70120" y="4348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297120" y="43480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18000" y="4348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43200" y="4348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86400" y="434808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97040" y="44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239880" y="44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86320" y="4429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12960" y="44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88160" y="4032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751880" y="403236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698960" y="4110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742160" y="41101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698600" y="4194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67808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173040" y="3822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23460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7924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326760" y="38228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4404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38436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40776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54200" y="3822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48084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93880" y="35323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0760" y="3532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99720" y="3532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741120" y="3532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794040" y="35323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54096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59028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634920" y="3616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66012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03320" y="3616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72528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593880" y="38433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650760" y="3843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699720" y="3843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741120" y="3843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794040" y="384336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54096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59028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634920" y="3927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66012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703320" y="3927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2528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25360" y="34113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86920" y="3411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030120" y="3411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080880" y="3411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21200" y="341136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925360" y="3494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95200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9988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044160" y="34941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060000" y="3494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104640" y="3494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12516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69800" y="3494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201480" y="3494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22200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925360" y="3660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986920" y="366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030120" y="366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0880" y="366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1200" y="366084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25360" y="3738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95200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9988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044160" y="37386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060000" y="3738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104640" y="3738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2516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169800" y="3738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01480" y="3738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2200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2668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6952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489120" y="4643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41320" y="4643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563280" y="4643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607920" y="4643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651120" y="464328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44124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488760" y="4745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530160" y="4745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5068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59820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64428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294080" y="3916440"/>
              <a:ext cx="44640" cy="41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1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25360" y="3905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04920" y="3905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30120" y="3905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047760" y="3905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67920" y="3905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117960" y="3905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925360" y="3989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952000" y="3989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999880" y="3989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44160" y="39895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60000" y="3989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04640" y="3989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125160" y="3989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69800" y="3989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925360" y="4148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04920" y="4148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30120" y="4148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47760" y="4148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67920" y="4148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17960" y="4148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925360" y="4233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972880" y="4233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15720" y="4233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39480" y="4233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860880" y="38862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922440" y="388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968520" y="388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011360" y="388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59600" y="388620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890760" y="3970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933600" y="3970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980040" y="39704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04880" y="3970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113520" y="3957480"/>
              <a:ext cx="41040" cy="432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5320800" y="3978360"/>
              <a:ext cx="80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197400" y="39276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24924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29712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343200" y="3927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37020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15920" y="3927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457320" y="3927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532200" y="40672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589080" y="4067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40200" y="4067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62160" y="4067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708600" y="4067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475320" y="4167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541560" y="4167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589800" y="4167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657480" y="4167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703560" y="41673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33440" y="416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60480" y="4254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49440" y="3848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06320" y="3848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248080" y="3848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311800" y="384804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087520" y="3927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11272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157000" y="3927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20164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243040" y="39276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263920" y="3927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70560" y="398952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38600" y="39895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584240" y="4067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33920" y="4067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583880" y="4148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909680" y="38228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96656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11560" y="3822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28920" y="37180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77880" y="3718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227200" y="3718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254200" y="3718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4689000" y="4119480"/>
              <a:ext cx="87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408560" y="4302000"/>
              <a:ext cx="95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3817800" y="3624120"/>
              <a:ext cx="9590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735360" y="4302000"/>
              <a:ext cx="673200" cy="435240"/>
            </a:xfrm>
            <a:custGeom>
              <a:avLst/>
              <a:gdLst/>
              <a:ahLst/>
              <a:rect l="l" t="t" r="r" b="b"/>
              <a:pathLst>
                <a:path w="295" h="191">
                  <a:moveTo>
                    <a:pt x="295" y="0"/>
                  </a:moveTo>
                  <a:lnTo>
                    <a:pt x="295" y="191"/>
                  </a:lnTo>
                  <a:lnTo>
                    <a:pt x="0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3249720" y="4684320"/>
              <a:ext cx="56880" cy="104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3787920" y="4684320"/>
              <a:ext cx="56880" cy="104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557440" y="3751200"/>
              <a:ext cx="3016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5840" y="3871800"/>
              <a:ext cx="4716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22400" y="3546360"/>
              <a:ext cx="3816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66960" y="2671920"/>
              <a:ext cx="38160" cy="442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57440" y="3503520"/>
              <a:ext cx="822240" cy="1233720"/>
            </a:xfrm>
            <a:custGeom>
              <a:avLst/>
              <a:gdLst/>
              <a:ahLst/>
              <a:rect l="l" t="t" r="r" b="b"/>
              <a:pathLst>
                <a:path w="360" h="541">
                  <a:moveTo>
                    <a:pt x="132" y="0"/>
                  </a:moveTo>
                  <a:lnTo>
                    <a:pt x="0" y="1"/>
                  </a:lnTo>
                  <a:lnTo>
                    <a:pt x="0" y="541"/>
                  </a:lnTo>
                  <a:lnTo>
                    <a:pt x="360" y="5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90920" y="4282920"/>
              <a:ext cx="38160" cy="399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25960" y="3962520"/>
              <a:ext cx="3816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1" y="17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540160" y="3973680"/>
              <a:ext cx="41040" cy="428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8" y="18"/>
                  </a:moveTo>
                  <a:lnTo>
                    <a:pt x="10" y="19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2290680" y="1195560"/>
              <a:ext cx="32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141800" y="1195560"/>
              <a:ext cx="14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5769000" y="1195560"/>
              <a:ext cx="14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7348680" y="1195560"/>
              <a:ext cx="14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697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907560" y="12096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964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36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792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1170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19808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2711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31076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3600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4407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5174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555920" y="1209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585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6696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747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79352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8316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909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19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235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778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519280" y="12096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6236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6618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064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442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2528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9001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93796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2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679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1446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183120" y="1209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214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9832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3746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4160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4984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58236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6507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736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8127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9002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936960" y="120960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69532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7442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8252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90700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93796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01104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5244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13344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18276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22236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6412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9256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271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40812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44916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4984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57804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6604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4500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64328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7430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77972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2112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91436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9906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0713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1447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2272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26680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78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389560" y="120960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3336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41936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953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8136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6270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1096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77936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5280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9384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9669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04828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08104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1541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3404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26680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34780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38956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2556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5036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5504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97852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7392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1974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238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28200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400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8036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6052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68304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3344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068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450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9271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00020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0736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1575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2556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469640" y="12096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60068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6989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7418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783920" y="12096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91820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966080" y="1209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0020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03880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1230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1626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2418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32428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39880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2" name=""/>
          <p:cNvGrpSpPr/>
          <p:nvPr/>
        </p:nvGrpSpPr>
        <p:grpSpPr>
          <a:xfrm>
            <a:off x="461880" y="919080"/>
            <a:ext cx="7968240" cy="3992760"/>
            <a:chOff x="461880" y="919080"/>
            <a:chExt cx="7968240" cy="3992760"/>
          </a:xfrm>
        </p:grpSpPr>
        <p:grpSp>
          <p:nvGrpSpPr>
            <p:cNvPr id="1043" name=""/>
            <p:cNvGrpSpPr/>
            <p:nvPr/>
          </p:nvGrpSpPr>
          <p:grpSpPr>
            <a:xfrm>
              <a:off x="461880" y="919080"/>
              <a:ext cx="7968240" cy="3992760"/>
              <a:chOff x="461880" y="919080"/>
              <a:chExt cx="7968240" cy="3992760"/>
            </a:xfrm>
          </p:grpSpPr>
          <p:sp>
            <p:nvSpPr>
              <p:cNvPr id="1044" name=""/>
              <p:cNvSpPr/>
              <p:nvPr/>
            </p:nvSpPr>
            <p:spPr>
              <a:xfrm>
                <a:off x="3308400" y="3043080"/>
                <a:ext cx="24444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308400" y="3043080"/>
                <a:ext cx="24444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248520" y="3043080"/>
                <a:ext cx="24444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248520" y="3043080"/>
                <a:ext cx="24444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981840" y="3043080"/>
                <a:ext cx="24588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81840" y="3043080"/>
                <a:ext cx="24588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7472520" y="3033720"/>
                <a:ext cx="144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7218360" y="3043080"/>
                <a:ext cx="254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7218360" y="3533760"/>
                <a:ext cx="254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063960" y="3043080"/>
                <a:ext cx="488880" cy="490680"/>
              </a:xfrm>
              <a:custGeom>
                <a:avLst/>
                <a:gdLst/>
                <a:ahLst/>
                <a:rect l="l" t="t" r="r" b="b"/>
                <a:pathLst>
                  <a:path w="308" h="309">
                    <a:moveTo>
                      <a:pt x="308" y="309"/>
                    </a:moveTo>
                    <a:lnTo>
                      <a:pt x="308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8" y="309"/>
                    </a:lnTo>
                    <a:lnTo>
                      <a:pt x="308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54760" y="3189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302640" y="318924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287960" y="3043080"/>
                <a:ext cx="24444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287960" y="3043080"/>
                <a:ext cx="24444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4043520" y="3033720"/>
                <a:ext cx="144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043520" y="3043080"/>
                <a:ext cx="253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043520" y="3533760"/>
                <a:ext cx="253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188960" y="31892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30380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39560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081760" y="279720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1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81760" y="279720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1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002280" y="3043080"/>
                <a:ext cx="490680" cy="490680"/>
              </a:xfrm>
              <a:custGeom>
                <a:avLst/>
                <a:gdLst/>
                <a:ahLst/>
                <a:rect l="l" t="t" r="r" b="b"/>
                <a:pathLst>
                  <a:path w="309" h="309">
                    <a:moveTo>
                      <a:pt x="309" y="309"/>
                    </a:moveTo>
                    <a:lnTo>
                      <a:pt x="309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9" y="309"/>
                    </a:lnTo>
                    <a:lnTo>
                      <a:pt x="309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162480" y="31892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280920" y="318924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127640" y="31892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24212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33572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552840" y="3287880"/>
                <a:ext cx="490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532400" y="3165480"/>
                <a:ext cx="549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532480" y="3287880"/>
                <a:ext cx="469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488280" y="3287880"/>
                <a:ext cx="4935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532400" y="3409920"/>
                <a:ext cx="549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921120" y="3165480"/>
                <a:ext cx="122400" cy="122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77"/>
                    </a:moveTo>
                    <a:lnTo>
                      <a:pt x="0" y="0"/>
                    </a:lnTo>
                    <a:lnTo>
                      <a:pt x="77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880240" y="3287880"/>
                <a:ext cx="857160" cy="368280"/>
              </a:xfrm>
              <a:custGeom>
                <a:avLst/>
                <a:gdLst/>
                <a:ahLst/>
                <a:rect l="l" t="t" r="r" b="b"/>
                <a:pathLst>
                  <a:path w="540" h="232">
                    <a:moveTo>
                      <a:pt x="0" y="0"/>
                    </a:moveTo>
                    <a:lnTo>
                      <a:pt x="0" y="232"/>
                    </a:lnTo>
                    <a:lnTo>
                      <a:pt x="463" y="232"/>
                    </a:lnTo>
                    <a:lnTo>
                      <a:pt x="463" y="77"/>
                    </a:lnTo>
                    <a:lnTo>
                      <a:pt x="54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266800" y="3174840"/>
                <a:ext cx="11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374440" y="31748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466960" y="31748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25448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25448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192800" y="4137120"/>
                <a:ext cx="24948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192800" y="4137120"/>
                <a:ext cx="24948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32600" y="4137120"/>
                <a:ext cx="244440" cy="490320"/>
              </a:xfrm>
              <a:custGeom>
                <a:avLst/>
                <a:gdLst/>
                <a:ahLst/>
                <a:rect l="l" t="t" r="r" b="b"/>
                <a:pathLst>
                  <a:path w="154" h="309">
                    <a:moveTo>
                      <a:pt x="151" y="309"/>
                    </a:moveTo>
                    <a:lnTo>
                      <a:pt x="0" y="309"/>
                    </a:lnTo>
                    <a:lnTo>
                      <a:pt x="0" y="0"/>
                    </a:lnTo>
                    <a:lnTo>
                      <a:pt x="154" y="0"/>
                    </a:lnTo>
                    <a:lnTo>
                      <a:pt x="151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32600" y="4137120"/>
                <a:ext cx="244440" cy="490320"/>
              </a:xfrm>
              <a:custGeom>
                <a:avLst/>
                <a:gdLst/>
                <a:ahLst/>
                <a:rect l="l" t="t" r="r" b="b"/>
                <a:pathLst>
                  <a:path w="154" h="309">
                    <a:moveTo>
                      <a:pt x="151" y="309"/>
                    </a:moveTo>
                    <a:lnTo>
                      <a:pt x="0" y="309"/>
                    </a:lnTo>
                    <a:lnTo>
                      <a:pt x="0" y="0"/>
                    </a:lnTo>
                    <a:lnTo>
                      <a:pt x="15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V="1">
                <a:off x="8418600" y="4127400"/>
                <a:ext cx="468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>
                <a:off x="8167320" y="4137120"/>
                <a:ext cx="2509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8167320" y="4627440"/>
                <a:ext cx="2509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013280" y="4137120"/>
                <a:ext cx="490320" cy="490320"/>
              </a:xfrm>
              <a:custGeom>
                <a:avLst/>
                <a:gdLst/>
                <a:ahLst/>
                <a:rect l="l" t="t" r="r" b="b"/>
                <a:pathLst>
                  <a:path w="309" h="309">
                    <a:moveTo>
                      <a:pt x="306" y="309"/>
                    </a:moveTo>
                    <a:lnTo>
                      <a:pt x="309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9" y="309"/>
                    </a:lnTo>
                    <a:lnTo>
                      <a:pt x="309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20084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253760" y="42829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23404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23404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4987800" y="4127400"/>
                <a:ext cx="648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987800" y="4137120"/>
                <a:ext cx="260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987800" y="4627440"/>
                <a:ext cx="2606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13828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25312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34168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032520" y="389088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0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032520" y="389088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0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953400" y="4137120"/>
                <a:ext cx="488880" cy="490320"/>
              </a:xfrm>
              <a:custGeom>
                <a:avLst/>
                <a:gdLst/>
                <a:ahLst/>
                <a:rect l="l" t="t" r="r" b="b"/>
                <a:pathLst>
                  <a:path w="308" h="309">
                    <a:moveTo>
                      <a:pt x="305" y="309"/>
                    </a:moveTo>
                    <a:lnTo>
                      <a:pt x="308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8" y="309"/>
                    </a:lnTo>
                    <a:lnTo>
                      <a:pt x="308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11324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231680" y="42829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807840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19288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28180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498920" y="4381560"/>
                <a:ext cx="495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478480" y="4259160"/>
                <a:ext cx="5540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83240" y="4381560"/>
                <a:ext cx="470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437600" y="4381560"/>
                <a:ext cx="495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478480" y="4503600"/>
                <a:ext cx="5540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865760" y="4259160"/>
                <a:ext cx="128520" cy="122400"/>
              </a:xfrm>
              <a:custGeom>
                <a:avLst/>
                <a:gdLst/>
                <a:ahLst/>
                <a:rect l="l" t="t" r="r" b="b"/>
                <a:pathLst>
                  <a:path w="81" h="77">
                    <a:moveTo>
                      <a:pt x="0" y="77"/>
                    </a:moveTo>
                    <a:lnTo>
                      <a:pt x="3" y="0"/>
                    </a:lnTo>
                    <a:lnTo>
                      <a:pt x="8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826320" y="4381560"/>
                <a:ext cx="861840" cy="368280"/>
              </a:xfrm>
              <a:custGeom>
                <a:avLst/>
                <a:gdLst/>
                <a:ahLst/>
                <a:rect l="l" t="t" r="r" b="b"/>
                <a:pathLst>
                  <a:path w="543" h="232">
                    <a:moveTo>
                      <a:pt x="0" y="0"/>
                    </a:moveTo>
                    <a:lnTo>
                      <a:pt x="3" y="232"/>
                    </a:lnTo>
                    <a:lnTo>
                      <a:pt x="466" y="232"/>
                    </a:lnTo>
                    <a:lnTo>
                      <a:pt x="466" y="77"/>
                    </a:lnTo>
                    <a:lnTo>
                      <a:pt x="54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216120" y="4268880"/>
                <a:ext cx="11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23760" y="4268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413040" y="426888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80836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78792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76892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74848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27680" y="1262160"/>
                <a:ext cx="180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707240" y="1262160"/>
                <a:ext cx="180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18088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29824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1344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45808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16044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27780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39300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43908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14000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25736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37256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41864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11956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23692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35176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39820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09876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21648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33132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37740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07832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19568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31232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35696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05932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17704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829188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833796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110680" y="91908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20680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241000" y="91908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237816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472120" y="9190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515320" y="9190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56896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0568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697480" y="9190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74212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82456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85732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95308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03084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113640" y="9190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15936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24216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32640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40236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44160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53088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614040" y="9190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86240" y="31798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19000" y="317988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938520" y="31798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9849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0767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164240" y="31798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213200" y="31798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25784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3467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4403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526400" y="31798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58652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67544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766160" y="31798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86240" y="428292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1900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93852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9849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0767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16424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21320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25784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3467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4403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526400" y="42829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58652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67544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766160" y="42829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01480" y="2008080"/>
                <a:ext cx="1800" cy="255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61880" y="4543560"/>
                <a:ext cx="84240" cy="838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49" y="0"/>
                    </a:moveTo>
                    <a:lnTo>
                      <a:pt x="0" y="0"/>
                    </a:lnTo>
                    <a:lnTo>
                      <a:pt x="25" y="53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94640" y="1193760"/>
                <a:ext cx="11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5520" y="119376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58800" y="11937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45920" y="11937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40600" y="119376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93520" y="11937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982080" y="119376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84320" y="1193760"/>
                <a:ext cx="2016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9212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85360" y="138420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6816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59240" y="138420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4204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929160" y="138420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978120" y="138420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01124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10232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157400" y="1384200"/>
                <a:ext cx="2016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92120" y="15811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86440" y="15811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39720" y="15811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31880" y="15811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21520" y="15811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39880" y="1581120"/>
                <a:ext cx="2016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2840" y="177624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46480" y="177624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8788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73560" y="1776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22520" y="177624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5924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51400" y="177624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929160" y="1776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972360" y="177624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03248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121040" y="177624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202040" y="1776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246320" y="177624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28088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1375200" y="17762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464120" y="17762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545480" y="1776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670200" y="1012680"/>
              <a:ext cx="29941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643800" y="97308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0"/>
                  </a:moveTo>
                  <a:lnTo>
                    <a:pt x="0" y="53"/>
                  </a:lnTo>
                  <a:lnTo>
                    <a:pt x="5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86240" y="2076480"/>
              <a:ext cx="37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1900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93852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9849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0767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16424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21320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25784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3467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4403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526400" y="20764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58652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67544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766160" y="20764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319480" y="1928880"/>
              <a:ext cx="24444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319480" y="1928880"/>
              <a:ext cx="24444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257800" y="1928880"/>
              <a:ext cx="24444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257800" y="1928880"/>
              <a:ext cx="24444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992920" y="1928880"/>
              <a:ext cx="24444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992920" y="1928880"/>
              <a:ext cx="24444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6483240" y="1919160"/>
              <a:ext cx="180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6227640" y="1928880"/>
              <a:ext cx="255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6227640" y="2419200"/>
              <a:ext cx="255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073240" y="1928880"/>
              <a:ext cx="490680" cy="49032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309"/>
                  </a:moveTo>
                  <a:lnTo>
                    <a:pt x="309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309" y="309"/>
                  </a:lnTo>
                  <a:lnTo>
                    <a:pt x="309" y="30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26584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13720" y="207648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98680" y="1928880"/>
              <a:ext cx="24480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298680" y="1928880"/>
              <a:ext cx="24480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3054240" y="1919160"/>
              <a:ext cx="180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054240" y="1928880"/>
              <a:ext cx="254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54240" y="2419200"/>
              <a:ext cx="254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19860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1308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40668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092480" y="1684440"/>
              <a:ext cx="451080" cy="976320"/>
            </a:xfrm>
            <a:custGeom>
              <a:avLst/>
              <a:gdLst/>
              <a:ahLst/>
              <a:rect l="l" t="t" r="r" b="b"/>
              <a:pathLst>
                <a:path w="284" h="615">
                  <a:moveTo>
                    <a:pt x="0" y="0"/>
                  </a:moveTo>
                  <a:lnTo>
                    <a:pt x="0" y="250"/>
                  </a:lnTo>
                  <a:lnTo>
                    <a:pt x="74" y="309"/>
                  </a:lnTo>
                  <a:lnTo>
                    <a:pt x="0" y="368"/>
                  </a:lnTo>
                  <a:lnTo>
                    <a:pt x="0" y="615"/>
                  </a:lnTo>
                  <a:lnTo>
                    <a:pt x="284" y="426"/>
                  </a:lnTo>
                  <a:lnTo>
                    <a:pt x="284" y="18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092480" y="1684440"/>
              <a:ext cx="451080" cy="976320"/>
            </a:xfrm>
            <a:custGeom>
              <a:avLst/>
              <a:gdLst/>
              <a:ahLst/>
              <a:rect l="l" t="t" r="r" b="b"/>
              <a:pathLst>
                <a:path w="284" h="615">
                  <a:moveTo>
                    <a:pt x="0" y="0"/>
                  </a:moveTo>
                  <a:lnTo>
                    <a:pt x="0" y="250"/>
                  </a:lnTo>
                  <a:lnTo>
                    <a:pt x="74" y="309"/>
                  </a:lnTo>
                  <a:lnTo>
                    <a:pt x="0" y="368"/>
                  </a:lnTo>
                  <a:lnTo>
                    <a:pt x="0" y="615"/>
                  </a:lnTo>
                  <a:lnTo>
                    <a:pt x="284" y="426"/>
                  </a:lnTo>
                  <a:lnTo>
                    <a:pt x="284" y="188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013360" y="1928880"/>
              <a:ext cx="488880" cy="490320"/>
            </a:xfrm>
            <a:custGeom>
              <a:avLst/>
              <a:gdLst/>
              <a:ahLst/>
              <a:rect l="l" t="t" r="r" b="b"/>
              <a:pathLst>
                <a:path w="308" h="309">
                  <a:moveTo>
                    <a:pt x="308" y="309"/>
                  </a:moveTo>
                  <a:lnTo>
                    <a:pt x="308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308" y="309"/>
                  </a:lnTo>
                  <a:lnTo>
                    <a:pt x="308" y="30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17320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292000" y="207648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13872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5320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34680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563920" y="2174760"/>
              <a:ext cx="490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43480" y="2052720"/>
              <a:ext cx="549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543560" y="2174760"/>
              <a:ext cx="469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497560" y="2174760"/>
              <a:ext cx="495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543480" y="2297160"/>
              <a:ext cx="549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930400" y="2052720"/>
              <a:ext cx="123840" cy="1220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0" y="77"/>
                  </a:moveTo>
                  <a:lnTo>
                    <a:pt x="0" y="0"/>
                  </a:lnTo>
                  <a:lnTo>
                    <a:pt x="7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890960" y="2174760"/>
              <a:ext cx="857520" cy="368280"/>
            </a:xfrm>
            <a:custGeom>
              <a:avLst/>
              <a:gdLst/>
              <a:ahLst/>
              <a:rect l="l" t="t" r="r" b="b"/>
              <a:pathLst>
                <a:path w="540" h="232">
                  <a:moveTo>
                    <a:pt x="0" y="0"/>
                  </a:moveTo>
                  <a:lnTo>
                    <a:pt x="0" y="232"/>
                  </a:lnTo>
                  <a:lnTo>
                    <a:pt x="463" y="232"/>
                  </a:lnTo>
                  <a:lnTo>
                    <a:pt x="463" y="77"/>
                  </a:lnTo>
                  <a:lnTo>
                    <a:pt x="54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276080" y="206208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383720" y="2062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473360" y="20620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a representação para o pipe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362880" y="5087160"/>
            <a:ext cx="8265240" cy="148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churado representa “atividad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ação alternativa: imaginando que cada instrução tenha a sua própria via de d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ra representação: foto no temp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d Data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378720" y="98856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que é produzido em cada estágio é armazenado em um registrador de pipeline para uso pelo próximo estág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as com o endereço do registrador de escrita?? Caminhando para esquerd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523800" y="870120"/>
            <a:ext cx="8086320" cy="4310640"/>
            <a:chOff x="523800" y="870120"/>
            <a:chExt cx="8086320" cy="4310640"/>
          </a:xfrm>
        </p:grpSpPr>
        <p:grpSp>
          <p:nvGrpSpPr>
            <p:cNvPr id="1306" name=""/>
            <p:cNvGrpSpPr/>
            <p:nvPr/>
          </p:nvGrpSpPr>
          <p:grpSpPr>
            <a:xfrm>
              <a:off x="523800" y="870120"/>
              <a:ext cx="7980480" cy="4171680"/>
              <a:chOff x="523800" y="870120"/>
              <a:chExt cx="7980480" cy="4171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2952720" y="36489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9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635560" y="3672000"/>
                <a:ext cx="3380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4502880" y="3603240"/>
                <a:ext cx="3117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428160" y="3656520"/>
                <a:ext cx="1439640" cy="848520"/>
              </a:xfrm>
              <a:custGeom>
                <a:avLst/>
                <a:gdLst/>
                <a:ahLst/>
                <a:rect l="l" t="t" r="r" b="b"/>
                <a:pathLst>
                  <a:path w="563" h="332">
                    <a:moveTo>
                      <a:pt x="563" y="332"/>
                    </a:moveTo>
                    <a:lnTo>
                      <a:pt x="0" y="33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8092800" y="4062960"/>
                <a:ext cx="207000" cy="442080"/>
              </a:xfrm>
              <a:custGeom>
                <a:avLst/>
                <a:gdLst/>
                <a:ahLst/>
                <a:rect l="l" t="t" r="r" b="b"/>
                <a:pathLst>
                  <a:path w="81" h="173">
                    <a:moveTo>
                      <a:pt x="81" y="0"/>
                    </a:moveTo>
                    <a:lnTo>
                      <a:pt x="41" y="2"/>
                    </a:lnTo>
                    <a:lnTo>
                      <a:pt x="41" y="173"/>
                    </a:lnTo>
                    <a:lnTo>
                      <a:pt x="0" y="17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325920" y="3418560"/>
                <a:ext cx="10188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417720" y="339336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365120" y="1437480"/>
                <a:ext cx="5528520" cy="1055520"/>
              </a:xfrm>
              <a:custGeom>
                <a:avLst/>
                <a:gdLst/>
                <a:ahLst/>
                <a:rect l="l" t="t" r="r" b="b"/>
                <a:pathLst>
                  <a:path w="2162" h="413">
                    <a:moveTo>
                      <a:pt x="42" y="0"/>
                    </a:moveTo>
                    <a:lnTo>
                      <a:pt x="0" y="0"/>
                    </a:lnTo>
                    <a:lnTo>
                      <a:pt x="0" y="61"/>
                    </a:lnTo>
                    <a:lnTo>
                      <a:pt x="2162" y="61"/>
                    </a:lnTo>
                    <a:lnTo>
                      <a:pt x="2162" y="413"/>
                    </a:lnTo>
                    <a:lnTo>
                      <a:pt x="1940" y="41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727600" y="3418560"/>
                <a:ext cx="37044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090480" y="33933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59160" y="2953800"/>
                <a:ext cx="171000" cy="477720"/>
              </a:xfrm>
              <a:custGeom>
                <a:avLst/>
                <a:gdLst/>
                <a:ahLst/>
                <a:rect l="l" t="t" r="r" b="b"/>
                <a:pathLst>
                  <a:path w="67" h="187">
                    <a:moveTo>
                      <a:pt x="67" y="18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87"/>
                    </a:lnTo>
                    <a:lnTo>
                      <a:pt x="67" y="187"/>
                    </a:lnTo>
                    <a:lnTo>
                      <a:pt x="67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59160" y="2953800"/>
                <a:ext cx="171000" cy="477720"/>
              </a:xfrm>
              <a:custGeom>
                <a:avLst/>
                <a:gdLst/>
                <a:ahLst/>
                <a:rect l="l" t="t" r="r" b="b"/>
                <a:pathLst>
                  <a:path w="67" h="187">
                    <a:moveTo>
                      <a:pt x="67" y="18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87"/>
                    </a:lnTo>
                    <a:lnTo>
                      <a:pt x="67" y="187"/>
                    </a:lnTo>
                    <a:lnTo>
                      <a:pt x="67" y="18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076400" y="2997360"/>
                <a:ext cx="513720" cy="107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076400" y="2997360"/>
                <a:ext cx="513720" cy="10760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590120" y="2997360"/>
                <a:ext cx="521280" cy="107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590120" y="2997360"/>
                <a:ext cx="521280" cy="10760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365120" y="3423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38960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443960" y="3423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487520" y="3423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513440" y="3423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54548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594800" y="3423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641240" y="3423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668600" y="34239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68876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73736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791720" y="342396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427760" y="3536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501920" y="3536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557000" y="3536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630080" y="3536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684440" y="3536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712520" y="3536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116360" y="31298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174680" y="312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223280" y="312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278000" y="31298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05000" y="312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359360" y="3129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405800" y="3129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673320" y="3286080"/>
                <a:ext cx="514080" cy="1081080"/>
              </a:xfrm>
              <a:custGeom>
                <a:avLst/>
                <a:gdLst/>
                <a:ahLst/>
                <a:rect l="l" t="t" r="r" b="b"/>
                <a:pathLst>
                  <a:path w="201" h="423">
                    <a:moveTo>
                      <a:pt x="201" y="0"/>
                    </a:moveTo>
                    <a:lnTo>
                      <a:pt x="0" y="2"/>
                    </a:lnTo>
                    <a:lnTo>
                      <a:pt x="0" y="423"/>
                    </a:lnTo>
                    <a:lnTo>
                      <a:pt x="201" y="423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673320" y="3286080"/>
                <a:ext cx="514080" cy="1081080"/>
              </a:xfrm>
              <a:custGeom>
                <a:avLst/>
                <a:gdLst/>
                <a:ahLst/>
                <a:rect l="l" t="t" r="r" b="b"/>
                <a:pathLst>
                  <a:path w="201" h="423">
                    <a:moveTo>
                      <a:pt x="201" y="0"/>
                    </a:moveTo>
                    <a:lnTo>
                      <a:pt x="0" y="2"/>
                    </a:lnTo>
                    <a:lnTo>
                      <a:pt x="0" y="423"/>
                    </a:lnTo>
                    <a:lnTo>
                      <a:pt x="201" y="42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187760" y="3291120"/>
                <a:ext cx="518760" cy="107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187760" y="3291120"/>
                <a:ext cx="518760" cy="10760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952720" y="30992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952720" y="3927600"/>
                <a:ext cx="4860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2" y="17"/>
                    </a:lnTo>
                    <a:lnTo>
                      <a:pt x="19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935280" y="1940760"/>
                <a:ext cx="470160" cy="1252800"/>
              </a:xfrm>
              <a:custGeom>
                <a:avLst/>
                <a:gdLst/>
                <a:ahLst/>
                <a:rect l="l" t="t" r="r" b="b"/>
                <a:pathLst>
                  <a:path w="184" h="490">
                    <a:moveTo>
                      <a:pt x="184" y="0"/>
                    </a:moveTo>
                    <a:lnTo>
                      <a:pt x="0" y="0"/>
                    </a:lnTo>
                    <a:lnTo>
                      <a:pt x="0" y="4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1234080" y="2487960"/>
                <a:ext cx="1710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439280" y="1754640"/>
                <a:ext cx="299160" cy="925200"/>
              </a:xfrm>
              <a:custGeom>
                <a:avLst/>
                <a:gdLst/>
                <a:ahLst/>
                <a:rect l="l" t="t" r="r" b="b"/>
                <a:pathLst>
                  <a:path w="117" h="362">
                    <a:moveTo>
                      <a:pt x="0" y="0"/>
                    </a:moveTo>
                    <a:lnTo>
                      <a:pt x="0" y="145"/>
                    </a:lnTo>
                    <a:lnTo>
                      <a:pt x="38" y="180"/>
                    </a:lnTo>
                    <a:lnTo>
                      <a:pt x="0" y="214"/>
                    </a:lnTo>
                    <a:lnTo>
                      <a:pt x="0" y="362"/>
                    </a:lnTo>
                    <a:lnTo>
                      <a:pt x="117" y="251"/>
                    </a:lnTo>
                    <a:lnTo>
                      <a:pt x="117" y="1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439280" y="1754640"/>
                <a:ext cx="299160" cy="925200"/>
              </a:xfrm>
              <a:custGeom>
                <a:avLst/>
                <a:gdLst/>
                <a:ahLst/>
                <a:rect l="l" t="t" r="r" b="b"/>
                <a:pathLst>
                  <a:path w="117" h="362">
                    <a:moveTo>
                      <a:pt x="0" y="0"/>
                    </a:moveTo>
                    <a:lnTo>
                      <a:pt x="0" y="145"/>
                    </a:lnTo>
                    <a:lnTo>
                      <a:pt x="38" y="180"/>
                    </a:lnTo>
                    <a:lnTo>
                      <a:pt x="0" y="214"/>
                    </a:lnTo>
                    <a:lnTo>
                      <a:pt x="0" y="362"/>
                    </a:lnTo>
                    <a:lnTo>
                      <a:pt x="117" y="251"/>
                    </a:lnTo>
                    <a:lnTo>
                      <a:pt x="117" y="1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791600" y="35798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791600" y="3993840"/>
                <a:ext cx="48600" cy="460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103720" y="3789720"/>
                <a:ext cx="45720" cy="432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103720" y="3237120"/>
                <a:ext cx="45720" cy="4860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8279640" y="3628440"/>
                <a:ext cx="4788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8279640" y="4045320"/>
                <a:ext cx="4788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0" y="17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620040" y="414756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385280" y="191520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385280" y="246492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139040" y="2434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4502880" y="2214360"/>
                <a:ext cx="4392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986000" y="2027880"/>
                <a:ext cx="574920" cy="925920"/>
              </a:xfrm>
              <a:custGeom>
                <a:avLst/>
                <a:gdLst/>
                <a:ahLst/>
                <a:rect l="l" t="t" r="r" b="b"/>
                <a:pathLst>
                  <a:path w="225" h="362">
                    <a:moveTo>
                      <a:pt x="0" y="0"/>
                    </a:moveTo>
                    <a:lnTo>
                      <a:pt x="0" y="146"/>
                    </a:lnTo>
                    <a:lnTo>
                      <a:pt x="39" y="182"/>
                    </a:lnTo>
                    <a:lnTo>
                      <a:pt x="0" y="216"/>
                    </a:lnTo>
                    <a:lnTo>
                      <a:pt x="0" y="362"/>
                    </a:lnTo>
                    <a:lnTo>
                      <a:pt x="225" y="251"/>
                    </a:lnTo>
                    <a:lnTo>
                      <a:pt x="225" y="1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986000" y="2027880"/>
                <a:ext cx="574920" cy="925920"/>
              </a:xfrm>
              <a:custGeom>
                <a:avLst/>
                <a:gdLst/>
                <a:ahLst/>
                <a:rect l="l" t="t" r="r" b="b"/>
                <a:pathLst>
                  <a:path w="225" h="362">
                    <a:moveTo>
                      <a:pt x="0" y="0"/>
                    </a:moveTo>
                    <a:lnTo>
                      <a:pt x="0" y="146"/>
                    </a:lnTo>
                    <a:lnTo>
                      <a:pt x="39" y="182"/>
                    </a:lnTo>
                    <a:lnTo>
                      <a:pt x="0" y="216"/>
                    </a:lnTo>
                    <a:lnTo>
                      <a:pt x="0" y="362"/>
                    </a:lnTo>
                    <a:lnTo>
                      <a:pt x="225" y="251"/>
                    </a:lnTo>
                    <a:lnTo>
                      <a:pt x="225" y="1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5566320" y="2487960"/>
                <a:ext cx="5421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090480" y="246492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30520" y="3193920"/>
                <a:ext cx="2070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022400" y="31683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05520" y="31683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540600" y="4484880"/>
                <a:ext cx="4860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2" y="17"/>
                    </a:lnTo>
                    <a:lnTo>
                      <a:pt x="19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3600000" y="4142160"/>
                <a:ext cx="342360" cy="728640"/>
              </a:xfrm>
              <a:custGeom>
                <a:avLst/>
                <a:gdLst/>
                <a:ahLst/>
                <a:rect l="l" t="t" r="r" b="b"/>
                <a:pathLst>
                  <a:path w="134" h="285">
                    <a:moveTo>
                      <a:pt x="65" y="285"/>
                    </a:moveTo>
                    <a:lnTo>
                      <a:pt x="77" y="283"/>
                    </a:lnTo>
                    <a:lnTo>
                      <a:pt x="88" y="279"/>
                    </a:lnTo>
                    <a:lnTo>
                      <a:pt x="98" y="270"/>
                    </a:lnTo>
                    <a:lnTo>
                      <a:pt x="106" y="258"/>
                    </a:lnTo>
                    <a:lnTo>
                      <a:pt x="115" y="243"/>
                    </a:lnTo>
                    <a:lnTo>
                      <a:pt x="121" y="228"/>
                    </a:lnTo>
                    <a:lnTo>
                      <a:pt x="127" y="208"/>
                    </a:lnTo>
                    <a:lnTo>
                      <a:pt x="130" y="187"/>
                    </a:lnTo>
                    <a:lnTo>
                      <a:pt x="132" y="166"/>
                    </a:lnTo>
                    <a:lnTo>
                      <a:pt x="134" y="143"/>
                    </a:lnTo>
                    <a:lnTo>
                      <a:pt x="132" y="120"/>
                    </a:lnTo>
                    <a:lnTo>
                      <a:pt x="130" y="98"/>
                    </a:lnTo>
                    <a:lnTo>
                      <a:pt x="127" y="76"/>
                    </a:lnTo>
                    <a:lnTo>
                      <a:pt x="121" y="59"/>
                    </a:lnTo>
                    <a:lnTo>
                      <a:pt x="115" y="42"/>
                    </a:lnTo>
                    <a:lnTo>
                      <a:pt x="106" y="27"/>
                    </a:lnTo>
                    <a:lnTo>
                      <a:pt x="98" y="15"/>
                    </a:lnTo>
                    <a:lnTo>
                      <a:pt x="88" y="8"/>
                    </a:lnTo>
                    <a:lnTo>
                      <a:pt x="77" y="2"/>
                    </a:lnTo>
                    <a:lnTo>
                      <a:pt x="67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7" y="15"/>
                    </a:lnTo>
                    <a:lnTo>
                      <a:pt x="27" y="27"/>
                    </a:lnTo>
                    <a:lnTo>
                      <a:pt x="19" y="42"/>
                    </a:lnTo>
                    <a:lnTo>
                      <a:pt x="12" y="59"/>
                    </a:lnTo>
                    <a:lnTo>
                      <a:pt x="6" y="76"/>
                    </a:lnTo>
                    <a:lnTo>
                      <a:pt x="2" y="98"/>
                    </a:lnTo>
                    <a:lnTo>
                      <a:pt x="0" y="120"/>
                    </a:lnTo>
                    <a:lnTo>
                      <a:pt x="0" y="143"/>
                    </a:lnTo>
                    <a:lnTo>
                      <a:pt x="0" y="166"/>
                    </a:lnTo>
                    <a:lnTo>
                      <a:pt x="2" y="187"/>
                    </a:lnTo>
                    <a:lnTo>
                      <a:pt x="6" y="208"/>
                    </a:lnTo>
                    <a:lnTo>
                      <a:pt x="12" y="228"/>
                    </a:lnTo>
                    <a:lnTo>
                      <a:pt x="19" y="243"/>
                    </a:lnTo>
                    <a:lnTo>
                      <a:pt x="27" y="258"/>
                    </a:lnTo>
                    <a:lnTo>
                      <a:pt x="37" y="270"/>
                    </a:lnTo>
                    <a:lnTo>
                      <a:pt x="46" y="279"/>
                    </a:lnTo>
                    <a:lnTo>
                      <a:pt x="56" y="283"/>
                    </a:lnTo>
                    <a:lnTo>
                      <a:pt x="67" y="285"/>
                    </a:lnTo>
                    <a:lnTo>
                      <a:pt x="67" y="285"/>
                    </a:lnTo>
                    <a:lnTo>
                      <a:pt x="65" y="2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600000" y="4142160"/>
                <a:ext cx="342360" cy="728640"/>
              </a:xfrm>
              <a:custGeom>
                <a:avLst/>
                <a:gdLst/>
                <a:ahLst/>
                <a:rect l="l" t="t" r="r" b="b"/>
                <a:pathLst>
                  <a:path w="134" h="285">
                    <a:moveTo>
                      <a:pt x="65" y="285"/>
                    </a:moveTo>
                    <a:lnTo>
                      <a:pt x="77" y="283"/>
                    </a:lnTo>
                    <a:lnTo>
                      <a:pt x="88" y="279"/>
                    </a:lnTo>
                    <a:lnTo>
                      <a:pt x="98" y="270"/>
                    </a:lnTo>
                    <a:lnTo>
                      <a:pt x="106" y="258"/>
                    </a:lnTo>
                    <a:lnTo>
                      <a:pt x="115" y="243"/>
                    </a:lnTo>
                    <a:lnTo>
                      <a:pt x="121" y="228"/>
                    </a:lnTo>
                    <a:lnTo>
                      <a:pt x="127" y="208"/>
                    </a:lnTo>
                    <a:lnTo>
                      <a:pt x="130" y="187"/>
                    </a:lnTo>
                    <a:lnTo>
                      <a:pt x="132" y="166"/>
                    </a:lnTo>
                    <a:lnTo>
                      <a:pt x="134" y="143"/>
                    </a:lnTo>
                    <a:lnTo>
                      <a:pt x="132" y="120"/>
                    </a:lnTo>
                    <a:lnTo>
                      <a:pt x="130" y="98"/>
                    </a:lnTo>
                    <a:lnTo>
                      <a:pt x="127" y="76"/>
                    </a:lnTo>
                    <a:lnTo>
                      <a:pt x="121" y="59"/>
                    </a:lnTo>
                    <a:lnTo>
                      <a:pt x="115" y="42"/>
                    </a:lnTo>
                    <a:lnTo>
                      <a:pt x="106" y="27"/>
                    </a:lnTo>
                    <a:lnTo>
                      <a:pt x="98" y="15"/>
                    </a:lnTo>
                    <a:lnTo>
                      <a:pt x="88" y="8"/>
                    </a:lnTo>
                    <a:lnTo>
                      <a:pt x="77" y="2"/>
                    </a:lnTo>
                    <a:lnTo>
                      <a:pt x="67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7" y="15"/>
                    </a:lnTo>
                    <a:lnTo>
                      <a:pt x="27" y="27"/>
                    </a:lnTo>
                    <a:lnTo>
                      <a:pt x="19" y="42"/>
                    </a:lnTo>
                    <a:lnTo>
                      <a:pt x="12" y="59"/>
                    </a:lnTo>
                    <a:lnTo>
                      <a:pt x="6" y="76"/>
                    </a:lnTo>
                    <a:lnTo>
                      <a:pt x="2" y="98"/>
                    </a:lnTo>
                    <a:lnTo>
                      <a:pt x="0" y="120"/>
                    </a:lnTo>
                    <a:lnTo>
                      <a:pt x="0" y="143"/>
                    </a:lnTo>
                    <a:lnTo>
                      <a:pt x="0" y="166"/>
                    </a:lnTo>
                    <a:lnTo>
                      <a:pt x="2" y="187"/>
                    </a:lnTo>
                    <a:lnTo>
                      <a:pt x="6" y="208"/>
                    </a:lnTo>
                    <a:lnTo>
                      <a:pt x="12" y="228"/>
                    </a:lnTo>
                    <a:lnTo>
                      <a:pt x="19" y="243"/>
                    </a:lnTo>
                    <a:lnTo>
                      <a:pt x="27" y="258"/>
                    </a:lnTo>
                    <a:lnTo>
                      <a:pt x="37" y="270"/>
                    </a:lnTo>
                    <a:lnTo>
                      <a:pt x="46" y="279"/>
                    </a:lnTo>
                    <a:lnTo>
                      <a:pt x="56" y="283"/>
                    </a:lnTo>
                    <a:lnTo>
                      <a:pt x="67" y="285"/>
                    </a:lnTo>
                    <a:lnTo>
                      <a:pt x="67" y="28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3987720" y="4323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035960" y="4323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937040" y="2188800"/>
                <a:ext cx="46080" cy="4860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937040" y="2743920"/>
                <a:ext cx="46080" cy="432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8332920" y="3569400"/>
                <a:ext cx="17136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0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8" y="10"/>
                    </a:lnTo>
                    <a:lnTo>
                      <a:pt x="62" y="13"/>
                    </a:lnTo>
                    <a:lnTo>
                      <a:pt x="63" y="17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2" y="214"/>
                    </a:lnTo>
                    <a:lnTo>
                      <a:pt x="58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39" y="228"/>
                    </a:lnTo>
                    <a:lnTo>
                      <a:pt x="35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7" y="224"/>
                    </a:lnTo>
                    <a:lnTo>
                      <a:pt x="14" y="222"/>
                    </a:lnTo>
                    <a:lnTo>
                      <a:pt x="10" y="218"/>
                    </a:lnTo>
                    <a:lnTo>
                      <a:pt x="6" y="214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0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8332920" y="3569400"/>
                <a:ext cx="17136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0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8" y="10"/>
                    </a:lnTo>
                    <a:lnTo>
                      <a:pt x="62" y="13"/>
                    </a:lnTo>
                    <a:lnTo>
                      <a:pt x="63" y="17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2" y="214"/>
                    </a:lnTo>
                    <a:lnTo>
                      <a:pt x="58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39" y="228"/>
                    </a:lnTo>
                    <a:lnTo>
                      <a:pt x="35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7" y="224"/>
                    </a:lnTo>
                    <a:lnTo>
                      <a:pt x="14" y="222"/>
                    </a:lnTo>
                    <a:lnTo>
                      <a:pt x="10" y="218"/>
                    </a:lnTo>
                    <a:lnTo>
                      <a:pt x="6" y="214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0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844880" y="3521160"/>
                <a:ext cx="171360" cy="58248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2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1" y="9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7" y="9"/>
                    </a:lnTo>
                    <a:lnTo>
                      <a:pt x="61" y="13"/>
                    </a:lnTo>
                    <a:lnTo>
                      <a:pt x="63" y="17"/>
                    </a:lnTo>
                    <a:lnTo>
                      <a:pt x="67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7" y="205"/>
                    </a:lnTo>
                    <a:lnTo>
                      <a:pt x="63" y="210"/>
                    </a:lnTo>
                    <a:lnTo>
                      <a:pt x="61" y="214"/>
                    </a:lnTo>
                    <a:lnTo>
                      <a:pt x="57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1" y="218"/>
                    </a:lnTo>
                    <a:lnTo>
                      <a:pt x="8" y="214"/>
                    </a:lnTo>
                    <a:lnTo>
                      <a:pt x="4" y="210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44880" y="3521160"/>
                <a:ext cx="171360" cy="58248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2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1" y="9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7" y="9"/>
                    </a:lnTo>
                    <a:lnTo>
                      <a:pt x="61" y="13"/>
                    </a:lnTo>
                    <a:lnTo>
                      <a:pt x="63" y="17"/>
                    </a:lnTo>
                    <a:lnTo>
                      <a:pt x="67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7" y="205"/>
                    </a:lnTo>
                    <a:lnTo>
                      <a:pt x="63" y="210"/>
                    </a:lnTo>
                    <a:lnTo>
                      <a:pt x="61" y="214"/>
                    </a:lnTo>
                    <a:lnTo>
                      <a:pt x="57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1" y="218"/>
                    </a:lnTo>
                    <a:lnTo>
                      <a:pt x="8" y="214"/>
                    </a:lnTo>
                    <a:lnTo>
                      <a:pt x="4" y="210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877640" y="355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103360" y="24343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166720" y="2434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214960" y="2434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374440" y="23860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437440" y="238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486040" y="238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540760" y="238608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300280" y="2480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330160" y="2480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379120" y="2480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427360" y="2480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476320" y="24807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497200" y="24807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952720" y="3372840"/>
                <a:ext cx="48600" cy="507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2" y="20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006720" y="2997360"/>
                <a:ext cx="518760" cy="1076040"/>
              </a:xfrm>
              <a:custGeom>
                <a:avLst/>
                <a:gdLst/>
                <a:ahLst/>
                <a:rect l="l" t="t" r="r" b="b"/>
                <a:pathLst>
                  <a:path w="203" h="421">
                    <a:moveTo>
                      <a:pt x="201" y="0"/>
                    </a:moveTo>
                    <a:lnTo>
                      <a:pt x="0" y="0"/>
                    </a:lnTo>
                    <a:lnTo>
                      <a:pt x="0" y="421"/>
                    </a:lnTo>
                    <a:lnTo>
                      <a:pt x="203" y="421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3006720" y="2997360"/>
                <a:ext cx="518760" cy="1076040"/>
              </a:xfrm>
              <a:custGeom>
                <a:avLst/>
                <a:gdLst/>
                <a:ahLst/>
                <a:rect l="l" t="t" r="r" b="b"/>
                <a:pathLst>
                  <a:path w="203" h="421">
                    <a:moveTo>
                      <a:pt x="201" y="0"/>
                    </a:moveTo>
                    <a:lnTo>
                      <a:pt x="0" y="0"/>
                    </a:lnTo>
                    <a:lnTo>
                      <a:pt x="0" y="421"/>
                    </a:lnTo>
                    <a:lnTo>
                      <a:pt x="203" y="4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520440" y="2997360"/>
                <a:ext cx="521640" cy="1076040"/>
              </a:xfrm>
              <a:custGeom>
                <a:avLst/>
                <a:gdLst/>
                <a:ahLst/>
                <a:rect l="l" t="t" r="r" b="b"/>
                <a:pathLst>
                  <a:path w="204" h="421">
                    <a:moveTo>
                      <a:pt x="0" y="421"/>
                    </a:moveTo>
                    <a:lnTo>
                      <a:pt x="204" y="421"/>
                    </a:lnTo>
                    <a:lnTo>
                      <a:pt x="204" y="0"/>
                    </a:lnTo>
                    <a:lnTo>
                      <a:pt x="2" y="0"/>
                    </a:lnTo>
                    <a:lnTo>
                      <a:pt x="0" y="4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520440" y="2997360"/>
                <a:ext cx="521640" cy="1076040"/>
              </a:xfrm>
              <a:custGeom>
                <a:avLst/>
                <a:gdLst/>
                <a:ahLst/>
                <a:rect l="l" t="t" r="r" b="b"/>
                <a:pathLst>
                  <a:path w="204" h="421">
                    <a:moveTo>
                      <a:pt x="0" y="421"/>
                    </a:moveTo>
                    <a:lnTo>
                      <a:pt x="204" y="421"/>
                    </a:lnTo>
                    <a:lnTo>
                      <a:pt x="204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154480" y="3076200"/>
                <a:ext cx="577800" cy="922680"/>
              </a:xfrm>
              <a:custGeom>
                <a:avLst/>
                <a:gdLst/>
                <a:ahLst/>
                <a:rect l="l" t="t" r="r" b="b"/>
                <a:pathLst>
                  <a:path w="226" h="361">
                    <a:moveTo>
                      <a:pt x="0" y="0"/>
                    </a:moveTo>
                    <a:lnTo>
                      <a:pt x="1" y="145"/>
                    </a:lnTo>
                    <a:lnTo>
                      <a:pt x="38" y="180"/>
                    </a:lnTo>
                    <a:lnTo>
                      <a:pt x="1" y="216"/>
                    </a:lnTo>
                    <a:lnTo>
                      <a:pt x="1" y="361"/>
                    </a:lnTo>
                    <a:lnTo>
                      <a:pt x="226" y="250"/>
                    </a:lnTo>
                    <a:lnTo>
                      <a:pt x="226" y="1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154480" y="3076200"/>
                <a:ext cx="577800" cy="922680"/>
              </a:xfrm>
              <a:custGeom>
                <a:avLst/>
                <a:gdLst/>
                <a:ahLst/>
                <a:rect l="l" t="t" r="r" b="b"/>
                <a:pathLst>
                  <a:path w="226" h="361">
                    <a:moveTo>
                      <a:pt x="0" y="0"/>
                    </a:moveTo>
                    <a:lnTo>
                      <a:pt x="1" y="145"/>
                    </a:lnTo>
                    <a:lnTo>
                      <a:pt x="38" y="180"/>
                    </a:lnTo>
                    <a:lnTo>
                      <a:pt x="1" y="216"/>
                    </a:lnTo>
                    <a:lnTo>
                      <a:pt x="1" y="361"/>
                    </a:lnTo>
                    <a:lnTo>
                      <a:pt x="226" y="250"/>
                    </a:lnTo>
                    <a:lnTo>
                      <a:pt x="226" y="11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267440" y="357984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566600" y="2541960"/>
                <a:ext cx="283320" cy="449640"/>
              </a:xfrm>
              <a:custGeom>
                <a:avLst/>
                <a:gdLst/>
                <a:ahLst/>
                <a:rect l="l" t="t" r="r" b="b"/>
                <a:pathLst>
                  <a:path w="111" h="176">
                    <a:moveTo>
                      <a:pt x="55" y="176"/>
                    </a:moveTo>
                    <a:lnTo>
                      <a:pt x="65" y="174"/>
                    </a:lnTo>
                    <a:lnTo>
                      <a:pt x="72" y="172"/>
                    </a:lnTo>
                    <a:lnTo>
                      <a:pt x="82" y="167"/>
                    </a:lnTo>
                    <a:lnTo>
                      <a:pt x="88" y="159"/>
                    </a:lnTo>
                    <a:lnTo>
                      <a:pt x="95" y="151"/>
                    </a:lnTo>
                    <a:lnTo>
                      <a:pt x="101" y="140"/>
                    </a:lnTo>
                    <a:lnTo>
                      <a:pt x="105" y="128"/>
                    </a:lnTo>
                    <a:lnTo>
                      <a:pt x="109" y="115"/>
                    </a:lnTo>
                    <a:lnTo>
                      <a:pt x="111" y="102"/>
                    </a:lnTo>
                    <a:lnTo>
                      <a:pt x="111" y="88"/>
                    </a:lnTo>
                    <a:lnTo>
                      <a:pt x="111" y="73"/>
                    </a:lnTo>
                    <a:lnTo>
                      <a:pt x="109" y="59"/>
                    </a:lnTo>
                    <a:lnTo>
                      <a:pt x="105" y="48"/>
                    </a:lnTo>
                    <a:lnTo>
                      <a:pt x="101" y="36"/>
                    </a:lnTo>
                    <a:lnTo>
                      <a:pt x="95" y="25"/>
                    </a:lnTo>
                    <a:lnTo>
                      <a:pt x="88" y="17"/>
                    </a:lnTo>
                    <a:lnTo>
                      <a:pt x="82" y="10"/>
                    </a:lnTo>
                    <a:lnTo>
                      <a:pt x="72" y="4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38" y="4"/>
                    </a:lnTo>
                    <a:lnTo>
                      <a:pt x="30" y="10"/>
                    </a:lnTo>
                    <a:lnTo>
                      <a:pt x="23" y="17"/>
                    </a:lnTo>
                    <a:lnTo>
                      <a:pt x="17" y="25"/>
                    </a:lnTo>
                    <a:lnTo>
                      <a:pt x="11" y="36"/>
                    </a:lnTo>
                    <a:lnTo>
                      <a:pt x="7" y="48"/>
                    </a:lnTo>
                    <a:lnTo>
                      <a:pt x="3" y="59"/>
                    </a:lnTo>
                    <a:lnTo>
                      <a:pt x="2" y="73"/>
                    </a:lnTo>
                    <a:lnTo>
                      <a:pt x="0" y="88"/>
                    </a:lnTo>
                    <a:lnTo>
                      <a:pt x="2" y="102"/>
                    </a:lnTo>
                    <a:lnTo>
                      <a:pt x="3" y="115"/>
                    </a:lnTo>
                    <a:lnTo>
                      <a:pt x="7" y="128"/>
                    </a:lnTo>
                    <a:lnTo>
                      <a:pt x="11" y="140"/>
                    </a:lnTo>
                    <a:lnTo>
                      <a:pt x="17" y="151"/>
                    </a:lnTo>
                    <a:lnTo>
                      <a:pt x="23" y="159"/>
                    </a:lnTo>
                    <a:lnTo>
                      <a:pt x="30" y="167"/>
                    </a:lnTo>
                    <a:lnTo>
                      <a:pt x="38" y="172"/>
                    </a:lnTo>
                    <a:lnTo>
                      <a:pt x="48" y="174"/>
                    </a:lnTo>
                    <a:lnTo>
                      <a:pt x="55" y="176"/>
                    </a:lnTo>
                    <a:lnTo>
                      <a:pt x="55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566600" y="2541960"/>
                <a:ext cx="283320" cy="449640"/>
              </a:xfrm>
              <a:custGeom>
                <a:avLst/>
                <a:gdLst/>
                <a:ahLst/>
                <a:rect l="l" t="t" r="r" b="b"/>
                <a:pathLst>
                  <a:path w="111" h="176">
                    <a:moveTo>
                      <a:pt x="55" y="176"/>
                    </a:moveTo>
                    <a:lnTo>
                      <a:pt x="65" y="174"/>
                    </a:lnTo>
                    <a:lnTo>
                      <a:pt x="72" y="172"/>
                    </a:lnTo>
                    <a:lnTo>
                      <a:pt x="82" y="167"/>
                    </a:lnTo>
                    <a:lnTo>
                      <a:pt x="88" y="159"/>
                    </a:lnTo>
                    <a:lnTo>
                      <a:pt x="95" y="151"/>
                    </a:lnTo>
                    <a:lnTo>
                      <a:pt x="101" y="140"/>
                    </a:lnTo>
                    <a:lnTo>
                      <a:pt x="105" y="128"/>
                    </a:lnTo>
                    <a:lnTo>
                      <a:pt x="109" y="115"/>
                    </a:lnTo>
                    <a:lnTo>
                      <a:pt x="111" y="102"/>
                    </a:lnTo>
                    <a:lnTo>
                      <a:pt x="111" y="88"/>
                    </a:lnTo>
                    <a:lnTo>
                      <a:pt x="111" y="73"/>
                    </a:lnTo>
                    <a:lnTo>
                      <a:pt x="109" y="59"/>
                    </a:lnTo>
                    <a:lnTo>
                      <a:pt x="105" y="48"/>
                    </a:lnTo>
                    <a:lnTo>
                      <a:pt x="101" y="36"/>
                    </a:lnTo>
                    <a:lnTo>
                      <a:pt x="95" y="25"/>
                    </a:lnTo>
                    <a:lnTo>
                      <a:pt x="88" y="17"/>
                    </a:lnTo>
                    <a:lnTo>
                      <a:pt x="82" y="10"/>
                    </a:lnTo>
                    <a:lnTo>
                      <a:pt x="72" y="4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38" y="4"/>
                    </a:lnTo>
                    <a:lnTo>
                      <a:pt x="30" y="10"/>
                    </a:lnTo>
                    <a:lnTo>
                      <a:pt x="23" y="17"/>
                    </a:lnTo>
                    <a:lnTo>
                      <a:pt x="17" y="25"/>
                    </a:lnTo>
                    <a:lnTo>
                      <a:pt x="11" y="36"/>
                    </a:lnTo>
                    <a:lnTo>
                      <a:pt x="7" y="48"/>
                    </a:lnTo>
                    <a:lnTo>
                      <a:pt x="3" y="59"/>
                    </a:lnTo>
                    <a:lnTo>
                      <a:pt x="2" y="73"/>
                    </a:lnTo>
                    <a:lnTo>
                      <a:pt x="0" y="88"/>
                    </a:lnTo>
                    <a:lnTo>
                      <a:pt x="2" y="102"/>
                    </a:lnTo>
                    <a:lnTo>
                      <a:pt x="3" y="115"/>
                    </a:lnTo>
                    <a:lnTo>
                      <a:pt x="7" y="128"/>
                    </a:lnTo>
                    <a:lnTo>
                      <a:pt x="11" y="140"/>
                    </a:lnTo>
                    <a:lnTo>
                      <a:pt x="17" y="151"/>
                    </a:lnTo>
                    <a:lnTo>
                      <a:pt x="23" y="159"/>
                    </a:lnTo>
                    <a:lnTo>
                      <a:pt x="30" y="167"/>
                    </a:lnTo>
                    <a:lnTo>
                      <a:pt x="38" y="172"/>
                    </a:lnTo>
                    <a:lnTo>
                      <a:pt x="48" y="174"/>
                    </a:lnTo>
                    <a:lnTo>
                      <a:pt x="55" y="176"/>
                    </a:lnTo>
                    <a:lnTo>
                      <a:pt x="55" y="17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615400" y="3516120"/>
                <a:ext cx="43200" cy="43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7"/>
                    </a:moveTo>
                    <a:lnTo>
                      <a:pt x="10" y="17"/>
                    </a:lnTo>
                    <a:lnTo>
                      <a:pt x="11" y="17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5" y="15"/>
                    </a:lnTo>
                    <a:lnTo>
                      <a:pt x="15" y="13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615400" y="3372840"/>
                <a:ext cx="43200" cy="507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8" y="18"/>
                    </a:moveTo>
                    <a:lnTo>
                      <a:pt x="10" y="20"/>
                    </a:lnTo>
                    <a:lnTo>
                      <a:pt x="11" y="20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608720" y="2656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673160" y="2656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721760" y="26568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743000" y="26568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771440" y="26568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796640" y="265680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599000" y="2769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619160" y="2769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667400" y="2769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691880" y="2769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722480" y="2769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746960" y="2769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707000" y="2991960"/>
                <a:ext cx="2880" cy="102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>
                <a:off x="4850280" y="2761920"/>
                <a:ext cx="921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193840" y="351072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106720" y="3536280"/>
                <a:ext cx="1018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267440" y="323712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267440" y="447984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267440" y="218880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090480" y="3633840"/>
                <a:ext cx="4860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0" y="17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6325560" y="3654000"/>
                <a:ext cx="1018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090480" y="41475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>
                <a:off x="6325920" y="4170600"/>
                <a:ext cx="30672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604760" y="3608280"/>
                <a:ext cx="1492920" cy="562320"/>
              </a:xfrm>
              <a:custGeom>
                <a:avLst/>
                <a:gdLst/>
                <a:ahLst/>
                <a:rect l="l" t="t" r="r" b="b"/>
                <a:pathLst>
                  <a:path w="584" h="220">
                    <a:moveTo>
                      <a:pt x="584" y="220"/>
                    </a:moveTo>
                    <a:lnTo>
                      <a:pt x="0" y="22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857360" y="36284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8092440" y="3654000"/>
                <a:ext cx="2070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857360" y="44798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193840" y="218880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>
                <a:off x="2428200" y="2214360"/>
                <a:ext cx="18486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1738080" y="2214360"/>
                <a:ext cx="4647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449000" y="1000440"/>
                <a:ext cx="48600" cy="4572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449000" y="1411920"/>
                <a:ext cx="48600" cy="47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262520" y="1020600"/>
                <a:ext cx="621360" cy="1193760"/>
              </a:xfrm>
              <a:custGeom>
                <a:avLst/>
                <a:gdLst/>
                <a:ahLst/>
                <a:rect l="l" t="t" r="r" b="b"/>
                <a:pathLst>
                  <a:path w="243" h="467">
                    <a:moveTo>
                      <a:pt x="82" y="0"/>
                    </a:moveTo>
                    <a:lnTo>
                      <a:pt x="0" y="2"/>
                    </a:lnTo>
                    <a:lnTo>
                      <a:pt x="0" y="264"/>
                    </a:lnTo>
                    <a:lnTo>
                      <a:pt x="243" y="264"/>
                    </a:lnTo>
                    <a:lnTo>
                      <a:pt x="243" y="46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3800" y="870120"/>
                <a:ext cx="1252800" cy="2323800"/>
              </a:xfrm>
              <a:custGeom>
                <a:avLst/>
                <a:gdLst/>
                <a:ahLst/>
                <a:rect l="l" t="t" r="r" b="b"/>
                <a:pathLst>
                  <a:path w="490" h="909">
                    <a:moveTo>
                      <a:pt x="40" y="909"/>
                    </a:moveTo>
                    <a:lnTo>
                      <a:pt x="0" y="909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0" y="141"/>
                    </a:lnTo>
                    <a:lnTo>
                      <a:pt x="450" y="14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rot="16200000">
                <a:off x="2541600" y="3366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16200000">
                <a:off x="2520360" y="3320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rot="16200000">
                <a:off x="2525040" y="3278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rot="16200000">
                <a:off x="2541600" y="3236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rot="16200000">
                <a:off x="2538000" y="3211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16200000">
                <a:off x="2520360" y="316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rot="16200000">
                <a:off x="2525040" y="3120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rot="16200000">
                <a:off x="2541600" y="30906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rot="16200000">
                <a:off x="2546280" y="30697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16200000">
                <a:off x="2520360" y="302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rot="16200000">
                <a:off x="2520360" y="2977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237040" y="1841040"/>
                <a:ext cx="201600" cy="99720"/>
              </a:xfrm>
              <a:custGeom>
                <a:avLst/>
                <a:gdLst/>
                <a:ahLst/>
                <a:rect l="l" t="t" r="r" b="b"/>
                <a:pathLst>
                  <a:path w="79" h="39">
                    <a:moveTo>
                      <a:pt x="77" y="0"/>
                    </a:moveTo>
                    <a:lnTo>
                      <a:pt x="79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23668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261520" y="18388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31588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34036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369520" y="18388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311000" y="1841040"/>
                <a:ext cx="201600" cy="99720"/>
              </a:xfrm>
              <a:custGeom>
                <a:avLst/>
                <a:gdLst/>
                <a:ahLst/>
                <a:rect l="l" t="t" r="r" b="b"/>
                <a:pathLst>
                  <a:path w="79" h="39">
                    <a:moveTo>
                      <a:pt x="77" y="0"/>
                    </a:moveTo>
                    <a:lnTo>
                      <a:pt x="79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134040" y="1841040"/>
                <a:ext cx="199440" cy="99720"/>
              </a:xfrm>
              <a:custGeom>
                <a:avLst/>
                <a:gdLst/>
                <a:ahLst/>
                <a:rect l="l" t="t" r="r" b="b"/>
                <a:pathLst>
                  <a:path w="78" h="39">
                    <a:moveTo>
                      <a:pt x="78" y="0"/>
                    </a:moveTo>
                    <a:lnTo>
                      <a:pt x="7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05448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11820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17760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20712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627804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34392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903080" y="1841040"/>
                <a:ext cx="199440" cy="99720"/>
              </a:xfrm>
              <a:custGeom>
                <a:avLst/>
                <a:gdLst/>
                <a:ahLst/>
                <a:rect l="l" t="t" r="r" b="b"/>
                <a:pathLst>
                  <a:path w="78" h="39">
                    <a:moveTo>
                      <a:pt x="78" y="0"/>
                    </a:moveTo>
                    <a:lnTo>
                      <a:pt x="7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80912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88796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94700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802404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8047080" y="183888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813852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407840" y="1999800"/>
                <a:ext cx="95040" cy="304200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407840" y="1999800"/>
                <a:ext cx="95040" cy="30420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320720" y="1999800"/>
                <a:ext cx="86760" cy="304200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320720" y="1999800"/>
                <a:ext cx="86760" cy="30420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231600" y="1999800"/>
                <a:ext cx="94320" cy="3042000"/>
              </a:xfrm>
              <a:custGeom>
                <a:avLst/>
                <a:gdLst/>
                <a:ahLst/>
                <a:rect l="l" t="t" r="r" b="b"/>
                <a:pathLst>
                  <a:path w="37" h="1190">
                    <a:moveTo>
                      <a:pt x="0" y="1190"/>
                    </a:moveTo>
                    <a:lnTo>
                      <a:pt x="37" y="1190"/>
                    </a:lnTo>
                    <a:lnTo>
                      <a:pt x="37" y="0"/>
                    </a:lnTo>
                    <a:lnTo>
                      <a:pt x="2" y="0"/>
                    </a:lnTo>
                    <a:lnTo>
                      <a:pt x="0" y="119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231600" y="1999800"/>
                <a:ext cx="94320" cy="3042000"/>
              </a:xfrm>
              <a:custGeom>
                <a:avLst/>
                <a:gdLst/>
                <a:ahLst/>
                <a:rect l="l" t="t" r="r" b="b"/>
                <a:pathLst>
                  <a:path w="37" h="1190">
                    <a:moveTo>
                      <a:pt x="0" y="1190"/>
                    </a:moveTo>
                    <a:lnTo>
                      <a:pt x="37" y="1190"/>
                    </a:lnTo>
                    <a:lnTo>
                      <a:pt x="37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144480" y="1999800"/>
                <a:ext cx="91440" cy="3042000"/>
              </a:xfrm>
              <a:custGeom>
                <a:avLst/>
                <a:gdLst/>
                <a:ahLst/>
                <a:rect l="l" t="t" r="r" b="b"/>
                <a:pathLst>
                  <a:path w="36" h="1190">
                    <a:moveTo>
                      <a:pt x="34" y="0"/>
                    </a:moveTo>
                    <a:lnTo>
                      <a:pt x="0" y="0"/>
                    </a:lnTo>
                    <a:lnTo>
                      <a:pt x="0" y="1190"/>
                    </a:lnTo>
                    <a:lnTo>
                      <a:pt x="36" y="119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144480" y="1999800"/>
                <a:ext cx="91440" cy="3042000"/>
              </a:xfrm>
              <a:custGeom>
                <a:avLst/>
                <a:gdLst/>
                <a:ahLst/>
                <a:rect l="l" t="t" r="r" b="b"/>
                <a:pathLst>
                  <a:path w="36" h="1190">
                    <a:moveTo>
                      <a:pt x="34" y="0"/>
                    </a:moveTo>
                    <a:lnTo>
                      <a:pt x="0" y="0"/>
                    </a:lnTo>
                    <a:lnTo>
                      <a:pt x="0" y="1190"/>
                    </a:lnTo>
                    <a:lnTo>
                      <a:pt x="36" y="119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503000" y="936000"/>
                <a:ext cx="17100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20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8"/>
                    </a:lnTo>
                    <a:lnTo>
                      <a:pt x="57" y="10"/>
                    </a:lnTo>
                    <a:lnTo>
                      <a:pt x="61" y="14"/>
                    </a:lnTo>
                    <a:lnTo>
                      <a:pt x="63" y="20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5"/>
                    </a:lnTo>
                    <a:lnTo>
                      <a:pt x="67" y="196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1" y="215"/>
                    </a:lnTo>
                    <a:lnTo>
                      <a:pt x="57" y="219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8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8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0" y="219"/>
                    </a:lnTo>
                    <a:lnTo>
                      <a:pt x="8" y="215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6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503000" y="936000"/>
                <a:ext cx="17100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20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8"/>
                    </a:lnTo>
                    <a:lnTo>
                      <a:pt x="57" y="10"/>
                    </a:lnTo>
                    <a:lnTo>
                      <a:pt x="61" y="14"/>
                    </a:lnTo>
                    <a:lnTo>
                      <a:pt x="63" y="20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5"/>
                    </a:lnTo>
                    <a:lnTo>
                      <a:pt x="67" y="196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1" y="215"/>
                    </a:lnTo>
                    <a:lnTo>
                      <a:pt x="57" y="219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8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8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0" y="219"/>
                    </a:lnTo>
                    <a:lnTo>
                      <a:pt x="8" y="215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6"/>
                    </a:lnTo>
                    <a:lnTo>
                      <a:pt x="0" y="35"/>
                    </a:lnTo>
                    <a:lnTo>
                      <a:pt x="0" y="3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545480" y="1079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626120" y="107928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560960" y="1173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615680" y="1173600"/>
                <a:ext cx="36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561680" y="1265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535400" y="96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535400" y="137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556640" y="2156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614600" y="21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668240" y="21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89760" y="31352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48440" y="3135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365680" y="4011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712920" y="407088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796080" y="40708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823800" y="40708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847200" y="4070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872040" y="4070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7" name=""/>
            <p:cNvSpPr/>
            <p:nvPr/>
          </p:nvSpPr>
          <p:spPr>
            <a:xfrm>
              <a:off x="6922080" y="40712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711480" y="415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760080" y="415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809400" y="415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39280" y="415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375760" y="37130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451360" y="37130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391600" y="3805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441280" y="380520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92320" y="389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36856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0010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0010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9117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9117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2471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2471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3364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3364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326400" y="3477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39480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44304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497400" y="3477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516840" y="3477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561840" y="3477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58380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638520" y="347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668760" y="3477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6560" y="3160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859920" y="316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913560" y="316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962520" y="316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017240" y="316080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73752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79116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839040" y="3247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87036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919680" y="3247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94164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96560" y="3503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85992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91356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96252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017240" y="35035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73752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9116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839040" y="359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87036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919680" y="359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94164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047400" y="302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113280" y="30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164400" y="30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218040" y="30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267720" y="30229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047400" y="3112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07476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12876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177720" y="3112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198600" y="3112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246840" y="3112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7168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321000" y="3112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354840" y="3112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37932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047400" y="3296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13280" y="329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164400" y="329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218040" y="329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267720" y="3296520"/>
              <a:ext cx="36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047400" y="339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07476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12876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177720" y="3391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198600" y="3391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246840" y="3391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27168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321000" y="339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354840" y="3391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37932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384360" y="432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432960" y="432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679200" y="4398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737520" y="43981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760200" y="439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811320" y="439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861000" y="43981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62484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679200" y="4510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723120" y="4510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74760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80124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84984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579560" y="3585240"/>
              <a:ext cx="50760" cy="432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17"/>
                  </a:move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7706880" y="3654360"/>
              <a:ext cx="1558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047040" y="35697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134520" y="3569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164760" y="3569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182040" y="3569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207960" y="356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262680" y="356976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047400" y="3664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074760" y="3664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128760" y="3664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177720" y="3664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198600" y="366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246840" y="3664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271680" y="3664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321000" y="3664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047040" y="38462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134520" y="3846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164760" y="3846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182040" y="384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207960" y="384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262680" y="38462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046680" y="39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100680" y="39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150000" y="3938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171960" y="39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802240" y="3864240"/>
              <a:ext cx="5807880" cy="1316520"/>
            </a:xfrm>
            <a:custGeom>
              <a:avLst/>
              <a:gdLst/>
              <a:ahLst/>
              <a:rect l="l" t="t" r="r" b="b"/>
              <a:pathLst>
                <a:path w="2271" h="515">
                  <a:moveTo>
                    <a:pt x="67" y="32"/>
                  </a:moveTo>
                  <a:lnTo>
                    <a:pt x="0" y="34"/>
                  </a:lnTo>
                  <a:lnTo>
                    <a:pt x="0" y="515"/>
                  </a:lnTo>
                  <a:lnTo>
                    <a:pt x="2271" y="515"/>
                  </a:lnTo>
                  <a:lnTo>
                    <a:pt x="2271" y="0"/>
                  </a:lnTo>
                  <a:lnTo>
                    <a:pt x="223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56320" y="3552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524720" y="3552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73320" y="3552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621920" y="3552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676280" y="35521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6200" y="364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34800" y="364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89520" y="3643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614360" y="364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877640" y="396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535720" y="350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599080" y="3508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648400" y="3508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717520" y="35089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466960" y="3600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496480" y="360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546160" y="360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593680" y="360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643000" y="3600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664240" y="3600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889160" y="36648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68000" y="3664800"/>
              <a:ext cx="36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903200" y="375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957560" y="3756240"/>
              <a:ext cx="36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903920" y="384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272200" y="3477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33304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385240" y="3477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515920" y="3360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568120" y="336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625360" y="3360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652720" y="336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>
              <a:off x="5021640" y="3810240"/>
              <a:ext cx="968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4707000" y="4015080"/>
              <a:ext cx="1076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4502880" y="3260520"/>
              <a:ext cx="6156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>
              <a:off x="5733000" y="3654360"/>
              <a:ext cx="365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502880" y="4015080"/>
              <a:ext cx="204120" cy="493200"/>
            </a:xfrm>
            <a:custGeom>
              <a:avLst/>
              <a:gdLst/>
              <a:ahLst/>
              <a:rect l="l" t="t" r="r" b="b"/>
              <a:pathLst>
                <a:path w="80" h="193">
                  <a:moveTo>
                    <a:pt x="80" y="0"/>
                  </a:moveTo>
                  <a:lnTo>
                    <a:pt x="80" y="193"/>
                  </a:lnTo>
                  <a:lnTo>
                    <a:pt x="0" y="1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290480" y="1838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316040" y="1838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385160" y="1838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407840" y="1838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466880" y="1838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 flipV="1">
              <a:off x="3407760" y="4447080"/>
              <a:ext cx="63720" cy="11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 flipV="1">
              <a:off x="4011480" y="4447080"/>
              <a:ext cx="63720" cy="11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42720" y="4505400"/>
              <a:ext cx="334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635560" y="3398760"/>
              <a:ext cx="338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4042080" y="3603240"/>
              <a:ext cx="2300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428560" y="3536640"/>
              <a:ext cx="2070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4042080" y="3260520"/>
              <a:ext cx="230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15120" y="3168360"/>
              <a:ext cx="43200" cy="486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860840" y="2194200"/>
              <a:ext cx="43200" cy="432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9" y="17"/>
                  </a:lnTo>
                  <a:lnTo>
                    <a:pt x="11" y="17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35560" y="3124800"/>
              <a:ext cx="920880" cy="1383480"/>
            </a:xfrm>
            <a:custGeom>
              <a:avLst/>
              <a:gdLst/>
              <a:ahLst/>
              <a:rect l="l" t="t" r="r" b="b"/>
              <a:pathLst>
                <a:path w="360" h="541">
                  <a:moveTo>
                    <a:pt x="132" y="0"/>
                  </a:moveTo>
                  <a:lnTo>
                    <a:pt x="0" y="0"/>
                  </a:lnTo>
                  <a:lnTo>
                    <a:pt x="0" y="541"/>
                  </a:lnTo>
                  <a:lnTo>
                    <a:pt x="360" y="5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689360" y="3994200"/>
              <a:ext cx="43200" cy="4608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8"/>
                  </a:move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08000" y="3634200"/>
              <a:ext cx="43200" cy="432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615400" y="3654360"/>
              <a:ext cx="43200" cy="432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1" y="17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085520" y="3761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151400" y="376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203240" y="3761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225200" y="376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279560" y="37616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022160" y="38739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092360" y="38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147440" y="38739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220520" y="38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275240" y="3873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305480" y="3873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6333480" y="3654360"/>
              <a:ext cx="304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615000" y="3634200"/>
              <a:ext cx="48600" cy="432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727320" y="3590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785640" y="359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839280" y="359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888960" y="3590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915960" y="359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970320" y="3590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016400" y="3590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cted Data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3" name=""/>
          <p:cNvGrpSpPr/>
          <p:nvPr/>
        </p:nvGrpSpPr>
        <p:grpSpPr>
          <a:xfrm>
            <a:off x="447840" y="1174680"/>
            <a:ext cx="8238240" cy="4495320"/>
            <a:chOff x="447840" y="1174680"/>
            <a:chExt cx="8238240" cy="4495320"/>
          </a:xfrm>
        </p:grpSpPr>
        <p:sp>
          <p:nvSpPr>
            <p:cNvPr id="1704" name=""/>
            <p:cNvSpPr/>
            <p:nvPr/>
          </p:nvSpPr>
          <p:spPr>
            <a:xfrm>
              <a:off x="4262040" y="5318640"/>
              <a:ext cx="44280" cy="44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7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599560" y="4877640"/>
              <a:ext cx="1667880" cy="463680"/>
            </a:xfrm>
            <a:custGeom>
              <a:avLst/>
              <a:gdLst/>
              <a:ahLst/>
              <a:rect l="l" t="t" r="r" b="b"/>
              <a:pathLst>
                <a:path w="640" h="178">
                  <a:moveTo>
                    <a:pt x="0" y="0"/>
                  </a:moveTo>
                  <a:lnTo>
                    <a:pt x="0" y="178"/>
                  </a:lnTo>
                  <a:lnTo>
                    <a:pt x="640" y="178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502160" y="5337000"/>
              <a:ext cx="1625400" cy="4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359760" y="5337000"/>
              <a:ext cx="1571040" cy="4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922840" y="4005000"/>
              <a:ext cx="49320" cy="51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2" y="20"/>
                  </a:lnTo>
                  <a:lnTo>
                    <a:pt x="19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493000" y="4030920"/>
              <a:ext cx="5773680" cy="1535400"/>
            </a:xfrm>
            <a:custGeom>
              <a:avLst/>
              <a:gdLst/>
              <a:ahLst/>
              <a:rect l="l" t="t" r="r" b="b"/>
              <a:pathLst>
                <a:path w="2216" h="589">
                  <a:moveTo>
                    <a:pt x="2175" y="501"/>
                  </a:moveTo>
                  <a:lnTo>
                    <a:pt x="2216" y="503"/>
                  </a:lnTo>
                  <a:lnTo>
                    <a:pt x="2216" y="589"/>
                  </a:lnTo>
                  <a:lnTo>
                    <a:pt x="0" y="589"/>
                  </a:lnTo>
                  <a:lnTo>
                    <a:pt x="0" y="0"/>
                  </a:lnTo>
                  <a:lnTo>
                    <a:pt x="173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4502160" y="3960360"/>
              <a:ext cx="3175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463800" y="4010040"/>
              <a:ext cx="1467000" cy="867600"/>
            </a:xfrm>
            <a:custGeom>
              <a:avLst/>
              <a:gdLst/>
              <a:ahLst/>
              <a:rect l="l" t="t" r="r" b="b"/>
              <a:pathLst>
                <a:path w="563" h="333">
                  <a:moveTo>
                    <a:pt x="563" y="333"/>
                  </a:moveTo>
                  <a:lnTo>
                    <a:pt x="0" y="33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8160120" y="4429800"/>
              <a:ext cx="210600" cy="447840"/>
            </a:xfrm>
            <a:custGeom>
              <a:avLst/>
              <a:gdLst/>
              <a:ahLst/>
              <a:rect l="l" t="t" r="r" b="b"/>
              <a:pathLst>
                <a:path w="81" h="172">
                  <a:moveTo>
                    <a:pt x="81" y="0"/>
                  </a:moveTo>
                  <a:lnTo>
                    <a:pt x="41" y="0"/>
                  </a:lnTo>
                  <a:lnTo>
                    <a:pt x="41" y="172"/>
                  </a:lnTo>
                  <a:lnTo>
                    <a:pt x="0" y="1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359760" y="3773160"/>
              <a:ext cx="10368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453000" y="37472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305000" y="1747800"/>
              <a:ext cx="5632920" cy="1076760"/>
            </a:xfrm>
            <a:custGeom>
              <a:avLst/>
              <a:gdLst/>
              <a:ahLst/>
              <a:rect l="l" t="t" r="r" b="b"/>
              <a:pathLst>
                <a:path w="2162" h="413">
                  <a:moveTo>
                    <a:pt x="42" y="0"/>
                  </a:moveTo>
                  <a:lnTo>
                    <a:pt x="0" y="2"/>
                  </a:lnTo>
                  <a:lnTo>
                    <a:pt x="0" y="61"/>
                  </a:lnTo>
                  <a:lnTo>
                    <a:pt x="2162" y="61"/>
                  </a:lnTo>
                  <a:lnTo>
                    <a:pt x="2162" y="413"/>
                  </a:lnTo>
                  <a:lnTo>
                    <a:pt x="1940" y="41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49920" y="3773160"/>
              <a:ext cx="37728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119640" y="374724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86080" y="3298680"/>
              <a:ext cx="174240" cy="48744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67" y="187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7"/>
                  </a:lnTo>
                  <a:lnTo>
                    <a:pt x="67" y="187"/>
                  </a:lnTo>
                  <a:lnTo>
                    <a:pt x="67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86080" y="3298680"/>
              <a:ext cx="174240" cy="48744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67" y="187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7"/>
                  </a:lnTo>
                  <a:lnTo>
                    <a:pt x="67" y="187"/>
                  </a:lnTo>
                  <a:lnTo>
                    <a:pt x="67" y="1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010880" y="3342960"/>
              <a:ext cx="523440" cy="109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010880" y="3342960"/>
              <a:ext cx="523440" cy="1097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534320" y="3342960"/>
              <a:ext cx="531000" cy="109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534320" y="3342960"/>
              <a:ext cx="531000" cy="1097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303920" y="377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32948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384920" y="377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429920" y="377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455120" y="37778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48968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38640" y="377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585440" y="377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614960" y="37778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63440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68516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739880" y="37778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369800" y="38930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445400" y="389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500480" y="38930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574640" y="389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629720" y="3893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658520" y="389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051200" y="3478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111680" y="3478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159920" y="3478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215720" y="3478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243440" y="3478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298880" y="3478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345680" y="3478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713640" y="3637080"/>
              <a:ext cx="523800" cy="110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713640" y="3637080"/>
              <a:ext cx="523800" cy="11026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237800" y="3637080"/>
              <a:ext cx="528480" cy="110268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237800" y="3637080"/>
              <a:ext cx="528480" cy="110268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922840" y="344700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922840" y="428616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67240" y="2261520"/>
              <a:ext cx="479160" cy="1282320"/>
            </a:xfrm>
            <a:custGeom>
              <a:avLst/>
              <a:gdLst/>
              <a:ahLst/>
              <a:rect l="l" t="t" r="r" b="b"/>
              <a:pathLst>
                <a:path w="184" h="492">
                  <a:moveTo>
                    <a:pt x="184" y="0"/>
                  </a:moveTo>
                  <a:lnTo>
                    <a:pt x="0" y="2"/>
                  </a:lnTo>
                  <a:lnTo>
                    <a:pt x="0" y="4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1172160" y="2824560"/>
              <a:ext cx="1742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380600" y="2071080"/>
              <a:ext cx="304560" cy="94320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7"/>
                  </a:lnTo>
                  <a:lnTo>
                    <a:pt x="38" y="182"/>
                  </a:lnTo>
                  <a:lnTo>
                    <a:pt x="0" y="216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380600" y="2071080"/>
              <a:ext cx="304560" cy="94320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7"/>
                  </a:lnTo>
                  <a:lnTo>
                    <a:pt x="38" y="182"/>
                  </a:lnTo>
                  <a:lnTo>
                    <a:pt x="0" y="216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1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796280" y="393696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796280" y="4354200"/>
              <a:ext cx="49320" cy="51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0" y="20"/>
                  </a:lnTo>
                  <a:lnTo>
                    <a:pt x="19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114160" y="4145400"/>
              <a:ext cx="46440" cy="4932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114160" y="3588120"/>
              <a:ext cx="46440" cy="489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350200" y="3986640"/>
              <a:ext cx="4896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350200" y="4406040"/>
              <a:ext cx="4896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659280" y="4515480"/>
              <a:ext cx="44280" cy="44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7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325520" y="224064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325520" y="2797920"/>
              <a:ext cx="49320" cy="5256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2" y="20"/>
                  </a:lnTo>
                  <a:lnTo>
                    <a:pt x="19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075320" y="27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4502160" y="2545560"/>
              <a:ext cx="4478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994280" y="2355480"/>
              <a:ext cx="586080" cy="943200"/>
            </a:xfrm>
            <a:custGeom>
              <a:avLst/>
              <a:gdLst/>
              <a:ahLst/>
              <a:rect l="l" t="t" r="r" b="b"/>
              <a:pathLst>
                <a:path w="225" h="362">
                  <a:moveTo>
                    <a:pt x="0" y="0"/>
                  </a:moveTo>
                  <a:lnTo>
                    <a:pt x="0" y="146"/>
                  </a:lnTo>
                  <a:lnTo>
                    <a:pt x="39" y="180"/>
                  </a:lnTo>
                  <a:lnTo>
                    <a:pt x="0" y="214"/>
                  </a:lnTo>
                  <a:lnTo>
                    <a:pt x="0" y="362"/>
                  </a:lnTo>
                  <a:lnTo>
                    <a:pt x="225" y="251"/>
                  </a:lnTo>
                  <a:lnTo>
                    <a:pt x="225" y="1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994280" y="2355480"/>
              <a:ext cx="586080" cy="943200"/>
            </a:xfrm>
            <a:custGeom>
              <a:avLst/>
              <a:gdLst/>
              <a:ahLst/>
              <a:rect l="l" t="t" r="r" b="b"/>
              <a:pathLst>
                <a:path w="225" h="362">
                  <a:moveTo>
                    <a:pt x="0" y="0"/>
                  </a:moveTo>
                  <a:lnTo>
                    <a:pt x="0" y="146"/>
                  </a:lnTo>
                  <a:lnTo>
                    <a:pt x="39" y="180"/>
                  </a:lnTo>
                  <a:lnTo>
                    <a:pt x="0" y="214"/>
                  </a:lnTo>
                  <a:lnTo>
                    <a:pt x="0" y="362"/>
                  </a:lnTo>
                  <a:lnTo>
                    <a:pt x="225" y="251"/>
                  </a:lnTo>
                  <a:lnTo>
                    <a:pt x="225" y="1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5585760" y="2824560"/>
              <a:ext cx="5522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119640" y="2797920"/>
              <a:ext cx="49320" cy="5256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0" y="20"/>
                  </a:lnTo>
                  <a:lnTo>
                    <a:pt x="19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60320" y="3538440"/>
              <a:ext cx="21060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955800" y="3517920"/>
              <a:ext cx="49320" cy="435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31000" y="3517920"/>
              <a:ext cx="49320" cy="435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521880" y="485460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582000" y="4510800"/>
              <a:ext cx="348840" cy="74196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7" y="283"/>
                  </a:lnTo>
                  <a:lnTo>
                    <a:pt x="88" y="277"/>
                  </a:lnTo>
                  <a:lnTo>
                    <a:pt x="98" y="269"/>
                  </a:lnTo>
                  <a:lnTo>
                    <a:pt x="106" y="258"/>
                  </a:lnTo>
                  <a:lnTo>
                    <a:pt x="115" y="243"/>
                  </a:lnTo>
                  <a:lnTo>
                    <a:pt x="121" y="227"/>
                  </a:lnTo>
                  <a:lnTo>
                    <a:pt x="127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7" y="76"/>
                  </a:lnTo>
                  <a:lnTo>
                    <a:pt x="121" y="57"/>
                  </a:lnTo>
                  <a:lnTo>
                    <a:pt x="115" y="42"/>
                  </a:lnTo>
                  <a:lnTo>
                    <a:pt x="106" y="26"/>
                  </a:lnTo>
                  <a:lnTo>
                    <a:pt x="98" y="15"/>
                  </a:lnTo>
                  <a:lnTo>
                    <a:pt x="88" y="7"/>
                  </a:lnTo>
                  <a:lnTo>
                    <a:pt x="77" y="2"/>
                  </a:lnTo>
                  <a:lnTo>
                    <a:pt x="67" y="0"/>
                  </a:lnTo>
                  <a:lnTo>
                    <a:pt x="56" y="2"/>
                  </a:lnTo>
                  <a:lnTo>
                    <a:pt x="46" y="7"/>
                  </a:lnTo>
                  <a:lnTo>
                    <a:pt x="37" y="15"/>
                  </a:lnTo>
                  <a:lnTo>
                    <a:pt x="27" y="26"/>
                  </a:lnTo>
                  <a:lnTo>
                    <a:pt x="19" y="42"/>
                  </a:lnTo>
                  <a:lnTo>
                    <a:pt x="12" y="57"/>
                  </a:lnTo>
                  <a:lnTo>
                    <a:pt x="6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6" y="208"/>
                  </a:lnTo>
                  <a:lnTo>
                    <a:pt x="12" y="227"/>
                  </a:lnTo>
                  <a:lnTo>
                    <a:pt x="19" y="243"/>
                  </a:lnTo>
                  <a:lnTo>
                    <a:pt x="27" y="258"/>
                  </a:lnTo>
                  <a:lnTo>
                    <a:pt x="37" y="269"/>
                  </a:lnTo>
                  <a:lnTo>
                    <a:pt x="46" y="277"/>
                  </a:lnTo>
                  <a:lnTo>
                    <a:pt x="56" y="283"/>
                  </a:lnTo>
                  <a:lnTo>
                    <a:pt x="67" y="285"/>
                  </a:lnTo>
                  <a:lnTo>
                    <a:pt x="67" y="285"/>
                  </a:lnTo>
                  <a:lnTo>
                    <a:pt x="65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582000" y="4510800"/>
              <a:ext cx="348840" cy="74196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7" y="283"/>
                  </a:lnTo>
                  <a:lnTo>
                    <a:pt x="88" y="277"/>
                  </a:lnTo>
                  <a:lnTo>
                    <a:pt x="98" y="269"/>
                  </a:lnTo>
                  <a:lnTo>
                    <a:pt x="106" y="258"/>
                  </a:lnTo>
                  <a:lnTo>
                    <a:pt x="115" y="243"/>
                  </a:lnTo>
                  <a:lnTo>
                    <a:pt x="121" y="227"/>
                  </a:lnTo>
                  <a:lnTo>
                    <a:pt x="127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7" y="76"/>
                  </a:lnTo>
                  <a:lnTo>
                    <a:pt x="121" y="57"/>
                  </a:lnTo>
                  <a:lnTo>
                    <a:pt x="115" y="42"/>
                  </a:lnTo>
                  <a:lnTo>
                    <a:pt x="106" y="26"/>
                  </a:lnTo>
                  <a:lnTo>
                    <a:pt x="98" y="15"/>
                  </a:lnTo>
                  <a:lnTo>
                    <a:pt x="88" y="7"/>
                  </a:lnTo>
                  <a:lnTo>
                    <a:pt x="77" y="2"/>
                  </a:lnTo>
                  <a:lnTo>
                    <a:pt x="67" y="0"/>
                  </a:lnTo>
                  <a:lnTo>
                    <a:pt x="56" y="2"/>
                  </a:lnTo>
                  <a:lnTo>
                    <a:pt x="46" y="7"/>
                  </a:lnTo>
                  <a:lnTo>
                    <a:pt x="37" y="15"/>
                  </a:lnTo>
                  <a:lnTo>
                    <a:pt x="27" y="26"/>
                  </a:lnTo>
                  <a:lnTo>
                    <a:pt x="19" y="42"/>
                  </a:lnTo>
                  <a:lnTo>
                    <a:pt x="12" y="57"/>
                  </a:lnTo>
                  <a:lnTo>
                    <a:pt x="6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6" y="208"/>
                  </a:lnTo>
                  <a:lnTo>
                    <a:pt x="12" y="227"/>
                  </a:lnTo>
                  <a:lnTo>
                    <a:pt x="19" y="243"/>
                  </a:lnTo>
                  <a:lnTo>
                    <a:pt x="27" y="258"/>
                  </a:lnTo>
                  <a:lnTo>
                    <a:pt x="37" y="269"/>
                  </a:lnTo>
                  <a:lnTo>
                    <a:pt x="46" y="277"/>
                  </a:lnTo>
                  <a:lnTo>
                    <a:pt x="56" y="283"/>
                  </a:lnTo>
                  <a:lnTo>
                    <a:pt x="67" y="285"/>
                  </a:lnTo>
                  <a:lnTo>
                    <a:pt x="67" y="28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97656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02624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944600" y="2519640"/>
              <a:ext cx="47160" cy="489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944600" y="3079800"/>
              <a:ext cx="47160" cy="489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404560" y="3926880"/>
              <a:ext cx="174600" cy="59364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6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7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8404560" y="3926880"/>
              <a:ext cx="174600" cy="59364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6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7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850640" y="3877200"/>
              <a:ext cx="17460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5" y="5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5"/>
                  </a:lnTo>
                  <a:lnTo>
                    <a:pt x="67" y="199"/>
                  </a:lnTo>
                  <a:lnTo>
                    <a:pt x="67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4"/>
                  </a:lnTo>
                  <a:lnTo>
                    <a:pt x="15" y="222"/>
                  </a:lnTo>
                  <a:lnTo>
                    <a:pt x="11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5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850640" y="3877200"/>
              <a:ext cx="17460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5" y="5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5"/>
                  </a:lnTo>
                  <a:lnTo>
                    <a:pt x="67" y="199"/>
                  </a:lnTo>
                  <a:lnTo>
                    <a:pt x="67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4"/>
                  </a:lnTo>
                  <a:lnTo>
                    <a:pt x="15" y="222"/>
                  </a:lnTo>
                  <a:lnTo>
                    <a:pt x="11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5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883400" y="3903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113440" y="2767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177520" y="27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227200" y="27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389200" y="2720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454000" y="2720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503320" y="2720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559480" y="272016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313600" y="2816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344200" y="281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394600" y="2816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443560" y="281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494320" y="28162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514120" y="2816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922840" y="372600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977560" y="3342960"/>
              <a:ext cx="528480" cy="10972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201" y="0"/>
                  </a:moveTo>
                  <a:lnTo>
                    <a:pt x="0" y="0"/>
                  </a:lnTo>
                  <a:lnTo>
                    <a:pt x="0" y="421"/>
                  </a:lnTo>
                  <a:lnTo>
                    <a:pt x="203" y="421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977560" y="3342960"/>
              <a:ext cx="528480" cy="10972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201" y="0"/>
                  </a:moveTo>
                  <a:lnTo>
                    <a:pt x="0" y="0"/>
                  </a:lnTo>
                  <a:lnTo>
                    <a:pt x="0" y="421"/>
                  </a:lnTo>
                  <a:lnTo>
                    <a:pt x="203" y="42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501000" y="3342960"/>
              <a:ext cx="531720" cy="1097280"/>
            </a:xfrm>
            <a:custGeom>
              <a:avLst/>
              <a:gdLst/>
              <a:ahLst/>
              <a:rect l="l" t="t" r="r" b="b"/>
              <a:pathLst>
                <a:path w="204" h="421">
                  <a:moveTo>
                    <a:pt x="0" y="421"/>
                  </a:moveTo>
                  <a:lnTo>
                    <a:pt x="204" y="421"/>
                  </a:lnTo>
                  <a:lnTo>
                    <a:pt x="204" y="0"/>
                  </a:lnTo>
                  <a:lnTo>
                    <a:pt x="2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501000" y="3342960"/>
              <a:ext cx="531720" cy="1097280"/>
            </a:xfrm>
            <a:custGeom>
              <a:avLst/>
              <a:gdLst/>
              <a:ahLst/>
              <a:rect l="l" t="t" r="r" b="b"/>
              <a:pathLst>
                <a:path w="204" h="421">
                  <a:moveTo>
                    <a:pt x="0" y="421"/>
                  </a:moveTo>
                  <a:lnTo>
                    <a:pt x="204" y="421"/>
                  </a:lnTo>
                  <a:lnTo>
                    <a:pt x="204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166000" y="3418560"/>
              <a:ext cx="588960" cy="946080"/>
            </a:xfrm>
            <a:custGeom>
              <a:avLst/>
              <a:gdLst/>
              <a:ahLst/>
              <a:rect l="l" t="t" r="r" b="b"/>
              <a:pathLst>
                <a:path w="226" h="363">
                  <a:moveTo>
                    <a:pt x="0" y="0"/>
                  </a:moveTo>
                  <a:lnTo>
                    <a:pt x="1" y="147"/>
                  </a:lnTo>
                  <a:lnTo>
                    <a:pt x="38" y="181"/>
                  </a:lnTo>
                  <a:lnTo>
                    <a:pt x="1" y="216"/>
                  </a:lnTo>
                  <a:lnTo>
                    <a:pt x="1" y="363"/>
                  </a:lnTo>
                  <a:lnTo>
                    <a:pt x="226" y="252"/>
                  </a:lnTo>
                  <a:lnTo>
                    <a:pt x="226" y="11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166000" y="3418560"/>
              <a:ext cx="588960" cy="946080"/>
            </a:xfrm>
            <a:custGeom>
              <a:avLst/>
              <a:gdLst/>
              <a:ahLst/>
              <a:rect l="l" t="t" r="r" b="b"/>
              <a:pathLst>
                <a:path w="226" h="363">
                  <a:moveTo>
                    <a:pt x="0" y="0"/>
                  </a:moveTo>
                  <a:lnTo>
                    <a:pt x="1" y="147"/>
                  </a:lnTo>
                  <a:lnTo>
                    <a:pt x="38" y="181"/>
                  </a:lnTo>
                  <a:lnTo>
                    <a:pt x="1" y="216"/>
                  </a:lnTo>
                  <a:lnTo>
                    <a:pt x="1" y="363"/>
                  </a:lnTo>
                  <a:lnTo>
                    <a:pt x="226" y="252"/>
                  </a:lnTo>
                  <a:lnTo>
                    <a:pt x="226" y="113"/>
                  </a:ln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262040" y="393696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566960" y="2873520"/>
              <a:ext cx="288720" cy="46368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5" y="176"/>
                  </a:moveTo>
                  <a:lnTo>
                    <a:pt x="65" y="176"/>
                  </a:lnTo>
                  <a:lnTo>
                    <a:pt x="72" y="172"/>
                  </a:lnTo>
                  <a:lnTo>
                    <a:pt x="82" y="169"/>
                  </a:lnTo>
                  <a:lnTo>
                    <a:pt x="88" y="161"/>
                  </a:lnTo>
                  <a:lnTo>
                    <a:pt x="95" y="151"/>
                  </a:lnTo>
                  <a:lnTo>
                    <a:pt x="101" y="142"/>
                  </a:lnTo>
                  <a:lnTo>
                    <a:pt x="105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5"/>
                  </a:lnTo>
                  <a:lnTo>
                    <a:pt x="109" y="61"/>
                  </a:lnTo>
                  <a:lnTo>
                    <a:pt x="105" y="48"/>
                  </a:lnTo>
                  <a:lnTo>
                    <a:pt x="101" y="37"/>
                  </a:lnTo>
                  <a:lnTo>
                    <a:pt x="95" y="27"/>
                  </a:lnTo>
                  <a:lnTo>
                    <a:pt x="88" y="17"/>
                  </a:lnTo>
                  <a:lnTo>
                    <a:pt x="82" y="12"/>
                  </a:lnTo>
                  <a:lnTo>
                    <a:pt x="72" y="6"/>
                  </a:lnTo>
                  <a:lnTo>
                    <a:pt x="65" y="2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1" y="37"/>
                  </a:lnTo>
                  <a:lnTo>
                    <a:pt x="7" y="48"/>
                  </a:lnTo>
                  <a:lnTo>
                    <a:pt x="3" y="61"/>
                  </a:lnTo>
                  <a:lnTo>
                    <a:pt x="2" y="75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3" y="117"/>
                  </a:lnTo>
                  <a:lnTo>
                    <a:pt x="7" y="130"/>
                  </a:lnTo>
                  <a:lnTo>
                    <a:pt x="11" y="142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0" y="169"/>
                  </a:lnTo>
                  <a:lnTo>
                    <a:pt x="38" y="172"/>
                  </a:lnTo>
                  <a:lnTo>
                    <a:pt x="48" y="176"/>
                  </a:lnTo>
                  <a:lnTo>
                    <a:pt x="55" y="178"/>
                  </a:lnTo>
                  <a:lnTo>
                    <a:pt x="55" y="178"/>
                  </a:lnTo>
                  <a:lnTo>
                    <a:pt x="55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566960" y="2873520"/>
              <a:ext cx="288720" cy="46368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5" y="176"/>
                  </a:moveTo>
                  <a:lnTo>
                    <a:pt x="65" y="176"/>
                  </a:lnTo>
                  <a:lnTo>
                    <a:pt x="72" y="172"/>
                  </a:lnTo>
                  <a:lnTo>
                    <a:pt x="82" y="169"/>
                  </a:lnTo>
                  <a:lnTo>
                    <a:pt x="88" y="161"/>
                  </a:lnTo>
                  <a:lnTo>
                    <a:pt x="95" y="151"/>
                  </a:lnTo>
                  <a:lnTo>
                    <a:pt x="101" y="142"/>
                  </a:lnTo>
                  <a:lnTo>
                    <a:pt x="105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5"/>
                  </a:lnTo>
                  <a:lnTo>
                    <a:pt x="109" y="61"/>
                  </a:lnTo>
                  <a:lnTo>
                    <a:pt x="105" y="48"/>
                  </a:lnTo>
                  <a:lnTo>
                    <a:pt x="101" y="37"/>
                  </a:lnTo>
                  <a:lnTo>
                    <a:pt x="95" y="27"/>
                  </a:lnTo>
                  <a:lnTo>
                    <a:pt x="88" y="17"/>
                  </a:lnTo>
                  <a:lnTo>
                    <a:pt x="82" y="12"/>
                  </a:lnTo>
                  <a:lnTo>
                    <a:pt x="72" y="6"/>
                  </a:lnTo>
                  <a:lnTo>
                    <a:pt x="65" y="2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1" y="37"/>
                  </a:lnTo>
                  <a:lnTo>
                    <a:pt x="7" y="48"/>
                  </a:lnTo>
                  <a:lnTo>
                    <a:pt x="3" y="61"/>
                  </a:lnTo>
                  <a:lnTo>
                    <a:pt x="2" y="75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3" y="117"/>
                  </a:lnTo>
                  <a:lnTo>
                    <a:pt x="7" y="130"/>
                  </a:lnTo>
                  <a:lnTo>
                    <a:pt x="11" y="142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0" y="169"/>
                  </a:lnTo>
                  <a:lnTo>
                    <a:pt x="38" y="172"/>
                  </a:lnTo>
                  <a:lnTo>
                    <a:pt x="48" y="176"/>
                  </a:lnTo>
                  <a:lnTo>
                    <a:pt x="55" y="178"/>
                  </a:lnTo>
                  <a:lnTo>
                    <a:pt x="55" y="17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578680" y="386640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578680" y="372600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8"/>
                  </a:moveTo>
                  <a:lnTo>
                    <a:pt x="10" y="19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610520" y="2996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674960" y="299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725720" y="29966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745880" y="299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774680" y="299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801680" y="299664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600440" y="31111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619880" y="311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671360" y="311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693680" y="311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725000" y="311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751640" y="311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709880" y="3332160"/>
              <a:ext cx="2880" cy="10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4856040" y="3102840"/>
              <a:ext cx="9360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149200" y="386640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060640" y="3890160"/>
              <a:ext cx="1036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262040" y="358812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262040" y="485460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262040" y="25196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119640" y="398664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119640" y="451548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6359760" y="4533840"/>
              <a:ext cx="312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606200" y="3960360"/>
              <a:ext cx="1521360" cy="578520"/>
            </a:xfrm>
            <a:custGeom>
              <a:avLst/>
              <a:gdLst/>
              <a:ahLst/>
              <a:rect l="l" t="t" r="r" b="b"/>
              <a:pathLst>
                <a:path w="584" h="222">
                  <a:moveTo>
                    <a:pt x="584" y="220"/>
                  </a:moveTo>
                  <a:lnTo>
                    <a:pt x="0" y="22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920000" y="398664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8159760" y="4010040"/>
              <a:ext cx="2106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920000" y="485460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149200" y="25196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2388600" y="2545560"/>
              <a:ext cx="18835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H="1">
              <a:off x="1685520" y="2545560"/>
              <a:ext cx="4737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390680" y="130500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390680" y="172692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200240" y="1328040"/>
              <a:ext cx="633240" cy="1217160"/>
            </a:xfrm>
            <a:custGeom>
              <a:avLst/>
              <a:gdLst/>
              <a:ahLst/>
              <a:rect l="l" t="t" r="r" b="b"/>
              <a:pathLst>
                <a:path w="243" h="467">
                  <a:moveTo>
                    <a:pt x="82" y="0"/>
                  </a:moveTo>
                  <a:lnTo>
                    <a:pt x="0" y="0"/>
                  </a:lnTo>
                  <a:lnTo>
                    <a:pt x="0" y="262"/>
                  </a:lnTo>
                  <a:lnTo>
                    <a:pt x="243" y="262"/>
                  </a:lnTo>
                  <a:lnTo>
                    <a:pt x="243" y="4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47840" y="1174680"/>
              <a:ext cx="1276560" cy="2369160"/>
            </a:xfrm>
            <a:custGeom>
              <a:avLst/>
              <a:gdLst/>
              <a:ahLst/>
              <a:rect l="l" t="t" r="r" b="b"/>
              <a:pathLst>
                <a:path w="490" h="909">
                  <a:moveTo>
                    <a:pt x="40" y="907"/>
                  </a:moveTo>
                  <a:lnTo>
                    <a:pt x="0" y="909"/>
                  </a:lnTo>
                  <a:lnTo>
                    <a:pt x="0" y="0"/>
                  </a:lnTo>
                  <a:lnTo>
                    <a:pt x="490" y="0"/>
                  </a:lnTo>
                  <a:lnTo>
                    <a:pt x="490" y="141"/>
                  </a:lnTo>
                  <a:lnTo>
                    <a:pt x="450" y="1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rot="16200000">
              <a:off x="2505240" y="3718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rot="16200000">
              <a:off x="2484000" y="367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rot="16200000">
              <a:off x="2488680" y="3630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rot="16200000">
              <a:off x="2505240" y="3594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rot="16200000">
              <a:off x="2501640" y="3565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rot="16200000">
              <a:off x="2484000" y="3519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rot="16200000">
              <a:off x="2488680" y="346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rot="16200000">
              <a:off x="2505240" y="3438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rot="16200000">
              <a:off x="2509920" y="3420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rot="16200000">
              <a:off x="2484000" y="3377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rot="16200000">
              <a:off x="2484000" y="3321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193480" y="2167560"/>
              <a:ext cx="205560" cy="99000"/>
            </a:xfrm>
            <a:custGeom>
              <a:avLst/>
              <a:gdLst/>
              <a:ahLst/>
              <a:rect l="l" t="t" r="r" b="b"/>
              <a:pathLst>
                <a:path w="79" h="38">
                  <a:moveTo>
                    <a:pt x="77" y="0"/>
                  </a:moveTo>
                  <a:lnTo>
                    <a:pt x="79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193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219760" y="21574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274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29932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328120" y="2157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306320" y="2167560"/>
              <a:ext cx="205560" cy="99000"/>
            </a:xfrm>
            <a:custGeom>
              <a:avLst/>
              <a:gdLst/>
              <a:ahLst/>
              <a:rect l="l" t="t" r="r" b="b"/>
              <a:pathLst>
                <a:path w="79" h="38">
                  <a:moveTo>
                    <a:pt x="77" y="0"/>
                  </a:moveTo>
                  <a:lnTo>
                    <a:pt x="79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163920" y="2167560"/>
              <a:ext cx="203040" cy="9900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78" y="0"/>
                  </a:moveTo>
                  <a:lnTo>
                    <a:pt x="78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08256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14736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207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23988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31152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37812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966800" y="2167560"/>
              <a:ext cx="203040" cy="9900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78" y="0"/>
                  </a:moveTo>
                  <a:lnTo>
                    <a:pt x="78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87032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95060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01144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088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116200" y="21574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820584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404960" y="2326320"/>
              <a:ext cx="96840" cy="31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404960" y="2326320"/>
              <a:ext cx="96840" cy="3101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316400" y="2326320"/>
              <a:ext cx="88560" cy="31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316400" y="2326320"/>
              <a:ext cx="88560" cy="3101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2632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0" y="1190"/>
                  </a:moveTo>
                  <a:lnTo>
                    <a:pt x="37" y="1190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2632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0" y="1190"/>
                  </a:moveTo>
                  <a:lnTo>
                    <a:pt x="37" y="1190"/>
                  </a:lnTo>
                  <a:lnTo>
                    <a:pt x="37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174720" y="2326320"/>
              <a:ext cx="9324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34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6" y="119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174720" y="2326320"/>
              <a:ext cx="9324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34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6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445760" y="1244880"/>
              <a:ext cx="17424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5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0"/>
                  </a:lnTo>
                  <a:lnTo>
                    <a:pt x="65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3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3"/>
                  </a:lnTo>
                  <a:lnTo>
                    <a:pt x="15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200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445760" y="1244880"/>
              <a:ext cx="17424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5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0"/>
                  </a:lnTo>
                  <a:lnTo>
                    <a:pt x="65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3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3"/>
                  </a:lnTo>
                  <a:lnTo>
                    <a:pt x="15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200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490040" y="13906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570680" y="13906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503720" y="1484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560240" y="14846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504440" y="1573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477800" y="12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477800" y="169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499760" y="24854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558800" y="248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13880" y="248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16680" y="34837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76080" y="3483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439840" y="4374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>
              <a:off x="6359760" y="4010040"/>
              <a:ext cx="3124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661440" y="3991680"/>
              <a:ext cx="51840" cy="442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2" y="17"/>
                  </a:lnTo>
                  <a:lnTo>
                    <a:pt x="20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57200" y="39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822000" y="39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872400" y="39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922440" y="393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954840" y="39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007760" y="393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052040" y="393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752880" y="44323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838200" y="4432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867360" y="44323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894000" y="4432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916680" y="4432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966360" y="44323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751800" y="452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800760" y="452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851160" y="4526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881760" y="452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448840" y="40726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524440" y="407268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463240" y="4161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514360" y="416160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463960" y="425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43984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06616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06616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9750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9750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20356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20356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29464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29464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302640" y="383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37212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42180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477600" y="38329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498120" y="3832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542040" y="383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56508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620520" y="383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651840" y="3832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782160" y="3504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846600" y="350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900960" y="350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952080" y="350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006800" y="35042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72132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77604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827160" y="3598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85812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908160" y="3598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93084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782160" y="3858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846600" y="3858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900960" y="3858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952080" y="3858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006800" y="38588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72132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77604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827160" y="3952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85812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908160" y="3952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93084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018600" y="3363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085560" y="3363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138840" y="3363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192480" y="3363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243600" y="33634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018240" y="3457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04668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10248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151800" y="3457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172320" y="3457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221640" y="3457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24720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298320" y="3457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331080" y="3457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35664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018600" y="3647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085560" y="364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138840" y="364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192480" y="364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243600" y="36478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018240" y="3738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04668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10248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151800" y="3738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172320" y="373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221640" y="3738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24720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298320" y="3738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331080" y="3738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35664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36168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41100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662280" y="47714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722400" y="4771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745080" y="477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796920" y="477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48040" y="477144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60648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661920" y="488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706200" y="4885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73176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78612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83580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579920" y="3942360"/>
              <a:ext cx="51840" cy="442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17"/>
                  </a:move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7765920" y="4010040"/>
              <a:ext cx="1587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018600" y="3926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108240" y="3926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138840" y="39268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156480" y="392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181680" y="3926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238200" y="39268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018240" y="4023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046680" y="402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102480" y="402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151800" y="40230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172320" y="4023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221640" y="4023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247200" y="402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298320" y="4023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018600" y="4205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108240" y="4205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138840" y="42058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156480" y="4205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181680" y="4205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238200" y="420588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017880" y="4302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072600" y="4302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124080" y="4302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145680" y="4302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769120" y="4221000"/>
              <a:ext cx="5916960" cy="1449000"/>
            </a:xfrm>
            <a:custGeom>
              <a:avLst/>
              <a:gdLst/>
              <a:ahLst/>
              <a:rect l="l" t="t" r="r" b="b"/>
              <a:pathLst>
                <a:path w="2271" h="556">
                  <a:moveTo>
                    <a:pt x="67" y="34"/>
                  </a:moveTo>
                  <a:lnTo>
                    <a:pt x="0" y="34"/>
                  </a:lnTo>
                  <a:lnTo>
                    <a:pt x="0" y="556"/>
                  </a:lnTo>
                  <a:lnTo>
                    <a:pt x="2271" y="556"/>
                  </a:lnTo>
                  <a:lnTo>
                    <a:pt x="2271" y="0"/>
                  </a:lnTo>
                  <a:lnTo>
                    <a:pt x="223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510320" y="3908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580160" y="390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629840" y="390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679160" y="390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734960" y="39085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540920" y="40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591680" y="40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645680" y="400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72680" y="40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135200" y="4095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199640" y="4095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256160" y="4095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280640" y="4095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336440" y="40957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073280" y="42112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144920" y="4211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200000" y="42112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275240" y="4211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330320" y="4211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361640" y="4211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883400" y="432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553720" y="38617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617800" y="3861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668200" y="3861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739120" y="386172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484240" y="3952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51376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564160" y="3952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61276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663520" y="3952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683680" y="3952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894920" y="40230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975920" y="40230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909320" y="4111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965120" y="41119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910040" y="4205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285520" y="3832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34744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400000" y="383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533560" y="3713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586480" y="371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645880" y="3713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673960" y="371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5031000" y="4171680"/>
              <a:ext cx="986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4709520" y="4380120"/>
              <a:ext cx="109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H="1">
              <a:off x="4502160" y="3605760"/>
              <a:ext cx="627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5754960" y="4010040"/>
              <a:ext cx="3718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502160" y="4380120"/>
              <a:ext cx="207720" cy="497520"/>
            </a:xfrm>
            <a:custGeom>
              <a:avLst/>
              <a:gdLst/>
              <a:ahLst/>
              <a:rect l="l" t="t" r="r" b="b"/>
              <a:pathLst>
                <a:path w="80" h="191">
                  <a:moveTo>
                    <a:pt x="80" y="0"/>
                  </a:moveTo>
                  <a:lnTo>
                    <a:pt x="80" y="191"/>
                  </a:lnTo>
                  <a:lnTo>
                    <a:pt x="0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28580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311000" y="2157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438084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40424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46472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 flipV="1">
              <a:off x="3386520" y="4817880"/>
              <a:ext cx="64800" cy="119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 flipV="1">
              <a:off x="4001760" y="4817880"/>
              <a:ext cx="64800" cy="119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931200" y="4877640"/>
              <a:ext cx="340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599560" y="3751920"/>
              <a:ext cx="3441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4032720" y="3960360"/>
              <a:ext cx="2343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388600" y="3890160"/>
              <a:ext cx="2106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4032720" y="3605760"/>
              <a:ext cx="2343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2599200" y="4877640"/>
              <a:ext cx="9327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846360" y="3517920"/>
              <a:ext cx="44280" cy="43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810080" y="25196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8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599560" y="3468240"/>
              <a:ext cx="344160" cy="1409400"/>
            </a:xfrm>
            <a:custGeom>
              <a:avLst/>
              <a:gdLst/>
              <a:ahLst/>
              <a:rect l="l" t="t" r="r" b="b"/>
              <a:pathLst>
                <a:path w="132" h="541">
                  <a:moveTo>
                    <a:pt x="132" y="0"/>
                  </a:moveTo>
                  <a:lnTo>
                    <a:pt x="0" y="2"/>
                  </a:lnTo>
                  <a:lnTo>
                    <a:pt x="0" y="5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119640" y="531864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920000" y="531864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578680" y="485460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691520" y="4359600"/>
              <a:ext cx="44280" cy="46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8"/>
                  </a:move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442920" y="3991680"/>
              <a:ext cx="44280" cy="44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26672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com sub e lw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6" name="F062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505764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11:18Z</dcterms:created>
  <dc:creator>Tod Amon</dc:creator>
  <dc:description/>
  <dc:language>en-US</dc:language>
  <cp:lastModifiedBy>User</cp:lastModifiedBy>
  <cp:lastPrinted>1997-08-29T17:57:02Z</cp:lastPrinted>
  <dcterms:modified xsi:type="dcterms:W3CDTF">2002-05-04T12:34:26Z</dcterms:modified>
  <cp:revision>13</cp:revision>
  <dc:subject/>
  <dc:title>Chapter Six</dc:title>
</cp:coreProperties>
</file>