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62680" y="6477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7b-</a:t>
            </a:r>
            <a:fld id="{20F17CE8-3A7B-4A60-AA5D-D7718E56543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e 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Vir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, Virtual memory and Cache (pag 59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38160" y="2548080"/>
            <a:ext cx="9105480" cy="2396520"/>
            <a:chOff x="38160" y="2548080"/>
            <a:chExt cx="9105480" cy="2396520"/>
          </a:xfrm>
        </p:grpSpPr>
        <p:sp>
          <p:nvSpPr>
            <p:cNvPr id="2047" name=""/>
            <p:cNvSpPr/>
            <p:nvPr/>
          </p:nvSpPr>
          <p:spPr>
            <a:xfrm>
              <a:off x="38160" y="2734560"/>
              <a:ext cx="9105480" cy="441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8" name=""/>
            <p:cNvGraphicFramePr/>
            <p:nvPr/>
          </p:nvGraphicFramePr>
          <p:xfrm>
            <a:off x="38160" y="2548080"/>
            <a:ext cx="9105480" cy="2396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160" y="2548080"/>
                      <a:ext cx="9105480" cy="23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ion with Virtual Memo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 txBox="1"/>
          <p:nvPr/>
        </p:nvSpPr>
        <p:spPr>
          <a:xfrm>
            <a:off x="488160" y="147888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t least two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 proces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rnel, supervisor, execu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tate that user process can read but not write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table and TL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structions that are only available in supervisor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whereby the CPU can go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  and vice 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o supervisor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call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or to user 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from exception (RF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: page tables (operating system´s address spa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ling Page Faults and TLB mi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417600" y="1332000"/>
            <a:ext cx="8003160" cy="480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mis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ftware or hard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present in memory, and we need only create the missing TLB ent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ge is not present in memory, and we need to transfer control to the operating system to deal with a page faul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ion mechan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saves the entire state the activ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C = virtual address of the faulting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ust complete three step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the page table entry using the virtual address and find the location of referenced page on d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se a physical page to replace; if the chosen page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t must be written out to disk before we can bring a new virtual page into this physical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a read to bring the referenced page from disk into the chosen physical p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04920" y="1066680"/>
            <a:ext cx="8381880" cy="685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an a Block Be Plac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1752480" y="2133720"/>
            <a:ext cx="5644800" cy="1287000"/>
            <a:chOff x="1752480" y="2133720"/>
            <a:chExt cx="5644800" cy="1287000"/>
          </a:xfrm>
        </p:grpSpPr>
        <p:sp>
          <p:nvSpPr>
            <p:cNvPr id="2058" name=""/>
            <p:cNvSpPr/>
            <p:nvPr/>
          </p:nvSpPr>
          <p:spPr>
            <a:xfrm>
              <a:off x="1890000" y="214920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me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69040" y="2149200"/>
              <a:ext cx="103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821920" y="214920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 per 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752480" y="2133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75248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75248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752480" y="2133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75248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75248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758600" y="213372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758600" y="213372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044520" y="2133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044520" y="21337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04452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51000" y="213372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051000" y="213372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158800" y="2133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158800" y="213372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15880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165640" y="213372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165640" y="213372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39116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39116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391160" y="213372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391160" y="2133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752480" y="214272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75248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044520" y="21427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4452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158800" y="214272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15880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391160" y="214272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887120" y="240588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ma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73760" y="240588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231240" y="24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752480" y="239220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752480" y="23922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75248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758600" y="239220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58600" y="239220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044520" y="239220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4520" y="23922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4452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51000" y="239220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51000" y="239220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158800" y="239220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158800" y="239220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15880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65640" y="239220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165640" y="239220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391160" y="239220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391160" y="239220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752480" y="239940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75248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44520" y="239940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4452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158800" y="239940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5880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391160" y="239940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871280" y="266472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173760" y="2664720"/>
              <a:ext cx="180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s in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179880" y="2882880"/>
              <a:ext cx="1845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672360" y="291204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272560" y="2664720"/>
              <a:ext cx="19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vity (typically  2 – 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752480" y="264888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752480" y="264888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5248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758600" y="264888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58600" y="264888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044520" y="264888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044520" y="264888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04452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51000" y="264888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051000" y="264888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158800" y="264888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158800" y="264888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15880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165640" y="264888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165640" y="264888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391160" y="264888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91160" y="264888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752480" y="265788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75248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044520" y="265788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452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158800" y="265788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15880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391160" y="2657880"/>
              <a:ext cx="144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23760" y="316872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lly associ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059360" y="316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55280" y="3168720"/>
              <a:ext cx="198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block in the 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752480" y="3155040"/>
              <a:ext cx="61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752480" y="31550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75248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58600" y="3155040"/>
              <a:ext cx="128556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758600" y="3155040"/>
              <a:ext cx="12855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044520" y="315504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044520" y="31550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04452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051000" y="3155040"/>
              <a:ext cx="210780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051000" y="3155040"/>
              <a:ext cx="21078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158800" y="3155040"/>
              <a:ext cx="648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158800" y="3155040"/>
              <a:ext cx="64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15880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165640" y="3155040"/>
              <a:ext cx="2225520" cy="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165640" y="3155040"/>
              <a:ext cx="22255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391160" y="3155040"/>
              <a:ext cx="6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391160" y="3155040"/>
              <a:ext cx="144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52480" y="316224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75248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752480" y="3411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75248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75248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752480" y="3411720"/>
              <a:ext cx="61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75248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75248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758600" y="3411720"/>
              <a:ext cx="12855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758600" y="3411720"/>
              <a:ext cx="128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044520" y="31622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04452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044520" y="3411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044520" y="341172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04452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051000" y="3411720"/>
              <a:ext cx="21078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051000" y="3411720"/>
              <a:ext cx="210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158800" y="316224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15880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158800" y="3411720"/>
              <a:ext cx="64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158800" y="341172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15880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165640" y="3411720"/>
              <a:ext cx="22255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165640" y="3411720"/>
              <a:ext cx="222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391160" y="3162240"/>
              <a:ext cx="1440" cy="24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39116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39116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391160" y="3411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391160" y="3411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95" name=""/>
          <p:cNvGraphicFramePr/>
          <p:nvPr/>
        </p:nvGraphicFramePr>
        <p:xfrm>
          <a:off x="1523880" y="4076640"/>
          <a:ext cx="6167520" cy="156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76640"/>
                    <a:ext cx="61675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 rate vs set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961920" y="738360"/>
            <a:ext cx="7201440" cy="6018480"/>
            <a:chOff x="961920" y="738360"/>
            <a:chExt cx="7201440" cy="6018480"/>
          </a:xfrm>
        </p:grpSpPr>
        <p:sp>
          <p:nvSpPr>
            <p:cNvPr id="2199" name=""/>
            <p:cNvSpPr/>
            <p:nvPr/>
          </p:nvSpPr>
          <p:spPr>
            <a:xfrm>
              <a:off x="1706760" y="5500800"/>
              <a:ext cx="6066000" cy="11880"/>
            </a:xfrm>
            <a:custGeom>
              <a:avLst/>
              <a:gdLst/>
              <a:ahLst/>
              <a:rect l="l" t="t" r="r" b="b"/>
              <a:pathLst>
                <a:path w="2491" h="5">
                  <a:moveTo>
                    <a:pt x="2491" y="0"/>
                  </a:moveTo>
                  <a:lnTo>
                    <a:pt x="2491" y="5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398600" y="53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485360" y="53956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398600" y="448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485360" y="44834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98600" y="3544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85360" y="35442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398600" y="2602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485360" y="260244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305000" y="167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389960" y="167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475640" y="16729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305000" y="73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389960" y="73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475640" y="7383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1706760" y="864360"/>
              <a:ext cx="2520" cy="4647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706760" y="458352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706760" y="3648600"/>
              <a:ext cx="8532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706760" y="271944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06760" y="1789560"/>
              <a:ext cx="8532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365160" y="6152760"/>
              <a:ext cx="106920" cy="84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178760" y="6644520"/>
              <a:ext cx="10692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0"/>
                  </a:moveTo>
                  <a:lnTo>
                    <a:pt x="44" y="0"/>
                  </a:lnTo>
                  <a:lnTo>
                    <a:pt x="4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12800" y="51865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2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251960" y="51865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992920" y="51865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2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46400" y="5186520"/>
              <a:ext cx="104040" cy="5616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0"/>
                  </a:moveTo>
                  <a:lnTo>
                    <a:pt x="43" y="2"/>
                  </a:lnTo>
                  <a:lnTo>
                    <a:pt x="43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173720" y="6405840"/>
              <a:ext cx="109800" cy="561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45" y="0"/>
                  </a:lnTo>
                  <a:lnTo>
                    <a:pt x="45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360120" y="5914440"/>
              <a:ext cx="106920" cy="84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0"/>
                  </a:moveTo>
                  <a:lnTo>
                    <a:pt x="44" y="0"/>
                  </a:lnTo>
                  <a:lnTo>
                    <a:pt x="44" y="35"/>
                  </a:lnTo>
                  <a:lnTo>
                    <a:pt x="2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482960" y="5554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585200" y="555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1796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054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796160" y="555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83864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8890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0006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8632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766480" y="5554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86080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4360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03504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8508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1358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2492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3744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043880" y="5554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3388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476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33692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38768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49928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58172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296440" y="55540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41992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51028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90920" y="555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643840" y="5554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757240" y="555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45800" y="555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168680" y="6157800"/>
              <a:ext cx="126720" cy="8496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88680" y="4867560"/>
              <a:ext cx="126360" cy="8532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168680" y="5923800"/>
              <a:ext cx="121680" cy="8532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5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498400" y="4546440"/>
              <a:ext cx="121320" cy="824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36840" y="4855680"/>
              <a:ext cx="121680" cy="874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6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63760" y="4851000"/>
              <a:ext cx="121320" cy="8712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50" y="17"/>
                  </a:moveTo>
                  <a:lnTo>
                    <a:pt x="25" y="0"/>
                  </a:lnTo>
                  <a:lnTo>
                    <a:pt x="0" y="19"/>
                  </a:lnTo>
                  <a:lnTo>
                    <a:pt x="25" y="36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670520" y="4855680"/>
              <a:ext cx="121320" cy="8244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50" y="17"/>
                  </a:moveTo>
                  <a:lnTo>
                    <a:pt x="25" y="0"/>
                  </a:lnTo>
                  <a:lnTo>
                    <a:pt x="0" y="17"/>
                  </a:lnTo>
                  <a:lnTo>
                    <a:pt x="25" y="34"/>
                  </a:lnTo>
                  <a:lnTo>
                    <a:pt x="50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370200" y="6644520"/>
              <a:ext cx="84960" cy="604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517840" y="3938400"/>
              <a:ext cx="82800" cy="60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7" y="23"/>
                  </a:moveTo>
                  <a:lnTo>
                    <a:pt x="21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8" y="21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56280" y="4247280"/>
              <a:ext cx="85320" cy="604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19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987880" y="42426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6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79880" y="4556520"/>
              <a:ext cx="82800" cy="60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5" y="23"/>
                  </a:moveTo>
                  <a:lnTo>
                    <a:pt x="19" y="25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70200" y="6405840"/>
              <a:ext cx="84960" cy="612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517840" y="3317400"/>
              <a:ext cx="82800" cy="612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5" y="23"/>
                  </a:moveTo>
                  <a:lnTo>
                    <a:pt x="19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51960" y="3629160"/>
              <a:ext cx="90000" cy="6048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4"/>
                  </a:moveTo>
                  <a:lnTo>
                    <a:pt x="21" y="24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29" y="22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5" y="18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5" y="8"/>
                  </a:lnTo>
                  <a:lnTo>
                    <a:pt x="35" y="6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87880" y="39384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675560" y="4242600"/>
              <a:ext cx="87120" cy="604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7" y="25"/>
                  </a:moveTo>
                  <a:lnTo>
                    <a:pt x="21" y="25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547680" y="586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633000" y="586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679080" y="586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782760" y="586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884280" y="58683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547680" y="610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33000" y="610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679080" y="6101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782760" y="6101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884280" y="6101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547680" y="63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633000" y="6335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679080" y="633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782760" y="633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884280" y="6335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547680" y="656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633000" y="6568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679080" y="656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82760" y="656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rot="16200000">
              <a:off x="1001520" y="3324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6200000">
              <a:off x="1047960" y="3252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rot="16200000">
              <a:off x="1026720" y="319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rot="16200000">
              <a:off x="1026720" y="3116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rot="16200000">
              <a:off x="1043280" y="306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rot="16200000">
              <a:off x="1039680" y="3003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rot="16200000">
              <a:off x="1022040" y="293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rot="16200000">
              <a:off x="1043280" y="287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rot="16200000">
              <a:off x="1010160" y="2800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757760" y="5824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596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93740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013360" y="582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1044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18184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215680" y="582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298840" y="582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34492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37912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459400" y="582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90000" y="582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532840" y="582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706760" y="860040"/>
              <a:ext cx="853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360920" y="58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450920" y="58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535160" y="58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577640" y="587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684920" y="5873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787520" y="58730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360920" y="610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450920" y="610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535160" y="6106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577640" y="6106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684920" y="6106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87520" y="6106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360920" y="6339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450920" y="6339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535160" y="6339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577640" y="6339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684920" y="6339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787520" y="63399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3609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45092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534800" y="65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624080" y="6573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665120" y="6573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767360" y="6573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706760" y="4583520"/>
              <a:ext cx="60901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706760" y="3648600"/>
              <a:ext cx="60660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706760" y="2719440"/>
              <a:ext cx="606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706760" y="1784520"/>
              <a:ext cx="60660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706760" y="860040"/>
              <a:ext cx="606600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559240" y="5205960"/>
              <a:ext cx="173808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4297680" y="5205960"/>
              <a:ext cx="1726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6024240" y="5205960"/>
              <a:ext cx="16873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 flipV="1">
              <a:off x="2559240" y="4587840"/>
              <a:ext cx="173808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4297680" y="4892400"/>
              <a:ext cx="172656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6024240" y="4892400"/>
              <a:ext cx="168732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 flipV="1">
              <a:off x="2559240" y="3967560"/>
              <a:ext cx="173808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297680" y="4271760"/>
              <a:ext cx="172656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 flipV="1">
              <a:off x="6024240" y="4274280"/>
              <a:ext cx="16873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H="1" flipV="1">
              <a:off x="2559240" y="3344400"/>
              <a:ext cx="173808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flipV="1">
              <a:off x="4297680" y="3658680"/>
              <a:ext cx="1726560" cy="3038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flipV="1">
              <a:off x="6024240" y="3962520"/>
              <a:ext cx="168732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 flipV="1">
              <a:off x="2559240" y="2414880"/>
              <a:ext cx="1738080" cy="62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 flipV="1">
              <a:off x="4297680" y="3037680"/>
              <a:ext cx="1726560" cy="61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6024240" y="3653640"/>
              <a:ext cx="168732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flipV="1">
              <a:off x="2559240" y="1485360"/>
              <a:ext cx="1738080" cy="61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 flipV="1">
              <a:off x="4297680" y="2108520"/>
              <a:ext cx="1726560" cy="301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 flipV="1">
              <a:off x="6024240" y="2410200"/>
              <a:ext cx="1687320" cy="3088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493720" y="235404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31800" y="297720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958720" y="359280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646400" y="3902040"/>
              <a:ext cx="131400" cy="121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2" y="5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493720" y="142452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231800" y="2047680"/>
              <a:ext cx="131400" cy="116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958720" y="2349000"/>
              <a:ext cx="131400" cy="121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0"/>
                  </a:moveTo>
                  <a:lnTo>
                    <a:pt x="54" y="2"/>
                  </a:lnTo>
                  <a:lnTo>
                    <a:pt x="54" y="50"/>
                  </a:lnTo>
                  <a:lnTo>
                    <a:pt x="0" y="5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646400" y="2662920"/>
              <a:ext cx="131400" cy="11664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4" y="0"/>
                  </a:lnTo>
                  <a:lnTo>
                    <a:pt x="54" y="48"/>
                  </a:lnTo>
                  <a:lnTo>
                    <a:pt x="2" y="4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968080" y="5162400"/>
              <a:ext cx="126720" cy="896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0" y="18"/>
                  </a:moveTo>
                  <a:lnTo>
                    <a:pt x="27" y="0"/>
                  </a:lnTo>
                  <a:lnTo>
                    <a:pt x="0" y="18"/>
                  </a:lnTo>
                  <a:lnTo>
                    <a:pt x="27" y="3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651440" y="5162400"/>
              <a:ext cx="126360" cy="896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0" y="18"/>
                  </a:moveTo>
                  <a:lnTo>
                    <a:pt x="27" y="0"/>
                  </a:lnTo>
                  <a:lnTo>
                    <a:pt x="0" y="18"/>
                  </a:lnTo>
                  <a:lnTo>
                    <a:pt x="27" y="3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36840" y="5162400"/>
              <a:ext cx="121680" cy="896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18"/>
                  </a:moveTo>
                  <a:lnTo>
                    <a:pt x="25" y="0"/>
                  </a:lnTo>
                  <a:lnTo>
                    <a:pt x="0" y="18"/>
                  </a:lnTo>
                  <a:lnTo>
                    <a:pt x="25" y="37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2559240" y="5186520"/>
              <a:ext cx="173808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4297680" y="5181840"/>
              <a:ext cx="1726560" cy="97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6024240" y="5181840"/>
              <a:ext cx="168732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2559240" y="4897080"/>
              <a:ext cx="173808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4297680" y="5205960"/>
              <a:ext cx="1726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6024240" y="5205960"/>
              <a:ext cx="168732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512800" y="5152320"/>
              <a:ext cx="101880" cy="561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42" y="0"/>
                  </a:lnTo>
                  <a:lnTo>
                    <a:pt x="4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51960" y="51523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992920" y="5152320"/>
              <a:ext cx="106920" cy="561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0"/>
                  </a:moveTo>
                  <a:lnTo>
                    <a:pt x="44" y="0"/>
                  </a:lnTo>
                  <a:lnTo>
                    <a:pt x="4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641360" y="5152320"/>
              <a:ext cx="109080" cy="561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0" y="0"/>
                  </a:moveTo>
                  <a:lnTo>
                    <a:pt x="45" y="0"/>
                  </a:lnTo>
                  <a:lnTo>
                    <a:pt x="45" y="23"/>
                  </a:lnTo>
                  <a:lnTo>
                    <a:pt x="2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559240" y="5434920"/>
              <a:ext cx="216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93360" y="5434920"/>
              <a:ext cx="432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029280" y="5434920"/>
              <a:ext cx="468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772760" y="5434920"/>
              <a:ext cx="468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a Block Fou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.:  In virtual memor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y is beneficial, since misses are very exp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associativity allows software to use sophisticated replacement schemes that are designed to reduce the miss 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ull map can be easily indexed with no extra hardware and no searching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rge page size means the page table size overhead is relatively smal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2" name=""/>
          <p:cNvGraphicFramePr/>
          <p:nvPr/>
        </p:nvGraphicFramePr>
        <p:xfrm>
          <a:off x="1255680" y="1762200"/>
          <a:ext cx="6634080" cy="136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762200"/>
                    <a:ext cx="663408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4920" y="1066680"/>
            <a:ext cx="8381880" cy="541044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 Block Should Be Replaced on a Cache Mi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:  candidate blocks are randomly selected, possibly using some hardware assi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Recently Used (LRU): The block replaced is the one that has been unused for the longest tim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Hierarch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2860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0880" y="990720"/>
            <a:ext cx="8382240" cy="563868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s on a Wri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es are simpler and cheaper because they never require a            block to be written back to the lower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easier to implement than write-back, although to be practical                in a high-speed system, a write-through cache will need to use a          write buf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-back (copy-b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 words can be written by the processor at the rate that the cache, rather than the memory, can accept th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writes within a block require only one write to the lower level in the hierarc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blocks are written back, the system can make effective use of a high bandwidth transfer, since the entire block is writt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149760" y="8359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complicated memory system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2" name="" descr=""/>
          <p:cNvPicPr/>
          <p:nvPr/>
        </p:nvPicPr>
        <p:blipFill>
          <a:blip r:embed="rId1"/>
          <a:stretch/>
        </p:blipFill>
        <p:spPr>
          <a:xfrm>
            <a:off x="3124080" y="3244680"/>
            <a:ext cx="2743200" cy="161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3" name=""/>
          <p:cNvGraphicFramePr/>
          <p:nvPr/>
        </p:nvGraphicFramePr>
        <p:xfrm>
          <a:off x="990720" y="1219320"/>
          <a:ext cx="7118280" cy="198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118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5" name=""/>
          <p:cNvGraphicFramePr/>
          <p:nvPr/>
        </p:nvGraphicFramePr>
        <p:xfrm>
          <a:off x="1295280" y="4952880"/>
          <a:ext cx="6645240" cy="14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952880"/>
                    <a:ext cx="66452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speeds continue to increase very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uch faster than either DRAM or disk access ti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hallenge:  dealing with this growing dispar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SRAMs (provide a burst of da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esign DRAM chips to provide higher bandwidth or proces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ucture code to increase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refetching (make cache visible to IS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3000" y="1337400"/>
            <a:ext cx="7992360" cy="494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memory can act as a cache for the secondary storage (disk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sion of having more physical memory (programa independente da configuração do hardwar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reloc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(address spac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7840" y="1841400"/>
            <a:ext cx="4110840" cy="3076200"/>
            <a:chOff x="2517840" y="1841400"/>
            <a:chExt cx="4110840" cy="3076200"/>
          </a:xfrm>
        </p:grpSpPr>
        <p:sp>
          <p:nvSpPr>
            <p:cNvPr id="46" name=""/>
            <p:cNvSpPr/>
            <p:nvPr/>
          </p:nvSpPr>
          <p:spPr>
            <a:xfrm>
              <a:off x="2517840" y="207360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7840" y="248616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17840" y="2896920"/>
              <a:ext cx="1233360" cy="20376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7840" y="33076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7840" y="33076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17840" y="37180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17840" y="37180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7840" y="41284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61600" y="4128480"/>
              <a:ext cx="1233360" cy="789120"/>
            </a:xfrm>
            <a:custGeom>
              <a:avLst/>
              <a:gdLst/>
              <a:ahLst/>
              <a:rect l="l" t="t" r="r" b="b"/>
              <a:pathLst>
                <a:path w="574" h="367">
                  <a:moveTo>
                    <a:pt x="574" y="81"/>
                  </a:moveTo>
                  <a:lnTo>
                    <a:pt x="570" y="69"/>
                  </a:lnTo>
                  <a:lnTo>
                    <a:pt x="561" y="56"/>
                  </a:lnTo>
                  <a:lnTo>
                    <a:pt x="544" y="44"/>
                  </a:lnTo>
                  <a:lnTo>
                    <a:pt x="519" y="35"/>
                  </a:lnTo>
                  <a:lnTo>
                    <a:pt x="490" y="25"/>
                  </a:lnTo>
                  <a:lnTo>
                    <a:pt x="457" y="16"/>
                  </a:lnTo>
                  <a:lnTo>
                    <a:pt x="419" y="10"/>
                  </a:lnTo>
                  <a:lnTo>
                    <a:pt x="379" y="4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41" y="2"/>
                  </a:lnTo>
                  <a:lnTo>
                    <a:pt x="197" y="4"/>
                  </a:lnTo>
                  <a:lnTo>
                    <a:pt x="155" y="10"/>
                  </a:lnTo>
                  <a:lnTo>
                    <a:pt x="119" y="16"/>
                  </a:lnTo>
                  <a:lnTo>
                    <a:pt x="84" y="25"/>
                  </a:lnTo>
                  <a:lnTo>
                    <a:pt x="56" y="35"/>
                  </a:lnTo>
                  <a:lnTo>
                    <a:pt x="33" y="44"/>
                  </a:lnTo>
                  <a:lnTo>
                    <a:pt x="15" y="56"/>
                  </a:lnTo>
                  <a:lnTo>
                    <a:pt x="4" y="69"/>
                  </a:lnTo>
                  <a:lnTo>
                    <a:pt x="0" y="83"/>
                  </a:lnTo>
                  <a:lnTo>
                    <a:pt x="0" y="287"/>
                  </a:lnTo>
                  <a:lnTo>
                    <a:pt x="4" y="300"/>
                  </a:lnTo>
                  <a:lnTo>
                    <a:pt x="15" y="312"/>
                  </a:lnTo>
                  <a:lnTo>
                    <a:pt x="33" y="323"/>
                  </a:lnTo>
                  <a:lnTo>
                    <a:pt x="56" y="335"/>
                  </a:lnTo>
                  <a:lnTo>
                    <a:pt x="84" y="344"/>
                  </a:lnTo>
                  <a:lnTo>
                    <a:pt x="119" y="352"/>
                  </a:lnTo>
                  <a:lnTo>
                    <a:pt x="155" y="360"/>
                  </a:lnTo>
                  <a:lnTo>
                    <a:pt x="197" y="364"/>
                  </a:lnTo>
                  <a:lnTo>
                    <a:pt x="241" y="367"/>
                  </a:lnTo>
                  <a:lnTo>
                    <a:pt x="287" y="367"/>
                  </a:lnTo>
                  <a:lnTo>
                    <a:pt x="335" y="367"/>
                  </a:lnTo>
                  <a:lnTo>
                    <a:pt x="379" y="364"/>
                  </a:lnTo>
                  <a:lnTo>
                    <a:pt x="419" y="360"/>
                  </a:lnTo>
                  <a:lnTo>
                    <a:pt x="457" y="352"/>
                  </a:lnTo>
                  <a:lnTo>
                    <a:pt x="490" y="344"/>
                  </a:lnTo>
                  <a:lnTo>
                    <a:pt x="519" y="335"/>
                  </a:lnTo>
                  <a:lnTo>
                    <a:pt x="544" y="323"/>
                  </a:lnTo>
                  <a:lnTo>
                    <a:pt x="561" y="312"/>
                  </a:lnTo>
                  <a:lnTo>
                    <a:pt x="570" y="300"/>
                  </a:lnTo>
                  <a:lnTo>
                    <a:pt x="574" y="287"/>
                  </a:lnTo>
                  <a:lnTo>
                    <a:pt x="574" y="83"/>
                  </a:lnTo>
                  <a:lnTo>
                    <a:pt x="574" y="83"/>
                  </a:lnTo>
                  <a:lnTo>
                    <a:pt x="574" y="8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61600" y="4128480"/>
              <a:ext cx="1233360" cy="789120"/>
            </a:xfrm>
            <a:custGeom>
              <a:avLst/>
              <a:gdLst/>
              <a:ahLst/>
              <a:rect l="l" t="t" r="r" b="b"/>
              <a:pathLst>
                <a:path w="574" h="367">
                  <a:moveTo>
                    <a:pt x="574" y="81"/>
                  </a:moveTo>
                  <a:lnTo>
                    <a:pt x="570" y="69"/>
                  </a:lnTo>
                  <a:lnTo>
                    <a:pt x="561" y="56"/>
                  </a:lnTo>
                  <a:lnTo>
                    <a:pt x="544" y="44"/>
                  </a:lnTo>
                  <a:lnTo>
                    <a:pt x="519" y="35"/>
                  </a:lnTo>
                  <a:lnTo>
                    <a:pt x="490" y="25"/>
                  </a:lnTo>
                  <a:lnTo>
                    <a:pt x="457" y="16"/>
                  </a:lnTo>
                  <a:lnTo>
                    <a:pt x="419" y="10"/>
                  </a:lnTo>
                  <a:lnTo>
                    <a:pt x="379" y="4"/>
                  </a:lnTo>
                  <a:lnTo>
                    <a:pt x="335" y="2"/>
                  </a:lnTo>
                  <a:lnTo>
                    <a:pt x="287" y="0"/>
                  </a:lnTo>
                  <a:lnTo>
                    <a:pt x="241" y="2"/>
                  </a:lnTo>
                  <a:lnTo>
                    <a:pt x="197" y="4"/>
                  </a:lnTo>
                  <a:lnTo>
                    <a:pt x="155" y="10"/>
                  </a:lnTo>
                  <a:lnTo>
                    <a:pt x="119" y="16"/>
                  </a:lnTo>
                  <a:lnTo>
                    <a:pt x="84" y="25"/>
                  </a:lnTo>
                  <a:lnTo>
                    <a:pt x="56" y="35"/>
                  </a:lnTo>
                  <a:lnTo>
                    <a:pt x="33" y="44"/>
                  </a:lnTo>
                  <a:lnTo>
                    <a:pt x="15" y="56"/>
                  </a:lnTo>
                  <a:lnTo>
                    <a:pt x="4" y="69"/>
                  </a:lnTo>
                  <a:lnTo>
                    <a:pt x="0" y="83"/>
                  </a:lnTo>
                  <a:lnTo>
                    <a:pt x="0" y="287"/>
                  </a:lnTo>
                  <a:lnTo>
                    <a:pt x="4" y="300"/>
                  </a:lnTo>
                  <a:lnTo>
                    <a:pt x="15" y="312"/>
                  </a:lnTo>
                  <a:lnTo>
                    <a:pt x="33" y="323"/>
                  </a:lnTo>
                  <a:lnTo>
                    <a:pt x="56" y="335"/>
                  </a:lnTo>
                  <a:lnTo>
                    <a:pt x="84" y="344"/>
                  </a:lnTo>
                  <a:lnTo>
                    <a:pt x="119" y="352"/>
                  </a:lnTo>
                  <a:lnTo>
                    <a:pt x="155" y="360"/>
                  </a:lnTo>
                  <a:lnTo>
                    <a:pt x="197" y="364"/>
                  </a:lnTo>
                  <a:lnTo>
                    <a:pt x="241" y="367"/>
                  </a:lnTo>
                  <a:lnTo>
                    <a:pt x="287" y="367"/>
                  </a:lnTo>
                  <a:lnTo>
                    <a:pt x="335" y="367"/>
                  </a:lnTo>
                  <a:lnTo>
                    <a:pt x="379" y="364"/>
                  </a:lnTo>
                  <a:lnTo>
                    <a:pt x="419" y="360"/>
                  </a:lnTo>
                  <a:lnTo>
                    <a:pt x="457" y="352"/>
                  </a:lnTo>
                  <a:lnTo>
                    <a:pt x="490" y="344"/>
                  </a:lnTo>
                  <a:lnTo>
                    <a:pt x="519" y="335"/>
                  </a:lnTo>
                  <a:lnTo>
                    <a:pt x="544" y="323"/>
                  </a:lnTo>
                  <a:lnTo>
                    <a:pt x="561" y="312"/>
                  </a:lnTo>
                  <a:lnTo>
                    <a:pt x="570" y="300"/>
                  </a:lnTo>
                  <a:lnTo>
                    <a:pt x="574" y="287"/>
                  </a:lnTo>
                  <a:lnTo>
                    <a:pt x="574" y="83"/>
                  </a:lnTo>
                  <a:lnTo>
                    <a:pt x="574" y="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4920" y="1841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2492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0556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7360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4020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7260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388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1660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4756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832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602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398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1396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582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356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022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7316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056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94960" y="207360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94960" y="22798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94960" y="2486160"/>
              <a:ext cx="123372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94960" y="2690280"/>
              <a:ext cx="123372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94960" y="2896920"/>
              <a:ext cx="1233720" cy="20376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4960" y="3100680"/>
              <a:ext cx="123372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94960" y="33076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4960" y="3513600"/>
              <a:ext cx="123372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4960" y="3718080"/>
              <a:ext cx="123372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61600" y="4302360"/>
              <a:ext cx="1233360" cy="180720"/>
            </a:xfrm>
            <a:custGeom>
              <a:avLst/>
              <a:gdLst/>
              <a:ahLst/>
              <a:rect l="l" t="t" r="r" b="b"/>
              <a:pathLst>
                <a:path w="574" h="84">
                  <a:moveTo>
                    <a:pt x="0" y="0"/>
                  </a:moveTo>
                  <a:lnTo>
                    <a:pt x="4" y="15"/>
                  </a:lnTo>
                  <a:lnTo>
                    <a:pt x="15" y="26"/>
                  </a:lnTo>
                  <a:lnTo>
                    <a:pt x="33" y="40"/>
                  </a:lnTo>
                  <a:lnTo>
                    <a:pt x="56" y="49"/>
                  </a:lnTo>
                  <a:lnTo>
                    <a:pt x="84" y="59"/>
                  </a:lnTo>
                  <a:lnTo>
                    <a:pt x="119" y="67"/>
                  </a:lnTo>
                  <a:lnTo>
                    <a:pt x="155" y="74"/>
                  </a:lnTo>
                  <a:lnTo>
                    <a:pt x="197" y="80"/>
                  </a:lnTo>
                  <a:lnTo>
                    <a:pt x="241" y="82"/>
                  </a:lnTo>
                  <a:lnTo>
                    <a:pt x="287" y="84"/>
                  </a:lnTo>
                  <a:lnTo>
                    <a:pt x="335" y="82"/>
                  </a:lnTo>
                  <a:lnTo>
                    <a:pt x="379" y="80"/>
                  </a:lnTo>
                  <a:lnTo>
                    <a:pt x="419" y="74"/>
                  </a:lnTo>
                  <a:lnTo>
                    <a:pt x="457" y="67"/>
                  </a:lnTo>
                  <a:lnTo>
                    <a:pt x="490" y="59"/>
                  </a:lnTo>
                  <a:lnTo>
                    <a:pt x="519" y="49"/>
                  </a:lnTo>
                  <a:lnTo>
                    <a:pt x="544" y="40"/>
                  </a:lnTo>
                  <a:lnTo>
                    <a:pt x="561" y="26"/>
                  </a:lnTo>
                  <a:lnTo>
                    <a:pt x="570" y="15"/>
                  </a:lnTo>
                  <a:lnTo>
                    <a:pt x="574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97920" y="44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96200" y="4446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2500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9520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64680" y="4446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24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7556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296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33600" y="4446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778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5096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152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90280" y="44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66960" y="4446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17840" y="2279880"/>
              <a:ext cx="1233360" cy="20592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7840" y="26902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7840" y="3100680"/>
              <a:ext cx="1233360" cy="206640"/>
            </a:xfrm>
            <a:custGeom>
              <a:avLst/>
              <a:gdLst/>
              <a:ahLst/>
              <a:rect l="l" t="t" r="r" b="b"/>
              <a:pathLst>
                <a:path w="574" h="96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74" y="96"/>
                  </a:lnTo>
                  <a:lnTo>
                    <a:pt x="574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7840" y="351360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7840" y="392436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7840" y="433512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  <a:lnTo>
                    <a:pt x="574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7840" y="4335120"/>
              <a:ext cx="1233360" cy="204120"/>
            </a:xfrm>
            <a:custGeom>
              <a:avLst/>
              <a:gdLst/>
              <a:ahLst/>
              <a:rect l="l" t="t" r="r" b="b"/>
              <a:pathLst>
                <a:path w="574" h="95">
                  <a:moveTo>
                    <a:pt x="574" y="94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74" y="95"/>
                  </a:lnTo>
                  <a:lnTo>
                    <a:pt x="574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2160" y="1841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0144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024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7524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520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044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67840" y="1841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96280" y="1841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340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14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70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65200" y="1841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94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836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384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21880" y="1841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97480" y="1841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9960" y="2140200"/>
              <a:ext cx="7056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99960" y="23468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9960" y="25509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99960" y="29613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99960" y="31676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99960" y="3373920"/>
              <a:ext cx="70560" cy="69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4"/>
                  </a:lnTo>
                  <a:lnTo>
                    <a:pt x="31" y="22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99960" y="3578040"/>
              <a:ext cx="7056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9960" y="378468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9960" y="39891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99960" y="419508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99960" y="4399560"/>
              <a:ext cx="70560" cy="70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9280" y="2189880"/>
              <a:ext cx="73080" cy="730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0"/>
                  </a:moveTo>
                  <a:lnTo>
                    <a:pt x="21" y="34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93960" y="4178160"/>
              <a:ext cx="72360" cy="6624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13" y="0"/>
                  </a:moveTo>
                  <a:lnTo>
                    <a:pt x="0" y="29"/>
                  </a:lnTo>
                  <a:lnTo>
                    <a:pt x="34" y="3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8800" y="2037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312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562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6480" y="2037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076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492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512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460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3096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69840" y="2037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412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4600" y="2037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36600" y="2037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324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3520" y="2037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80240" y="2037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76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86800" y="203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8000" y="4212360"/>
              <a:ext cx="74880" cy="684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8" y="0"/>
                  </a:moveTo>
                  <a:lnTo>
                    <a:pt x="0" y="32"/>
                  </a:lnTo>
                  <a:lnTo>
                    <a:pt x="35" y="26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0600" y="4302360"/>
              <a:ext cx="75240" cy="69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0"/>
                  </a:moveTo>
                  <a:lnTo>
                    <a:pt x="4" y="32"/>
                  </a:lnTo>
                  <a:lnTo>
                    <a:pt x="35" y="1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134160" y="4339080"/>
              <a:ext cx="124200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3133800" y="3410280"/>
              <a:ext cx="1491480" cy="80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34160" y="3817080"/>
              <a:ext cx="1319760" cy="43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134160" y="2226240"/>
              <a:ext cx="2207160" cy="20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13600" y="2542320"/>
              <a:ext cx="68400" cy="70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0"/>
                  </a:moveTo>
                  <a:lnTo>
                    <a:pt x="0" y="33"/>
                  </a:lnTo>
                  <a:lnTo>
                    <a:pt x="32" y="19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4160" y="2378880"/>
              <a:ext cx="22006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09280" y="294624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6" y="0"/>
                  </a:moveTo>
                  <a:lnTo>
                    <a:pt x="0" y="32"/>
                  </a:lnTo>
                  <a:lnTo>
                    <a:pt x="34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34160" y="2583000"/>
              <a:ext cx="2200680" cy="40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09280" y="312660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4" y="0"/>
                  </a:moveTo>
                  <a:lnTo>
                    <a:pt x="0" y="32"/>
                  </a:lnTo>
                  <a:lnTo>
                    <a:pt x="3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09280" y="3217320"/>
              <a:ext cx="73080" cy="640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6" y="30"/>
                  </a:lnTo>
                  <a:lnTo>
                    <a:pt x="3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04960" y="3335400"/>
              <a:ext cx="77400" cy="622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0" y="29"/>
                  </a:lnTo>
                  <a:lnTo>
                    <a:pt x="36" y="29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34160" y="2172240"/>
              <a:ext cx="2202840" cy="12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09280" y="3561120"/>
              <a:ext cx="73080" cy="70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6" y="0"/>
                  </a:moveTo>
                  <a:lnTo>
                    <a:pt x="0" y="33"/>
                  </a:lnTo>
                  <a:lnTo>
                    <a:pt x="34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4160" y="3199680"/>
              <a:ext cx="2200680" cy="40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09280" y="3792960"/>
              <a:ext cx="73080" cy="684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0"/>
                  </a:moveTo>
                  <a:lnTo>
                    <a:pt x="4" y="32"/>
                  </a:lnTo>
                  <a:lnTo>
                    <a:pt x="34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34160" y="3825720"/>
              <a:ext cx="2202840" cy="1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134160" y="3249000"/>
              <a:ext cx="220068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4160" y="2995560"/>
              <a:ext cx="2196360" cy="16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99960" y="2757240"/>
              <a:ext cx="70560" cy="68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4160" y="2789280"/>
              <a:ext cx="220068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13600" y="2757240"/>
              <a:ext cx="68400" cy="68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ção desempenho CPU vs M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3762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28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5779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09888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0719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70844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78476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592600" y="46735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60164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0980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39400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94012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440160" y="479412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0164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90980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39400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940120" y="491328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635040" y="914400"/>
            <a:ext cx="7668360" cy="5613840"/>
            <a:chOff x="635040" y="914400"/>
            <a:chExt cx="7668360" cy="5613840"/>
          </a:xfrm>
        </p:grpSpPr>
        <p:sp>
          <p:nvSpPr>
            <p:cNvPr id="2429" name=""/>
            <p:cNvSpPr/>
            <p:nvPr/>
          </p:nvSpPr>
          <p:spPr>
            <a:xfrm>
              <a:off x="1162800" y="5357160"/>
              <a:ext cx="656352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1162800" y="5244840"/>
              <a:ext cx="2520" cy="111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rot="16200000">
              <a:off x="704520" y="3744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rot="16200000">
              <a:off x="662760" y="3654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16200000">
              <a:off x="683280" y="354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16200000">
              <a:off x="700920" y="3479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rot="16200000">
              <a:off x="683280" y="3407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rot="16200000">
              <a:off x="687960" y="3327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rot="16200000">
              <a:off x="683280" y="324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rot="16200000">
              <a:off x="662760" y="3133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rot="16200000">
              <a:off x="683280" y="302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rot="16200000">
              <a:off x="683280" y="29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rot="16200000">
              <a:off x="704520" y="287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rot="16200000">
              <a:off x="704520" y="28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rot="16200000">
              <a:off x="704520" y="278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683280" y="272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rot="16200000">
              <a:off x="687960" y="26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rot="16200000">
              <a:off x="704520" y="257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rot="16200000">
              <a:off x="683280" y="251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rot="16200000">
              <a:off x="700920" y="2446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987840" y="525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924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97848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0100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8308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973440" y="96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rot="19620000">
              <a:off x="82908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rot="19620000">
              <a:off x="90036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rot="19620000">
              <a:off x="97344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rot="19620000">
              <a:off x="105228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rot="19620000">
              <a:off x="160020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rot="19620000">
              <a:off x="1675440" y="550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rot="19620000">
              <a:off x="1744560" y="546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rot="19620000">
              <a:off x="182484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rot="19620000">
              <a:off x="242064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rot="19620000">
              <a:off x="24958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rot="19620000">
              <a:off x="256428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rot="19620000">
              <a:off x="264456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19620000">
              <a:off x="3244680" y="555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rot="19620000">
              <a:off x="33184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9620000">
              <a:off x="339012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rot="19620000">
              <a:off x="346572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302720" y="5875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406760" y="587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491000" y="5875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81720" y="5875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rot="19620000">
              <a:off x="40651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rot="19620000">
              <a:off x="414396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19620000">
              <a:off x="420948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rot="19620000">
              <a:off x="428976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rot="19620000">
              <a:off x="48913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rot="19620000">
              <a:off x="496080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rot="19620000">
              <a:off x="5033880" y="5457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rot="19620000">
              <a:off x="5109480" y="540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rot="19620000">
              <a:off x="5695200" y="554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rot="19620000">
              <a:off x="577260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rot="19620000">
              <a:off x="583812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rot="19620000">
              <a:off x="5913360" y="5410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19620000">
              <a:off x="653220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19620000">
              <a:off x="6605640" y="5501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19620000">
              <a:off x="667440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19620000">
              <a:off x="6752880" y="540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19620000">
              <a:off x="7366320" y="555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19620000">
              <a:off x="7440480" y="5501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19620000">
              <a:off x="7510680" y="545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19620000">
              <a:off x="7585920" y="540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516080" y="5829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630560" y="5829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31000" y="5829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84404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885440" y="5829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93944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984080" y="582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66160" y="5829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149680" y="5829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188920" y="5829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51356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623360" y="609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73100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844040" y="609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885440" y="609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38720" y="6093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019720" y="60937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051760" y="6093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142120" y="609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252280" y="609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508880" y="6345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618680" y="6345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31000" y="6345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839000" y="63453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66000" y="5924520"/>
              <a:ext cx="483840" cy="25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66000" y="6184080"/>
              <a:ext cx="483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66000" y="6445800"/>
              <a:ext cx="483840" cy="2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165680" y="3195720"/>
              <a:ext cx="8028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3" name=""/>
            <p:cNvGrpSpPr/>
            <p:nvPr/>
          </p:nvGrpSpPr>
          <p:grpSpPr>
            <a:xfrm>
              <a:off x="1165680" y="914400"/>
              <a:ext cx="6562440" cy="4442400"/>
              <a:chOff x="1165680" y="914400"/>
              <a:chExt cx="6562440" cy="4442400"/>
            </a:xfrm>
          </p:grpSpPr>
          <p:sp>
            <p:nvSpPr>
              <p:cNvPr id="2524" name=""/>
              <p:cNvSpPr/>
              <p:nvPr/>
            </p:nvSpPr>
            <p:spPr>
              <a:xfrm>
                <a:off x="1165680" y="1063440"/>
                <a:ext cx="80280" cy="4293360"/>
              </a:xfrm>
              <a:custGeom>
                <a:avLst/>
                <a:gdLst/>
                <a:ahLst/>
                <a:rect l="l" t="t" r="r" b="b"/>
                <a:pathLst>
                  <a:path w="33" h="1756">
                    <a:moveTo>
                      <a:pt x="33" y="0"/>
                    </a:moveTo>
                    <a:lnTo>
                      <a:pt x="0" y="0"/>
                    </a:lnTo>
                    <a:lnTo>
                      <a:pt x="0" y="175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170360" y="914400"/>
                <a:ext cx="6401160" cy="4422960"/>
              </a:xfrm>
              <a:custGeom>
                <a:avLst/>
                <a:gdLst/>
                <a:ahLst/>
                <a:rect l="l" t="t" r="r" b="b"/>
                <a:pathLst>
                  <a:path w="2618" h="1809">
                    <a:moveTo>
                      <a:pt x="0" y="1809"/>
                    </a:moveTo>
                    <a:lnTo>
                      <a:pt x="164" y="1778"/>
                    </a:lnTo>
                    <a:lnTo>
                      <a:pt x="331" y="1728"/>
                    </a:lnTo>
                    <a:lnTo>
                      <a:pt x="486" y="1696"/>
                    </a:lnTo>
                    <a:lnTo>
                      <a:pt x="651" y="1648"/>
                    </a:lnTo>
                    <a:lnTo>
                      <a:pt x="826" y="1552"/>
                    </a:lnTo>
                    <a:lnTo>
                      <a:pt x="997" y="1488"/>
                    </a:lnTo>
                    <a:lnTo>
                      <a:pt x="1168" y="1338"/>
                    </a:lnTo>
                    <a:lnTo>
                      <a:pt x="1324" y="1200"/>
                    </a:lnTo>
                    <a:lnTo>
                      <a:pt x="1471" y="901"/>
                    </a:lnTo>
                    <a:lnTo>
                      <a:pt x="1663" y="864"/>
                    </a:lnTo>
                    <a:lnTo>
                      <a:pt x="1840" y="806"/>
                    </a:lnTo>
                    <a:lnTo>
                      <a:pt x="2009" y="718"/>
                    </a:lnTo>
                    <a:lnTo>
                      <a:pt x="2176" y="597"/>
                    </a:lnTo>
                    <a:lnTo>
                      <a:pt x="2353" y="393"/>
                    </a:lnTo>
                    <a:lnTo>
                      <a:pt x="2518" y="219"/>
                    </a:lnTo>
                    <a:lnTo>
                      <a:pt x="2618" y="0"/>
                    </a:lnTo>
                  </a:path>
                </a:pathLst>
              </a:custGeom>
              <a:noFill/>
              <a:ln w="1260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170360" y="2880000"/>
                <a:ext cx="6555240" cy="2457360"/>
              </a:xfrm>
              <a:custGeom>
                <a:avLst/>
                <a:gdLst/>
                <a:ahLst/>
                <a:rect l="l" t="t" r="r" b="b"/>
                <a:pathLst>
                  <a:path w="2681" h="1005">
                    <a:moveTo>
                      <a:pt x="0" y="1005"/>
                    </a:moveTo>
                    <a:lnTo>
                      <a:pt x="160" y="984"/>
                    </a:lnTo>
                    <a:lnTo>
                      <a:pt x="166" y="990"/>
                    </a:lnTo>
                    <a:lnTo>
                      <a:pt x="240" y="988"/>
                    </a:lnTo>
                    <a:lnTo>
                      <a:pt x="331" y="968"/>
                    </a:lnTo>
                    <a:lnTo>
                      <a:pt x="490" y="934"/>
                    </a:lnTo>
                    <a:lnTo>
                      <a:pt x="669" y="913"/>
                    </a:lnTo>
                    <a:lnTo>
                      <a:pt x="832" y="892"/>
                    </a:lnTo>
                    <a:lnTo>
                      <a:pt x="997" y="844"/>
                    </a:lnTo>
                    <a:lnTo>
                      <a:pt x="1162" y="780"/>
                    </a:lnTo>
                    <a:lnTo>
                      <a:pt x="1333" y="694"/>
                    </a:lnTo>
                    <a:lnTo>
                      <a:pt x="1504" y="604"/>
                    </a:lnTo>
                    <a:lnTo>
                      <a:pt x="1669" y="496"/>
                    </a:lnTo>
                    <a:lnTo>
                      <a:pt x="1825" y="406"/>
                    </a:lnTo>
                    <a:lnTo>
                      <a:pt x="1990" y="225"/>
                    </a:lnTo>
                    <a:lnTo>
                      <a:pt x="2176" y="102"/>
                    </a:lnTo>
                    <a:lnTo>
                      <a:pt x="2349" y="77"/>
                    </a:lnTo>
                    <a:lnTo>
                      <a:pt x="2503" y="39"/>
                    </a:lnTo>
                    <a:lnTo>
                      <a:pt x="268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180080" y="4383720"/>
                <a:ext cx="6514200" cy="958680"/>
              </a:xfrm>
              <a:custGeom>
                <a:avLst/>
                <a:gdLst/>
                <a:ahLst/>
                <a:rect l="l" t="t" r="r" b="b"/>
                <a:pathLst>
                  <a:path w="2664" h="392">
                    <a:moveTo>
                      <a:pt x="0" y="392"/>
                    </a:moveTo>
                    <a:lnTo>
                      <a:pt x="162" y="375"/>
                    </a:lnTo>
                    <a:lnTo>
                      <a:pt x="306" y="373"/>
                    </a:lnTo>
                    <a:lnTo>
                      <a:pt x="498" y="342"/>
                    </a:lnTo>
                    <a:lnTo>
                      <a:pt x="665" y="336"/>
                    </a:lnTo>
                    <a:lnTo>
                      <a:pt x="828" y="319"/>
                    </a:lnTo>
                    <a:lnTo>
                      <a:pt x="999" y="313"/>
                    </a:lnTo>
                    <a:lnTo>
                      <a:pt x="1154" y="309"/>
                    </a:lnTo>
                    <a:lnTo>
                      <a:pt x="1323" y="298"/>
                    </a:lnTo>
                    <a:lnTo>
                      <a:pt x="1500" y="244"/>
                    </a:lnTo>
                    <a:lnTo>
                      <a:pt x="1656" y="223"/>
                    </a:lnTo>
                    <a:lnTo>
                      <a:pt x="1821" y="208"/>
                    </a:lnTo>
                    <a:lnTo>
                      <a:pt x="2007" y="186"/>
                    </a:lnTo>
                    <a:lnTo>
                      <a:pt x="2166" y="144"/>
                    </a:lnTo>
                    <a:lnTo>
                      <a:pt x="2337" y="100"/>
                    </a:lnTo>
                    <a:lnTo>
                      <a:pt x="2502" y="52"/>
                    </a:lnTo>
                    <a:lnTo>
                      <a:pt x="2664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165680" y="3195360"/>
                <a:ext cx="656028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165680" y="1063440"/>
                <a:ext cx="6560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57644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98468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39256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280620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214440" y="5276520"/>
                <a:ext cx="25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623040" y="5276520"/>
                <a:ext cx="43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03632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444200" y="5276520"/>
                <a:ext cx="25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853160" y="5276520"/>
                <a:ext cx="432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6608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67432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08796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49584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904080" y="5276520"/>
                <a:ext cx="468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31772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725960" y="5276520"/>
                <a:ext cx="2160" cy="80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:  virtual memory blo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s:  the data is not in memory, retrieve it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ge miss penalty, thus pages should be fairly large (e.g., 4K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ng page faults is important (LRU is worth the pr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the faults in software instead of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write-through is too expensive so we use write-b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3352680"/>
            <a:ext cx="5473080" cy="2908440"/>
            <a:chOff x="914400" y="3352680"/>
            <a:chExt cx="5473080" cy="2908440"/>
          </a:xfrm>
        </p:grpSpPr>
        <p:grpSp>
          <p:nvGrpSpPr>
            <p:cNvPr id="180" name=""/>
            <p:cNvGrpSpPr/>
            <p:nvPr/>
          </p:nvGrpSpPr>
          <p:grpSpPr>
            <a:xfrm>
              <a:off x="914400" y="3352680"/>
              <a:ext cx="5473080" cy="2908080"/>
              <a:chOff x="914400" y="3352680"/>
              <a:chExt cx="5473080" cy="29080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52720" y="4743720"/>
                <a:ext cx="1141560" cy="342720"/>
              </a:xfrm>
              <a:custGeom>
                <a:avLst/>
                <a:gdLst/>
                <a:ahLst/>
                <a:rect l="l" t="t" r="r" b="b"/>
                <a:pathLst>
                  <a:path w="479" h="144">
                    <a:moveTo>
                      <a:pt x="406" y="144"/>
                    </a:moveTo>
                    <a:lnTo>
                      <a:pt x="420" y="144"/>
                    </a:lnTo>
                    <a:lnTo>
                      <a:pt x="431" y="140"/>
                    </a:lnTo>
                    <a:lnTo>
                      <a:pt x="441" y="136"/>
                    </a:lnTo>
                    <a:lnTo>
                      <a:pt x="450" y="130"/>
                    </a:lnTo>
                    <a:lnTo>
                      <a:pt x="458" y="123"/>
                    </a:lnTo>
                    <a:lnTo>
                      <a:pt x="466" y="115"/>
                    </a:lnTo>
                    <a:lnTo>
                      <a:pt x="471" y="105"/>
                    </a:lnTo>
                    <a:lnTo>
                      <a:pt x="475" y="96"/>
                    </a:lnTo>
                    <a:lnTo>
                      <a:pt x="479" y="84"/>
                    </a:lnTo>
                    <a:lnTo>
                      <a:pt x="479" y="73"/>
                    </a:lnTo>
                    <a:lnTo>
                      <a:pt x="479" y="62"/>
                    </a:lnTo>
                    <a:lnTo>
                      <a:pt x="475" y="50"/>
                    </a:lnTo>
                    <a:lnTo>
                      <a:pt x="471" y="39"/>
                    </a:lnTo>
                    <a:lnTo>
                      <a:pt x="466" y="31"/>
                    </a:lnTo>
                    <a:lnTo>
                      <a:pt x="458" y="21"/>
                    </a:lnTo>
                    <a:lnTo>
                      <a:pt x="450" y="14"/>
                    </a:lnTo>
                    <a:lnTo>
                      <a:pt x="441" y="8"/>
                    </a:lnTo>
                    <a:lnTo>
                      <a:pt x="431" y="4"/>
                    </a:lnTo>
                    <a:lnTo>
                      <a:pt x="420" y="2"/>
                    </a:lnTo>
                    <a:lnTo>
                      <a:pt x="408" y="0"/>
                    </a:lnTo>
                    <a:lnTo>
                      <a:pt x="73" y="0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41" y="8"/>
                    </a:lnTo>
                    <a:lnTo>
                      <a:pt x="31" y="14"/>
                    </a:lnTo>
                    <a:lnTo>
                      <a:pt x="21" y="21"/>
                    </a:lnTo>
                    <a:lnTo>
                      <a:pt x="16" y="31"/>
                    </a:lnTo>
                    <a:lnTo>
                      <a:pt x="10" y="39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2" y="84"/>
                    </a:lnTo>
                    <a:lnTo>
                      <a:pt x="4" y="96"/>
                    </a:lnTo>
                    <a:lnTo>
                      <a:pt x="10" y="105"/>
                    </a:lnTo>
                    <a:lnTo>
                      <a:pt x="16" y="115"/>
                    </a:lnTo>
                    <a:lnTo>
                      <a:pt x="21" y="123"/>
                    </a:lnTo>
                    <a:lnTo>
                      <a:pt x="31" y="130"/>
                    </a:lnTo>
                    <a:lnTo>
                      <a:pt x="41" y="136"/>
                    </a:lnTo>
                    <a:lnTo>
                      <a:pt x="50" y="140"/>
                    </a:lnTo>
                    <a:lnTo>
                      <a:pt x="62" y="144"/>
                    </a:lnTo>
                    <a:lnTo>
                      <a:pt x="73" y="144"/>
                    </a:lnTo>
                    <a:lnTo>
                      <a:pt x="408" y="144"/>
                    </a:lnTo>
                    <a:lnTo>
                      <a:pt x="408" y="144"/>
                    </a:lnTo>
                    <a:lnTo>
                      <a:pt x="406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52720" y="4743720"/>
                <a:ext cx="1141560" cy="342720"/>
              </a:xfrm>
              <a:custGeom>
                <a:avLst/>
                <a:gdLst/>
                <a:ahLst/>
                <a:rect l="l" t="t" r="r" b="b"/>
                <a:pathLst>
                  <a:path w="479" h="144">
                    <a:moveTo>
                      <a:pt x="406" y="144"/>
                    </a:moveTo>
                    <a:lnTo>
                      <a:pt x="420" y="144"/>
                    </a:lnTo>
                    <a:lnTo>
                      <a:pt x="431" y="140"/>
                    </a:lnTo>
                    <a:lnTo>
                      <a:pt x="441" y="136"/>
                    </a:lnTo>
                    <a:lnTo>
                      <a:pt x="450" y="130"/>
                    </a:lnTo>
                    <a:lnTo>
                      <a:pt x="458" y="123"/>
                    </a:lnTo>
                    <a:lnTo>
                      <a:pt x="466" y="115"/>
                    </a:lnTo>
                    <a:lnTo>
                      <a:pt x="471" y="105"/>
                    </a:lnTo>
                    <a:lnTo>
                      <a:pt x="475" y="96"/>
                    </a:lnTo>
                    <a:lnTo>
                      <a:pt x="479" y="84"/>
                    </a:lnTo>
                    <a:lnTo>
                      <a:pt x="479" y="73"/>
                    </a:lnTo>
                    <a:lnTo>
                      <a:pt x="479" y="62"/>
                    </a:lnTo>
                    <a:lnTo>
                      <a:pt x="475" y="50"/>
                    </a:lnTo>
                    <a:lnTo>
                      <a:pt x="471" y="39"/>
                    </a:lnTo>
                    <a:lnTo>
                      <a:pt x="466" y="31"/>
                    </a:lnTo>
                    <a:lnTo>
                      <a:pt x="458" y="21"/>
                    </a:lnTo>
                    <a:lnTo>
                      <a:pt x="450" y="14"/>
                    </a:lnTo>
                    <a:lnTo>
                      <a:pt x="441" y="8"/>
                    </a:lnTo>
                    <a:lnTo>
                      <a:pt x="431" y="4"/>
                    </a:lnTo>
                    <a:lnTo>
                      <a:pt x="420" y="2"/>
                    </a:lnTo>
                    <a:lnTo>
                      <a:pt x="408" y="0"/>
                    </a:lnTo>
                    <a:lnTo>
                      <a:pt x="73" y="0"/>
                    </a:lnTo>
                    <a:lnTo>
                      <a:pt x="62" y="2"/>
                    </a:lnTo>
                    <a:lnTo>
                      <a:pt x="50" y="4"/>
                    </a:lnTo>
                    <a:lnTo>
                      <a:pt x="41" y="8"/>
                    </a:lnTo>
                    <a:lnTo>
                      <a:pt x="31" y="14"/>
                    </a:lnTo>
                    <a:lnTo>
                      <a:pt x="21" y="21"/>
                    </a:lnTo>
                    <a:lnTo>
                      <a:pt x="16" y="31"/>
                    </a:lnTo>
                    <a:lnTo>
                      <a:pt x="10" y="39"/>
                    </a:lnTo>
                    <a:lnTo>
                      <a:pt x="4" y="50"/>
                    </a:lnTo>
                    <a:lnTo>
                      <a:pt x="2" y="62"/>
                    </a:lnTo>
                    <a:lnTo>
                      <a:pt x="0" y="73"/>
                    </a:lnTo>
                    <a:lnTo>
                      <a:pt x="2" y="84"/>
                    </a:lnTo>
                    <a:lnTo>
                      <a:pt x="4" y="96"/>
                    </a:lnTo>
                    <a:lnTo>
                      <a:pt x="10" y="105"/>
                    </a:lnTo>
                    <a:lnTo>
                      <a:pt x="16" y="115"/>
                    </a:lnTo>
                    <a:lnTo>
                      <a:pt x="21" y="123"/>
                    </a:lnTo>
                    <a:lnTo>
                      <a:pt x="31" y="130"/>
                    </a:lnTo>
                    <a:lnTo>
                      <a:pt x="41" y="136"/>
                    </a:lnTo>
                    <a:lnTo>
                      <a:pt x="50" y="140"/>
                    </a:lnTo>
                    <a:lnTo>
                      <a:pt x="62" y="144"/>
                    </a:lnTo>
                    <a:lnTo>
                      <a:pt x="73" y="144"/>
                    </a:lnTo>
                    <a:lnTo>
                      <a:pt x="408" y="144"/>
                    </a:lnTo>
                    <a:lnTo>
                      <a:pt x="408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453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320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713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606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002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822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26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89000" y="374796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8656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3600" y="374796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335840" y="3893040"/>
                <a:ext cx="2160" cy="45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14400" y="3893400"/>
                <a:ext cx="5473080" cy="454680"/>
              </a:xfrm>
              <a:custGeom>
                <a:avLst/>
                <a:gdLst/>
                <a:ahLst/>
                <a:rect l="l" t="t" r="r" b="b"/>
                <a:pathLst>
                  <a:path w="2297" h="191">
                    <a:moveTo>
                      <a:pt x="0" y="189"/>
                    </a:moveTo>
                    <a:lnTo>
                      <a:pt x="0" y="0"/>
                    </a:lnTo>
                    <a:lnTo>
                      <a:pt x="2297" y="0"/>
                    </a:lnTo>
                    <a:lnTo>
                      <a:pt x="2297" y="191"/>
                    </a:lnTo>
                    <a:lnTo>
                      <a:pt x="0" y="191"/>
                    </a:lnTo>
                    <a:lnTo>
                      <a:pt x="0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891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748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594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990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846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7396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13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9564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3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08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945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776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219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054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9224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31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150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0212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41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2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9500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35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1852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595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452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2840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737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5584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296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8220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6536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52480" y="3633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208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79920" y="363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0784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0360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0992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70040" y="3747960"/>
                <a:ext cx="31320" cy="306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6544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7680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8672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8176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9096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56240" y="3747960"/>
                <a:ext cx="2808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53440" y="3747960"/>
                <a:ext cx="2628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3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76048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39560" y="3747960"/>
                <a:ext cx="31320" cy="306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34960" y="3747960"/>
                <a:ext cx="28440" cy="30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0" y="3747960"/>
                <a:ext cx="25920" cy="306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83480" y="4031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8284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85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516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388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37804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6732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080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48320" y="4031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257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0780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1200" y="4031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57400" y="4031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91600" y="4031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14092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81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672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50440" y="4031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8644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256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138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948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8308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65160" y="403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044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92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74680" y="40316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0392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89600" y="403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72400" y="4031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49280" y="335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48640" y="335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85000" y="335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34680" y="335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7680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6212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46360" y="335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77680" y="335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2196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0548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9116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72880" y="335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21840" y="335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11120" y="33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87440" y="33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453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320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713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606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002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822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26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89000" y="534168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8656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3600" y="5341680"/>
                <a:ext cx="33480" cy="31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1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4335840" y="5486760"/>
                <a:ext cx="2160" cy="45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69080" y="5487120"/>
                <a:ext cx="5018040" cy="454680"/>
              </a:xfrm>
              <a:custGeom>
                <a:avLst/>
                <a:gdLst/>
                <a:ahLst/>
                <a:rect l="l" t="t" r="r" b="b"/>
                <a:pathLst>
                  <a:path w="2106" h="191">
                    <a:moveTo>
                      <a:pt x="0" y="189"/>
                    </a:moveTo>
                    <a:lnTo>
                      <a:pt x="0" y="0"/>
                    </a:lnTo>
                    <a:lnTo>
                      <a:pt x="2106" y="0"/>
                    </a:lnTo>
                    <a:lnTo>
                      <a:pt x="2106" y="191"/>
                    </a:lnTo>
                    <a:lnTo>
                      <a:pt x="0" y="191"/>
                    </a:lnTo>
                    <a:lnTo>
                      <a:pt x="0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891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748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594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990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846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7396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13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9564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39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08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9452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7768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219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054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9224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31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1500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0212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413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295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032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918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7356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1568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0136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83800" y="5227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302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11240" y="522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0784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0360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0992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70040" y="534168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6544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7680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8672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8176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19096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11"/>
                    </a:move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56240" y="5341680"/>
                <a:ext cx="2808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6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53440" y="5341680"/>
                <a:ext cx="2628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3" y="11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6048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39560" y="534168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34960" y="5341680"/>
                <a:ext cx="28440" cy="313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11"/>
                    </a:moveTo>
                    <a:lnTo>
                      <a:pt x="8" y="13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49200" y="5341680"/>
                <a:ext cx="25920" cy="31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11"/>
                    </a:moveTo>
                    <a:lnTo>
                      <a:pt x="6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83480" y="5623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828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685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5168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388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780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6732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5080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4832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257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0780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21840" y="5623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55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1012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8644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59880" y="5623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95880" y="5623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736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55360" y="5623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8884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331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141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023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833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70080" y="5623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136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9896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80680" y="56232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40884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90920" y="562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577320" y="562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318120" y="6077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18200" y="607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50388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7768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654000" y="6077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91800" y="6077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76272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52000" y="6078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2960" y="6078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2220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076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9176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80680" y="6078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31080" y="6078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16760" y="607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90560" y="607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86600" y="5397120"/>
              <a:ext cx="78840" cy="759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2"/>
                  </a:lnTo>
                  <a:lnTo>
                    <a:pt x="16" y="3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5040" y="4827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50440" y="4827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0084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8076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69680" y="4827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0960" y="4827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876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60840" y="4827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5840" y="4827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3824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23920" y="48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24760" y="5397120"/>
              <a:ext cx="73800" cy="759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2"/>
                  </a:lnTo>
                  <a:lnTo>
                    <a:pt x="16" y="3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63280" y="4344120"/>
              <a:ext cx="2160" cy="10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86600" y="4658400"/>
              <a:ext cx="78840" cy="78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25120" y="4344120"/>
              <a:ext cx="216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25120" y="5086800"/>
              <a:ext cx="216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7010280" y="3882960"/>
            <a:ext cx="2133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 bits: 4 K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PN: 20 bit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1M p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 G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5410080"/>
            <a:ext cx="2133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N: 18  bits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256 K p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23880" y="1085760"/>
            <a:ext cx="6095520" cy="4587120"/>
            <a:chOff x="1523880" y="1085760"/>
            <a:chExt cx="6095520" cy="4587120"/>
          </a:xfrm>
        </p:grpSpPr>
        <p:grpSp>
          <p:nvGrpSpPr>
            <p:cNvPr id="412" name=""/>
            <p:cNvGrpSpPr/>
            <p:nvPr/>
          </p:nvGrpSpPr>
          <p:grpSpPr>
            <a:xfrm>
              <a:off x="1523880" y="1085760"/>
              <a:ext cx="6095520" cy="4587120"/>
              <a:chOff x="1523880" y="1085760"/>
              <a:chExt cx="6095520" cy="4587120"/>
            </a:xfrm>
          </p:grpSpPr>
          <p:sp>
            <p:nvSpPr>
              <p:cNvPr id="413" name=""/>
              <p:cNvSpPr/>
              <p:nvPr/>
            </p:nvSpPr>
            <p:spPr>
              <a:xfrm>
                <a:off x="2739240" y="246240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39240" y="246240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80120" y="246240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80120" y="246240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39240" y="28926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39240" y="28926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80120" y="28926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0120" y="28926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39240" y="3321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39240" y="3321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580120" y="3321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80120" y="3321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39240" y="375156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39240" y="375156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80120" y="375156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80120" y="375156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739240" y="41799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39240" y="41799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80120" y="41799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80120" y="41799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739240" y="4608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39240" y="460836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80120" y="4608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580120" y="460836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739240" y="224676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39240" y="224676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80120" y="224676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80120" y="224676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39240" y="26776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39240" y="26776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80120" y="26776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80120" y="26776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39240" y="31057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739240" y="31057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80120" y="31057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80120" y="31057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39240" y="35362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39240" y="3536280"/>
                <a:ext cx="1547280" cy="21492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80120" y="35362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80120" y="3536280"/>
                <a:ext cx="159120" cy="2149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39240" y="39643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  <a:lnTo>
                      <a:pt x="68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739240" y="3964320"/>
                <a:ext cx="1547280" cy="215280"/>
              </a:xfrm>
              <a:custGeom>
                <a:avLst/>
                <a:gdLst/>
                <a:ahLst/>
                <a:rect l="l" t="t" r="r" b="b"/>
                <a:pathLst>
                  <a:path w="690" h="96">
                    <a:moveTo>
                      <a:pt x="688" y="96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690" y="96"/>
                    </a:lnTo>
                    <a:lnTo>
                      <a:pt x="69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80120" y="39643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80120" y="3964320"/>
                <a:ext cx="159120" cy="21528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71" y="96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71" y="96"/>
                    </a:lnTo>
                    <a:lnTo>
                      <a:pt x="7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39240" y="439524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  <a:lnTo>
                      <a:pt x="688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39240" y="439524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80120" y="439524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80120" y="439524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475240" y="4236120"/>
                <a:ext cx="2128320" cy="1436760"/>
              </a:xfrm>
              <a:custGeom>
                <a:avLst/>
                <a:gdLst/>
                <a:ahLst/>
                <a:rect l="l" t="t" r="r" b="b"/>
                <a:pathLst>
                  <a:path w="949" h="641">
                    <a:moveTo>
                      <a:pt x="947" y="80"/>
                    </a:moveTo>
                    <a:lnTo>
                      <a:pt x="941" y="69"/>
                    </a:lnTo>
                    <a:lnTo>
                      <a:pt x="924" y="55"/>
                    </a:lnTo>
                    <a:lnTo>
                      <a:pt x="895" y="44"/>
                    </a:lnTo>
                    <a:lnTo>
                      <a:pt x="857" y="34"/>
                    </a:lnTo>
                    <a:lnTo>
                      <a:pt x="809" y="25"/>
                    </a:lnTo>
                    <a:lnTo>
                      <a:pt x="753" y="15"/>
                    </a:lnTo>
                    <a:lnTo>
                      <a:pt x="692" y="9"/>
                    </a:lnTo>
                    <a:lnTo>
                      <a:pt x="623" y="4"/>
                    </a:lnTo>
                    <a:lnTo>
                      <a:pt x="550" y="2"/>
                    </a:lnTo>
                    <a:lnTo>
                      <a:pt x="473" y="0"/>
                    </a:lnTo>
                    <a:lnTo>
                      <a:pt x="397" y="2"/>
                    </a:lnTo>
                    <a:lnTo>
                      <a:pt x="324" y="4"/>
                    </a:lnTo>
                    <a:lnTo>
                      <a:pt x="255" y="9"/>
                    </a:lnTo>
                    <a:lnTo>
                      <a:pt x="194" y="15"/>
                    </a:lnTo>
                    <a:lnTo>
                      <a:pt x="138" y="25"/>
                    </a:lnTo>
                    <a:lnTo>
                      <a:pt x="90" y="34"/>
                    </a:lnTo>
                    <a:lnTo>
                      <a:pt x="52" y="44"/>
                    </a:lnTo>
                    <a:lnTo>
                      <a:pt x="23" y="55"/>
                    </a:lnTo>
                    <a:lnTo>
                      <a:pt x="6" y="69"/>
                    </a:lnTo>
                    <a:lnTo>
                      <a:pt x="0" y="82"/>
                    </a:lnTo>
                    <a:lnTo>
                      <a:pt x="0" y="561"/>
                    </a:lnTo>
                    <a:lnTo>
                      <a:pt x="6" y="574"/>
                    </a:lnTo>
                    <a:lnTo>
                      <a:pt x="23" y="586"/>
                    </a:lnTo>
                    <a:lnTo>
                      <a:pt x="52" y="597"/>
                    </a:lnTo>
                    <a:lnTo>
                      <a:pt x="90" y="609"/>
                    </a:lnTo>
                    <a:lnTo>
                      <a:pt x="138" y="618"/>
                    </a:lnTo>
                    <a:lnTo>
                      <a:pt x="194" y="626"/>
                    </a:lnTo>
                    <a:lnTo>
                      <a:pt x="255" y="634"/>
                    </a:lnTo>
                    <a:lnTo>
                      <a:pt x="324" y="637"/>
                    </a:lnTo>
                    <a:lnTo>
                      <a:pt x="397" y="641"/>
                    </a:lnTo>
                    <a:lnTo>
                      <a:pt x="473" y="641"/>
                    </a:lnTo>
                    <a:lnTo>
                      <a:pt x="550" y="641"/>
                    </a:lnTo>
                    <a:lnTo>
                      <a:pt x="623" y="637"/>
                    </a:lnTo>
                    <a:lnTo>
                      <a:pt x="692" y="634"/>
                    </a:lnTo>
                    <a:lnTo>
                      <a:pt x="753" y="626"/>
                    </a:lnTo>
                    <a:lnTo>
                      <a:pt x="809" y="618"/>
                    </a:lnTo>
                    <a:lnTo>
                      <a:pt x="857" y="609"/>
                    </a:lnTo>
                    <a:lnTo>
                      <a:pt x="895" y="597"/>
                    </a:lnTo>
                    <a:lnTo>
                      <a:pt x="924" y="586"/>
                    </a:lnTo>
                    <a:lnTo>
                      <a:pt x="941" y="574"/>
                    </a:lnTo>
                    <a:lnTo>
                      <a:pt x="949" y="561"/>
                    </a:lnTo>
                    <a:lnTo>
                      <a:pt x="949" y="82"/>
                    </a:lnTo>
                    <a:lnTo>
                      <a:pt x="949" y="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35840" y="1549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22944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1368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8316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454800" y="1549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8396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812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36960" y="1549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70080" y="1549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07880" y="15498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2956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06240" y="15498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26840" y="1549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08200" y="1549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54640" y="154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717520" y="178992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17520" y="200268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717520" y="221796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17520" y="243288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17520" y="2646000"/>
                <a:ext cx="1901880" cy="21528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717520" y="286164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17520" y="3076560"/>
                <a:ext cx="1901880" cy="21492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17520" y="3291840"/>
                <a:ext cx="1901880" cy="212760"/>
              </a:xfrm>
              <a:custGeom>
                <a:avLst/>
                <a:gdLst/>
                <a:ahLst/>
                <a:rect l="l" t="t" r="r" b="b"/>
                <a:pathLst>
                  <a:path w="848" h="95">
                    <a:moveTo>
                      <a:pt x="848" y="95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8" y="95"/>
                    </a:lnTo>
                    <a:lnTo>
                      <a:pt x="848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17520" y="3504960"/>
                <a:ext cx="1901880" cy="215280"/>
              </a:xfrm>
              <a:custGeom>
                <a:avLst/>
                <a:gdLst/>
                <a:ahLst/>
                <a:rect l="l" t="t" r="r" b="b"/>
                <a:pathLst>
                  <a:path w="848" h="96">
                    <a:moveTo>
                      <a:pt x="848" y="96"/>
                    </a:moveTo>
                    <a:lnTo>
                      <a:pt x="848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8" y="96"/>
                    </a:lnTo>
                    <a:lnTo>
                      <a:pt x="848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616720" y="4695480"/>
                <a:ext cx="1904040" cy="212760"/>
              </a:xfrm>
              <a:custGeom>
                <a:avLst/>
                <a:gdLst/>
                <a:ahLst/>
                <a:rect l="l" t="t" r="r" b="b"/>
                <a:pathLst>
                  <a:path w="849" h="95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9" y="95"/>
                    </a:lnTo>
                    <a:lnTo>
                      <a:pt x="849" y="95"/>
                    </a:lnTo>
                    <a:lnTo>
                      <a:pt x="849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16720" y="4695480"/>
                <a:ext cx="1904040" cy="212760"/>
              </a:xfrm>
              <a:custGeom>
                <a:avLst/>
                <a:gdLst/>
                <a:ahLst/>
                <a:rect l="l" t="t" r="r" b="b"/>
                <a:pathLst>
                  <a:path w="849" h="95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49" y="95"/>
                    </a:lnTo>
                    <a:lnTo>
                      <a:pt x="849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616720" y="4977720"/>
                <a:ext cx="1904040" cy="21528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6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616720" y="4977720"/>
                <a:ext cx="1904040" cy="21528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6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616720" y="5265000"/>
                <a:ext cx="1904040" cy="21492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  <a:lnTo>
                      <a:pt x="849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16720" y="5265000"/>
                <a:ext cx="1904040" cy="214920"/>
              </a:xfrm>
              <a:custGeom>
                <a:avLst/>
                <a:gdLst/>
                <a:ahLst/>
                <a:rect l="l" t="t" r="r" b="b"/>
                <a:pathLst>
                  <a:path w="849" h="96">
                    <a:moveTo>
                      <a:pt x="849" y="94"/>
                    </a:moveTo>
                    <a:lnTo>
                      <a:pt x="849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49" y="96"/>
                    </a:lnTo>
                    <a:lnTo>
                      <a:pt x="849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70560" y="4415400"/>
                <a:ext cx="2132640" cy="190080"/>
              </a:xfrm>
              <a:custGeom>
                <a:avLst/>
                <a:gdLst/>
                <a:ahLst/>
                <a:rect l="l" t="t" r="r" b="b"/>
                <a:pathLst>
                  <a:path w="951" h="85">
                    <a:moveTo>
                      <a:pt x="0" y="0"/>
                    </a:moveTo>
                    <a:lnTo>
                      <a:pt x="8" y="16"/>
                    </a:lnTo>
                    <a:lnTo>
                      <a:pt x="25" y="27"/>
                    </a:lnTo>
                    <a:lnTo>
                      <a:pt x="54" y="40"/>
                    </a:lnTo>
                    <a:lnTo>
                      <a:pt x="92" y="50"/>
                    </a:lnTo>
                    <a:lnTo>
                      <a:pt x="140" y="60"/>
                    </a:lnTo>
                    <a:lnTo>
                      <a:pt x="196" y="67"/>
                    </a:lnTo>
                    <a:lnTo>
                      <a:pt x="257" y="75"/>
                    </a:lnTo>
                    <a:lnTo>
                      <a:pt x="326" y="81"/>
                    </a:lnTo>
                    <a:lnTo>
                      <a:pt x="399" y="83"/>
                    </a:lnTo>
                    <a:lnTo>
                      <a:pt x="475" y="85"/>
                    </a:lnTo>
                    <a:lnTo>
                      <a:pt x="552" y="83"/>
                    </a:lnTo>
                    <a:lnTo>
                      <a:pt x="625" y="81"/>
                    </a:lnTo>
                    <a:lnTo>
                      <a:pt x="694" y="75"/>
                    </a:lnTo>
                    <a:lnTo>
                      <a:pt x="755" y="67"/>
                    </a:lnTo>
                    <a:lnTo>
                      <a:pt x="811" y="60"/>
                    </a:lnTo>
                    <a:lnTo>
                      <a:pt x="859" y="50"/>
                    </a:lnTo>
                    <a:lnTo>
                      <a:pt x="897" y="40"/>
                    </a:lnTo>
                    <a:lnTo>
                      <a:pt x="926" y="27"/>
                    </a:lnTo>
                    <a:lnTo>
                      <a:pt x="943" y="16"/>
                    </a:lnTo>
                    <a:lnTo>
                      <a:pt x="95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54560" y="40050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57520" y="4005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9136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6552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32480" y="400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72800" y="40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44440" y="4005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8512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666480" y="4005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1184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79248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72040" y="4005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39240" y="2034000"/>
                <a:ext cx="1547280" cy="212760"/>
              </a:xfrm>
              <a:custGeom>
                <a:avLst/>
                <a:gdLst/>
                <a:ahLst/>
                <a:rect l="l" t="t" r="r" b="b"/>
                <a:pathLst>
                  <a:path w="690" h="95">
                    <a:moveTo>
                      <a:pt x="688" y="95"/>
                    </a:moveTo>
                    <a:lnTo>
                      <a:pt x="69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690" y="95"/>
                    </a:lnTo>
                    <a:lnTo>
                      <a:pt x="69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14240" y="1798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08560" y="1798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687400" y="1798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20880" y="1798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51480" y="1798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80120" y="2034000"/>
                <a:ext cx="159120" cy="212760"/>
              </a:xfrm>
              <a:custGeom>
                <a:avLst/>
                <a:gdLst/>
                <a:ahLst/>
                <a:rect l="l" t="t" r="r" b="b"/>
                <a:pathLst>
                  <a:path w="71" h="95">
                    <a:moveTo>
                      <a:pt x="71" y="95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71" y="95"/>
                    </a:lnTo>
                    <a:lnTo>
                      <a:pt x="7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16840" y="22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616840" y="2484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840" y="2700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16840" y="2914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16840" y="312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616840" y="334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16840" y="3558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616840" y="37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616840" y="3987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616840" y="420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16840" y="4417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16840" y="463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37760" y="1433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3208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31056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9120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470040" y="1433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12520" y="1433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54996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2628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10160" y="1433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39320" y="1433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371760" y="23212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71760" y="2536200"/>
                <a:ext cx="71640" cy="673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71760" y="274932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371760" y="2964960"/>
                <a:ext cx="71640" cy="69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71760" y="31798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371760" y="339516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71760" y="360792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371760" y="382320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71760" y="403884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71760" y="4253760"/>
                <a:ext cx="71640" cy="669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71760" y="446688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71760" y="468180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3880" y="1495800"/>
                <a:ext cx="858960" cy="214920"/>
              </a:xfrm>
              <a:custGeom>
                <a:avLst/>
                <a:gdLst/>
                <a:ahLst/>
                <a:rect l="l" t="t" r="r" b="b"/>
                <a:pathLst>
                  <a:path w="383" h="96">
                    <a:moveTo>
                      <a:pt x="383" y="96"/>
                    </a:moveTo>
                    <a:lnTo>
                      <a:pt x="383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383" y="96"/>
                    </a:lnTo>
                    <a:lnTo>
                      <a:pt x="383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78960" y="10857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674000" y="1085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707840" y="1085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54280" y="1085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7924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752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51920" y="1085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987560" y="1085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0246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0168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8484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61160" y="108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344680" y="10857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1612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79244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875960" y="1256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9116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72160" y="12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149920" y="1256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51920" y="1711080"/>
                <a:ext cx="562680" cy="1717560"/>
              </a:xfrm>
              <a:custGeom>
                <a:avLst/>
                <a:gdLst/>
                <a:ahLst/>
                <a:rect l="l" t="t" r="r" b="b"/>
                <a:pathLst>
                  <a:path w="251" h="766">
                    <a:moveTo>
                      <a:pt x="0" y="0"/>
                    </a:moveTo>
                    <a:lnTo>
                      <a:pt x="0" y="766"/>
                    </a:lnTo>
                    <a:lnTo>
                      <a:pt x="251" y="7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25720" y="1801080"/>
                <a:ext cx="78120" cy="78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12"/>
                    </a:moveTo>
                    <a:lnTo>
                      <a:pt x="23" y="35"/>
                    </a:lnTo>
                    <a:lnTo>
                      <a:pt x="35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35720" y="4626000"/>
                <a:ext cx="78480" cy="694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15" y="0"/>
                    </a:moveTo>
                    <a:lnTo>
                      <a:pt x="0" y="29"/>
                    </a:lnTo>
                    <a:lnTo>
                      <a:pt x="35" y="31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62800" y="1621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5604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13812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21228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79600" y="1621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15240" y="1621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3814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465720" y="1621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94520" y="162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5326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1440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6964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7424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5600" y="1621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92680" y="1621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72960" y="1621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019760" y="1621440"/>
                <a:ext cx="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672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151800" y="1789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8060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5440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322080" y="1789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660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44196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262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602880" y="1789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48600" y="1789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2996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804120" y="178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495160" y="33904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2" y="32"/>
                    </a:lnTo>
                    <a:lnTo>
                      <a:pt x="32" y="1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405240" y="3213360"/>
                <a:ext cx="2168280" cy="145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40400" y="521784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2" y="0"/>
                    </a:moveTo>
                    <a:lnTo>
                      <a:pt x="0" y="33"/>
                    </a:lnTo>
                    <a:lnTo>
                      <a:pt x="33" y="2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5240" y="4502880"/>
                <a:ext cx="2134800" cy="75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31400" y="4921920"/>
                <a:ext cx="83160" cy="694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0" y="0"/>
                    </a:moveTo>
                    <a:lnTo>
                      <a:pt x="0" y="31"/>
                    </a:lnTo>
                    <a:lnTo>
                      <a:pt x="37" y="2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405240" y="3857040"/>
                <a:ext cx="2152440" cy="110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3405240" y="1840680"/>
                <a:ext cx="2260440" cy="223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25720" y="2020680"/>
                <a:ext cx="78120" cy="759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3405240" y="2058480"/>
                <a:ext cx="2262600" cy="265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25720" y="2195640"/>
                <a:ext cx="78120" cy="6948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0"/>
                    </a:moveTo>
                    <a:lnTo>
                      <a:pt x="4" y="31"/>
                    </a:lnTo>
                    <a:lnTo>
                      <a:pt x="35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3405240" y="2226600"/>
                <a:ext cx="2246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21400" y="2432880"/>
                <a:ext cx="82800" cy="6732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14" y="30"/>
                    </a:lnTo>
                    <a:lnTo>
                      <a:pt x="37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3405240" y="2458080"/>
                <a:ext cx="2251440" cy="9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621400" y="2659680"/>
                <a:ext cx="82800" cy="6912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4"/>
                    </a:moveTo>
                    <a:lnTo>
                      <a:pt x="20" y="31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3405240" y="2686680"/>
                <a:ext cx="2255760" cy="160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5626080" y="2805480"/>
              <a:ext cx="78120" cy="74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6" y="0"/>
                  </a:moveTo>
                  <a:lnTo>
                    <a:pt x="0" y="33"/>
                  </a:lnTo>
                  <a:lnTo>
                    <a:pt x="35" y="2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05600" y="2354760"/>
              <a:ext cx="2242800" cy="49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26080" y="3029400"/>
              <a:ext cx="78120" cy="716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4" y="0"/>
                  </a:moveTo>
                  <a:lnTo>
                    <a:pt x="0" y="32"/>
                  </a:lnTo>
                  <a:lnTo>
                    <a:pt x="35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05600" y="2785320"/>
              <a:ext cx="224280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26080" y="3245040"/>
              <a:ext cx="78120" cy="716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4" y="0"/>
                  </a:moveTo>
                  <a:lnTo>
                    <a:pt x="0" y="32"/>
                  </a:lnTo>
                  <a:lnTo>
                    <a:pt x="35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05600" y="2998440"/>
              <a:ext cx="2246760" cy="28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26080" y="3471480"/>
              <a:ext cx="78120" cy="741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0"/>
                  </a:moveTo>
                  <a:lnTo>
                    <a:pt x="2" y="33"/>
                  </a:lnTo>
                  <a:lnTo>
                    <a:pt x="35" y="15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3405600" y="3509640"/>
              <a:ext cx="224280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760840" y="1198440"/>
            <a:ext cx="5925960" cy="5315400"/>
            <a:chOff x="2760840" y="1198440"/>
            <a:chExt cx="5925960" cy="5315400"/>
          </a:xfrm>
        </p:grpSpPr>
        <p:grpSp>
          <p:nvGrpSpPr>
            <p:cNvPr id="624" name=""/>
            <p:cNvGrpSpPr/>
            <p:nvPr/>
          </p:nvGrpSpPr>
          <p:grpSpPr>
            <a:xfrm>
              <a:off x="2760840" y="1198440"/>
              <a:ext cx="5925960" cy="5315400"/>
              <a:chOff x="2760840" y="1198440"/>
              <a:chExt cx="5925960" cy="5315400"/>
            </a:xfrm>
          </p:grpSpPr>
          <p:sp>
            <p:nvSpPr>
              <p:cNvPr id="625" name=""/>
              <p:cNvSpPr/>
              <p:nvPr/>
            </p:nvSpPr>
            <p:spPr>
              <a:xfrm flipV="1">
                <a:off x="6910560" y="2053800"/>
                <a:ext cx="1440" cy="392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49520" y="2050920"/>
                <a:ext cx="5237280" cy="411120"/>
              </a:xfrm>
              <a:custGeom>
                <a:avLst/>
                <a:gdLst/>
                <a:ahLst/>
                <a:rect l="l" t="t" r="r" b="b"/>
                <a:pathLst>
                  <a:path w="3299" h="259">
                    <a:moveTo>
                      <a:pt x="0" y="259"/>
                    </a:moveTo>
                    <a:lnTo>
                      <a:pt x="0" y="0"/>
                    </a:lnTo>
                    <a:lnTo>
                      <a:pt x="3299" y="0"/>
                    </a:lnTo>
                    <a:lnTo>
                      <a:pt x="3299" y="259"/>
                    </a:lnTo>
                    <a:lnTo>
                      <a:pt x="0" y="259"/>
                    </a:lnTo>
                    <a:lnTo>
                      <a:pt x="0" y="25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87640" y="2178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733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4136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7130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8176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192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88652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2144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957800" y="2178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1756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9100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74760" y="2178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957560" y="217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84920" y="217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02884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0634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300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03440" y="2178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2900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6320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33484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061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45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46520" y="21780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7928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4768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19680" y="21780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237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92120" y="2178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964120" y="21780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20680" y="15843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711400" y="1584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42000" y="1584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783040" y="1584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2048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921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968800" y="1584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98680" y="1584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3180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1063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17940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54640" y="1584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95320" y="1584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372000" y="158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35360" y="158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910560" y="5838840"/>
                <a:ext cx="1440" cy="3952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0360" y="5838840"/>
                <a:ext cx="5078520" cy="395280"/>
              </a:xfrm>
              <a:custGeom>
                <a:avLst/>
                <a:gdLst/>
                <a:ahLst/>
                <a:rect l="l" t="t" r="r" b="b"/>
                <a:pathLst>
                  <a:path w="3199" h="249">
                    <a:moveTo>
                      <a:pt x="0" y="249"/>
                    </a:moveTo>
                    <a:lnTo>
                      <a:pt x="0" y="0"/>
                    </a:lnTo>
                    <a:lnTo>
                      <a:pt x="3199" y="0"/>
                    </a:lnTo>
                    <a:lnTo>
                      <a:pt x="3199" y="249"/>
                    </a:ln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487640" y="596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733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413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7130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8176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8192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88652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92144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95780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0175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9100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22360" y="5962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0768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7644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4016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300280" y="596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30520" y="596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9028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462280" y="5962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8928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267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9512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6664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333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05000" y="5962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3956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9112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79960" y="5962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840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52400" y="5962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224760" y="596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658840" y="6330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4128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1004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7340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938560" y="633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6376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2856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520" y="6330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25760" y="6330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6032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2692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0000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372360" y="6330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12680" y="6330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8144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44800" y="633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91160" y="576252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41" y="0"/>
                    </a:moveTo>
                    <a:lnTo>
                      <a:pt x="0" y="0"/>
                    </a:lnTo>
                    <a:lnTo>
                      <a:pt x="22" y="43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82120" y="5762520"/>
                <a:ext cx="63360" cy="6840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40" y="0"/>
                    </a:moveTo>
                    <a:lnTo>
                      <a:pt x="0" y="0"/>
                    </a:lnTo>
                    <a:lnTo>
                      <a:pt x="21" y="4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12000" y="2457360"/>
                <a:ext cx="3240" cy="3321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653000" y="366084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40" y="0"/>
                    </a:moveTo>
                    <a:lnTo>
                      <a:pt x="0" y="0"/>
                    </a:lnTo>
                    <a:lnTo>
                      <a:pt x="19" y="4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683240" y="2457360"/>
                <a:ext cx="1440" cy="12225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43440" y="294480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40360" y="2940120"/>
                <a:ext cx="2880" cy="19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022360" y="2759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10768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17644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24016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0028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30520" y="2759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39028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6228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489280" y="275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267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951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66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73336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05000" y="2759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3956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112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79960" y="27590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0840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52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2759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98440" y="2759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8052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5252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079520" y="2759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109400" y="2759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943440" y="313992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140360" y="313992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43440" y="334008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140360" y="3336840"/>
                <a:ext cx="2880" cy="198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943440" y="353520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140360" y="353520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943440" y="373536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  <a:lnTo>
                      <a:pt x="2192" y="12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943440" y="373536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40360" y="373212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43440" y="3932280"/>
                <a:ext cx="3484440" cy="198360"/>
              </a:xfrm>
              <a:custGeom>
                <a:avLst/>
                <a:gdLst/>
                <a:ahLst/>
                <a:rect l="l" t="t" r="r" b="b"/>
                <a:pathLst>
                  <a:path w="2195" h="125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2195" y="125"/>
                    </a:lnTo>
                    <a:lnTo>
                      <a:pt x="2195" y="125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140360" y="3932280"/>
                <a:ext cx="2880" cy="198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43440" y="4130640"/>
                <a:ext cx="3484440" cy="196920"/>
              </a:xfrm>
              <a:custGeom>
                <a:avLst/>
                <a:gdLst/>
                <a:ahLst/>
                <a:rect l="l" t="t" r="r" b="b"/>
                <a:pathLst>
                  <a:path w="2195" h="124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2195" y="124"/>
                    </a:lnTo>
                    <a:lnTo>
                      <a:pt x="2195" y="12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140360" y="412740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943440" y="432756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40360" y="432756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943440" y="4527720"/>
                <a:ext cx="3484440" cy="195120"/>
              </a:xfrm>
              <a:custGeom>
                <a:avLst/>
                <a:gdLst/>
                <a:ahLst/>
                <a:rect l="l" t="t" r="r" b="b"/>
                <a:pathLst>
                  <a:path w="2195" h="123">
                    <a:moveTo>
                      <a:pt x="2192" y="123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2195" y="123"/>
                    </a:lnTo>
                    <a:lnTo>
                      <a:pt x="2195" y="1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40360" y="452268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943440" y="4722840"/>
                <a:ext cx="3484440" cy="200160"/>
              </a:xfrm>
              <a:custGeom>
                <a:avLst/>
                <a:gdLst/>
                <a:ahLst/>
                <a:rect l="l" t="t" r="r" b="b"/>
                <a:pathLst>
                  <a:path w="2195" h="126">
                    <a:moveTo>
                      <a:pt x="2192" y="124"/>
                    </a:moveTo>
                    <a:lnTo>
                      <a:pt x="2195" y="0"/>
                    </a:lnTo>
                    <a:lnTo>
                      <a:pt x="0" y="0"/>
                    </a:lnTo>
                    <a:lnTo>
                      <a:pt x="0" y="126"/>
                    </a:lnTo>
                    <a:lnTo>
                      <a:pt x="2195" y="126"/>
                    </a:lnTo>
                    <a:lnTo>
                      <a:pt x="2195" y="12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40360" y="4722840"/>
                <a:ext cx="288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21400" y="3833640"/>
                <a:ext cx="4680" cy="1940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91160" y="380052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19" y="40"/>
                    </a:moveTo>
                    <a:lnTo>
                      <a:pt x="24" y="42"/>
                    </a:lnTo>
                    <a:lnTo>
                      <a:pt x="29" y="40"/>
                    </a:lnTo>
                    <a:lnTo>
                      <a:pt x="31" y="40"/>
                    </a:lnTo>
                    <a:lnTo>
                      <a:pt x="33" y="37"/>
                    </a:lnTo>
                    <a:lnTo>
                      <a:pt x="36" y="35"/>
                    </a:lnTo>
                    <a:lnTo>
                      <a:pt x="38" y="33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1" y="21"/>
                    </a:lnTo>
                    <a:lnTo>
                      <a:pt x="41" y="18"/>
                    </a:lnTo>
                    <a:lnTo>
                      <a:pt x="41" y="14"/>
                    </a:lnTo>
                    <a:lnTo>
                      <a:pt x="41" y="11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7" y="35"/>
                    </a:lnTo>
                    <a:lnTo>
                      <a:pt x="10" y="37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7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03560" y="5051520"/>
                <a:ext cx="68400" cy="6660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0"/>
                    </a:moveTo>
                    <a:lnTo>
                      <a:pt x="0" y="2"/>
                    </a:lnTo>
                    <a:lnTo>
                      <a:pt x="22" y="4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038480" y="3833640"/>
                <a:ext cx="1800" cy="1231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008600" y="380052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19" y="40"/>
                    </a:moveTo>
                    <a:lnTo>
                      <a:pt x="24" y="42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8" y="33"/>
                    </a:lnTo>
                    <a:lnTo>
                      <a:pt x="38" y="30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40" y="21"/>
                    </a:lnTo>
                    <a:lnTo>
                      <a:pt x="40" y="18"/>
                    </a:lnTo>
                    <a:lnTo>
                      <a:pt x="40" y="14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5" y="7"/>
                    </a:lnTo>
                    <a:lnTo>
                      <a:pt x="33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40"/>
                    </a:lnTo>
                    <a:lnTo>
                      <a:pt x="14" y="40"/>
                    </a:lnTo>
                    <a:lnTo>
                      <a:pt x="16" y="42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510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859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1908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5364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256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587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79188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86460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93156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0320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03776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10940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17744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4908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31604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354200" y="5167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381200" y="5167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44456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47912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545720" y="516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617720" y="5167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53000" y="51674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55032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19440" y="5318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6012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31760" y="5318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7965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6460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93660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7008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03200" y="5318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02984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101840" y="5318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137120" y="5318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2411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313160" y="5318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413960" y="531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486320" y="5318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527360" y="5318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60840" y="1198440"/>
                <a:ext cx="5227560" cy="249480"/>
              </a:xfrm>
              <a:custGeom>
                <a:avLst/>
                <a:gdLst/>
                <a:ahLst/>
                <a:rect l="l" t="t" r="r" b="b"/>
                <a:pathLst>
                  <a:path w="3293" h="157">
                    <a:moveTo>
                      <a:pt x="3293" y="155"/>
                    </a:moveTo>
                    <a:lnTo>
                      <a:pt x="3293" y="0"/>
                    </a:lnTo>
                    <a:lnTo>
                      <a:pt x="0" y="0"/>
                    </a:lnTo>
                    <a:lnTo>
                      <a:pt x="0" y="157"/>
                    </a:lnTo>
                    <a:lnTo>
                      <a:pt x="3293" y="157"/>
                    </a:lnTo>
                    <a:lnTo>
                      <a:pt x="3293" y="157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871520" y="1244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95396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02200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09364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160600" y="1244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198760" y="1244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23332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299920" y="1244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5371920" y="124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9820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70200" y="124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124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4580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1744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86200" y="124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16080" y="1244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75120" y="124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09320" y="124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81680" y="124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65680" y="2909880"/>
              <a:ext cx="63360" cy="684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0" y="0"/>
                  </a:moveTo>
                  <a:lnTo>
                    <a:pt x="0" y="43"/>
                  </a:lnTo>
                  <a:lnTo>
                    <a:pt x="4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17800" y="1455840"/>
              <a:ext cx="965160" cy="1488960"/>
            </a:xfrm>
            <a:custGeom>
              <a:avLst/>
              <a:gdLst/>
              <a:ahLst/>
              <a:rect l="l" t="t" r="r" b="b"/>
              <a:pathLst>
                <a:path w="608" h="938">
                  <a:moveTo>
                    <a:pt x="608" y="935"/>
                  </a:moveTo>
                  <a:lnTo>
                    <a:pt x="0" y="938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12640" y="4010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9472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6636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3440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06400" y="40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39880" y="4010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7408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4572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14480" y="4010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44000" y="4010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95760" y="2589120"/>
              <a:ext cx="173160" cy="10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45880" y="249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22200" y="249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29560" y="2589120"/>
              <a:ext cx="168120" cy="103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79680" y="249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946280" y="2495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538960" y="5062680"/>
              <a:ext cx="169560" cy="10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88720" y="49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57120" y="49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567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28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71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30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6804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36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41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57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474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161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492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087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53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2271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06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93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3650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334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51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03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747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434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12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144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85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576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926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5253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970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686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03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395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079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799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148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508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239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909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29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184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334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02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4040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7316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451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80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175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848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730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418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785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1312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38008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41824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45280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51976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57920" y="184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90680" y="184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6075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79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755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92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296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060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80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161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568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281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19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635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40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766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314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903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4623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5037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41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128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877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25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636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382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148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512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890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6032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290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625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00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68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404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735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080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4800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132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5477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6197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6840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3716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753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30808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7684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1500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44776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51652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554680" y="562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87440" y="5626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72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7512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14"/>
                  </a:moveTo>
                  <a:lnTo>
                    <a:pt x="7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925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9021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79880" y="1911240"/>
              <a:ext cx="2412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2292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3864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1496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59440" y="191124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3690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5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4500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894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7" y="17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599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6786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1988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2948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086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9920" y="19112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7630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84224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834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10" y="17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93080" y="191124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072640" y="1911240"/>
              <a:ext cx="2196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913880" y="191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4"/>
                  </a:moveTo>
                  <a:lnTo>
                    <a:pt x="9" y="17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3768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8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560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991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0692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8648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2772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14"/>
                  </a:move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452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92444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656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0752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544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14"/>
                  </a:move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9572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05320" y="56959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848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261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74396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64400" y="569592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456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9660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8868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35720" y="569592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7" y="14"/>
                  </a:moveTo>
                  <a:lnTo>
                    <a:pt x="9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5940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14"/>
                  </a:moveTo>
                  <a:lnTo>
                    <a:pt x="7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1328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92840" y="5695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734080" y="56959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651640" y="5695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438840" y="3197160"/>
            <a:ext cx="2130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a PT por process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ado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de substituição e tamanho da 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97800" y="1312560"/>
            <a:ext cx="8042760" cy="430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page fault (bit válido= 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operacional executa a carga da pág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minimizar page faults, política de substituição mais usada: LRU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anho da PT (p/ end 32 bits, pag de 4KB, 4B / linha da P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úmero de linhas: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anho da PT = 4 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PT por programa ativo 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reduzir área dedicada para PT: registradores de limite superior e inferi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também são pagin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: translation lookaside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205240" y="383076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457200" y="1066680"/>
            <a:ext cx="6683040" cy="5406120"/>
            <a:chOff x="457200" y="1066680"/>
            <a:chExt cx="6683040" cy="5406120"/>
          </a:xfrm>
        </p:grpSpPr>
        <p:grpSp>
          <p:nvGrpSpPr>
            <p:cNvPr id="1021" name=""/>
            <p:cNvGrpSpPr/>
            <p:nvPr/>
          </p:nvGrpSpPr>
          <p:grpSpPr>
            <a:xfrm>
              <a:off x="457200" y="1066680"/>
              <a:ext cx="4955400" cy="5406120"/>
              <a:chOff x="457200" y="1066680"/>
              <a:chExt cx="4955400" cy="5406120"/>
            </a:xfrm>
          </p:grpSpPr>
          <p:sp>
            <p:nvSpPr>
              <p:cNvPr id="1022" name=""/>
              <p:cNvSpPr/>
              <p:nvPr/>
            </p:nvSpPr>
            <p:spPr>
              <a:xfrm>
                <a:off x="3082320" y="2593800"/>
                <a:ext cx="1164600" cy="20736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33" y="93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3" y="95"/>
                    </a:lnTo>
                    <a:lnTo>
                      <a:pt x="533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59680" y="196452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59680" y="238428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59680" y="280152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34640" y="1964520"/>
                <a:ext cx="1147320" cy="20988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34640" y="238428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934640" y="2801520"/>
                <a:ext cx="1147320" cy="20988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939320" y="4171680"/>
                <a:ext cx="1160280" cy="212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939320" y="4171680"/>
                <a:ext cx="1160280" cy="212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759680" y="4167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759680" y="4167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939320" y="4588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4588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59680" y="45849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59680" y="45849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39320" y="500436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939320" y="500436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59680" y="5004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59680" y="500436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939320" y="5425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939320" y="5425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59680" y="5424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759680" y="5424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9320" y="584568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939320" y="584568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59680" y="58413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59680" y="58413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939320" y="6265440"/>
                <a:ext cx="1160280" cy="207360"/>
              </a:xfrm>
              <a:custGeom>
                <a:avLst/>
                <a:gdLst/>
                <a:ahLst/>
                <a:rect l="l" t="t" r="r" b="b"/>
                <a:pathLst>
                  <a:path w="531" h="95">
                    <a:moveTo>
                      <a:pt x="531" y="93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1" y="95"/>
                    </a:lnTo>
                    <a:lnTo>
                      <a:pt x="531" y="95"/>
                    </a:lnTo>
                    <a:lnTo>
                      <a:pt x="53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939320" y="6265440"/>
                <a:ext cx="1160280" cy="207360"/>
              </a:xfrm>
              <a:custGeom>
                <a:avLst/>
                <a:gdLst/>
                <a:ahLst/>
                <a:rect l="l" t="t" r="r" b="b"/>
                <a:pathLst>
                  <a:path w="531" h="95">
                    <a:moveTo>
                      <a:pt x="531" y="93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1" y="95"/>
                    </a:lnTo>
                    <a:lnTo>
                      <a:pt x="531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59680" y="6261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59680" y="626112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31960" y="38743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8" y="0"/>
                    </a:moveTo>
                    <a:lnTo>
                      <a:pt x="0" y="27"/>
                    </a:lnTo>
                    <a:lnTo>
                      <a:pt x="37" y="3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31960" y="3874320"/>
                <a:ext cx="80640" cy="65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8" y="0"/>
                    </a:moveTo>
                    <a:lnTo>
                      <a:pt x="0" y="27"/>
                    </a:lnTo>
                    <a:lnTo>
                      <a:pt x="37" y="3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31960" y="325404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4" y="0"/>
                    </a:moveTo>
                    <a:lnTo>
                      <a:pt x="0" y="31"/>
                    </a:lnTo>
                    <a:lnTo>
                      <a:pt x="37" y="29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31960" y="325404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14" y="0"/>
                    </a:moveTo>
                    <a:lnTo>
                      <a:pt x="0" y="31"/>
                    </a:lnTo>
                    <a:lnTo>
                      <a:pt x="37" y="29"/>
                    </a:lnTo>
                    <a:lnTo>
                      <a:pt x="14" y="2"/>
                    </a:lnTo>
                    <a:lnTo>
                      <a:pt x="14" y="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31960" y="283212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6" y="0"/>
                    </a:moveTo>
                    <a:lnTo>
                      <a:pt x="0" y="29"/>
                    </a:lnTo>
                    <a:lnTo>
                      <a:pt x="37" y="3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331960" y="283212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16" y="0"/>
                    </a:moveTo>
                    <a:lnTo>
                      <a:pt x="0" y="29"/>
                    </a:lnTo>
                    <a:lnTo>
                      <a:pt x="37" y="3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40240" y="22420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40240" y="22420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0"/>
                    </a:moveTo>
                    <a:lnTo>
                      <a:pt x="0" y="32"/>
                    </a:lnTo>
                    <a:lnTo>
                      <a:pt x="33" y="1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082320" y="2593800"/>
                <a:ext cx="1164600" cy="207360"/>
              </a:xfrm>
              <a:custGeom>
                <a:avLst/>
                <a:gdLst/>
                <a:ahLst/>
                <a:rect l="l" t="t" r="r" b="b"/>
                <a:pathLst>
                  <a:path w="533" h="95">
                    <a:moveTo>
                      <a:pt x="533" y="93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33" y="95"/>
                    </a:lnTo>
                    <a:lnTo>
                      <a:pt x="533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43920" y="2270880"/>
                <a:ext cx="1717920" cy="17280"/>
              </a:xfrm>
              <a:custGeom>
                <a:avLst/>
                <a:gdLst/>
                <a:ahLst/>
                <a:rect l="l" t="t" r="r" b="b"/>
                <a:pathLst>
                  <a:path w="786" h="8">
                    <a:moveTo>
                      <a:pt x="0" y="8"/>
                    </a:moveTo>
                    <a:lnTo>
                      <a:pt x="786" y="8"/>
                    </a:lnTo>
                    <a:lnTo>
                      <a:pt x="786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3920" y="2270880"/>
                <a:ext cx="1717920" cy="17280"/>
              </a:xfrm>
              <a:custGeom>
                <a:avLst/>
                <a:gdLst/>
                <a:ahLst/>
                <a:rect l="l" t="t" r="r" b="b"/>
                <a:pathLst>
                  <a:path w="786" h="8">
                    <a:moveTo>
                      <a:pt x="0" y="8"/>
                    </a:moveTo>
                    <a:lnTo>
                      <a:pt x="786" y="8"/>
                    </a:lnTo>
                    <a:lnTo>
                      <a:pt x="786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57240" y="1855440"/>
                <a:ext cx="1713600" cy="1026720"/>
              </a:xfrm>
              <a:custGeom>
                <a:avLst/>
                <a:gdLst/>
                <a:ahLst/>
                <a:rect l="l" t="t" r="r" b="b"/>
                <a:pathLst>
                  <a:path w="784" h="470">
                    <a:moveTo>
                      <a:pt x="0" y="8"/>
                    </a:moveTo>
                    <a:lnTo>
                      <a:pt x="780" y="470"/>
                    </a:lnTo>
                    <a:lnTo>
                      <a:pt x="784" y="462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657240" y="1855440"/>
                <a:ext cx="1713600" cy="1026720"/>
              </a:xfrm>
              <a:custGeom>
                <a:avLst/>
                <a:gdLst/>
                <a:ahLst/>
                <a:rect l="l" t="t" r="r" b="b"/>
                <a:pathLst>
                  <a:path w="784" h="470">
                    <a:moveTo>
                      <a:pt x="0" y="8"/>
                    </a:moveTo>
                    <a:lnTo>
                      <a:pt x="780" y="470"/>
                    </a:lnTo>
                    <a:lnTo>
                      <a:pt x="784" y="462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643920" y="2484720"/>
                <a:ext cx="1726920" cy="823320"/>
              </a:xfrm>
              <a:custGeom>
                <a:avLst/>
                <a:gdLst/>
                <a:ahLst/>
                <a:rect l="l" t="t" r="r" b="b"/>
                <a:pathLst>
                  <a:path w="790" h="377">
                    <a:moveTo>
                      <a:pt x="0" y="6"/>
                    </a:moveTo>
                    <a:lnTo>
                      <a:pt x="788" y="377"/>
                    </a:lnTo>
                    <a:lnTo>
                      <a:pt x="790" y="370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43920" y="2484720"/>
                <a:ext cx="1726920" cy="823320"/>
              </a:xfrm>
              <a:custGeom>
                <a:avLst/>
                <a:gdLst/>
                <a:ahLst/>
                <a:rect l="l" t="t" r="r" b="b"/>
                <a:pathLst>
                  <a:path w="790" h="377">
                    <a:moveTo>
                      <a:pt x="0" y="6"/>
                    </a:moveTo>
                    <a:lnTo>
                      <a:pt x="788" y="377"/>
                    </a:lnTo>
                    <a:lnTo>
                      <a:pt x="790" y="370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643920" y="2897640"/>
                <a:ext cx="1731240" cy="1022760"/>
              </a:xfrm>
              <a:custGeom>
                <a:avLst/>
                <a:gdLst/>
                <a:ahLst/>
                <a:rect l="l" t="t" r="r" b="b"/>
                <a:pathLst>
                  <a:path w="792" h="468">
                    <a:moveTo>
                      <a:pt x="0" y="6"/>
                    </a:moveTo>
                    <a:lnTo>
                      <a:pt x="786" y="468"/>
                    </a:lnTo>
                    <a:lnTo>
                      <a:pt x="792" y="462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b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43920" y="2897640"/>
                <a:ext cx="1731240" cy="1022760"/>
              </a:xfrm>
              <a:custGeom>
                <a:avLst/>
                <a:gdLst/>
                <a:ahLst/>
                <a:rect l="l" t="t" r="r" b="b"/>
                <a:pathLst>
                  <a:path w="792" h="468">
                    <a:moveTo>
                      <a:pt x="0" y="6"/>
                    </a:moveTo>
                    <a:lnTo>
                      <a:pt x="786" y="468"/>
                    </a:lnTo>
                    <a:lnTo>
                      <a:pt x="792" y="462"/>
                    </a:lnTo>
                    <a:lnTo>
                      <a:pt x="6" y="0"/>
                    </a:lnTo>
                    <a:lnTo>
                      <a:pt x="2" y="6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eb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939320" y="3962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939320" y="3962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59680" y="3957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59680" y="3957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939320" y="4377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5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939320" y="4377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5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759680" y="43776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59680" y="43776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5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939320" y="4799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4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lnTo>
                      <a:pt x="531" y="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939320" y="4799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4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59680" y="4794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59680" y="4794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9320" y="5214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939320" y="5214600"/>
                <a:ext cx="1160280" cy="2113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531" y="97"/>
                    </a:lnTo>
                    <a:lnTo>
                      <a:pt x="531" y="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59680" y="521460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59680" y="521460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39320" y="5636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939320" y="5636160"/>
                <a:ext cx="1160280" cy="20952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759680" y="5631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759680" y="563184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939320" y="6050880"/>
                <a:ext cx="1160280" cy="214560"/>
              </a:xfrm>
              <a:custGeom>
                <a:avLst/>
                <a:gdLst/>
                <a:ahLst/>
                <a:rect l="l" t="t" r="r" b="b"/>
                <a:pathLst>
                  <a:path w="531" h="98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531" y="98"/>
                    </a:lnTo>
                    <a:lnTo>
                      <a:pt x="531" y="98"/>
                    </a:lnTo>
                    <a:lnTo>
                      <a:pt x="531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939320" y="6050880"/>
                <a:ext cx="1160280" cy="214560"/>
              </a:xfrm>
              <a:custGeom>
                <a:avLst/>
                <a:gdLst/>
                <a:ahLst/>
                <a:rect l="l" t="t" r="r" b="b"/>
                <a:pathLst>
                  <a:path w="531" h="98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531" y="98"/>
                    </a:lnTo>
                    <a:lnTo>
                      <a:pt x="531" y="9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59680" y="605088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759680" y="6050880"/>
                <a:ext cx="174960" cy="20988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6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39320" y="3751920"/>
                <a:ext cx="1160280" cy="209880"/>
              </a:xfrm>
              <a:custGeom>
                <a:avLst/>
                <a:gdLst/>
                <a:ahLst/>
                <a:rect l="l" t="t" r="r" b="b"/>
                <a:pathLst>
                  <a:path w="531" h="96">
                    <a:moveTo>
                      <a:pt x="531" y="96"/>
                    </a:moveTo>
                    <a:lnTo>
                      <a:pt x="531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1" y="96"/>
                    </a:lnTo>
                    <a:lnTo>
                      <a:pt x="531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696320" y="35730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91000" y="3573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66240" y="3573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97560" y="35730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928880" y="3573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59680" y="3751920"/>
                <a:ext cx="174960" cy="205560"/>
              </a:xfrm>
              <a:custGeom>
                <a:avLst/>
                <a:gdLst/>
                <a:ahLst/>
                <a:rect l="l" t="t" r="r" b="b"/>
                <a:pathLst>
                  <a:path w="80" h="94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80" y="94"/>
                    </a:lnTo>
                    <a:lnTo>
                      <a:pt x="80" y="9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805400" y="397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805400" y="418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805400" y="4399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805400" y="4606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805400" y="4816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805400" y="5025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0540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805400" y="544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805400" y="5653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05400" y="5863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05400" y="60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05400" y="6283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061720" y="3216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316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23020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72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387160" y="3216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423520" y="3216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4620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54196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617920" y="3216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651040" y="321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474640" y="4029480"/>
                <a:ext cx="72360" cy="7020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474640" y="4237200"/>
                <a:ext cx="72360" cy="720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474640" y="4447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474640" y="4656960"/>
                <a:ext cx="72360" cy="720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74640" y="48664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74640" y="50767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74640" y="5284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474640" y="549396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474640" y="570348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1"/>
                    </a:moveTo>
                    <a:lnTo>
                      <a:pt x="20" y="32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474640" y="5913720"/>
                <a:ext cx="72360" cy="6984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0"/>
                    </a:moveTo>
                    <a:lnTo>
                      <a:pt x="20" y="32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474640" y="612144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474640" y="6330960"/>
                <a:ext cx="72360" cy="716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1"/>
                    </a:moveTo>
                    <a:lnTo>
                      <a:pt x="20" y="33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759680" y="17568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3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59680" y="217476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759680" y="2593800"/>
                <a:ext cx="174960" cy="20736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80" y="93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80" y="95"/>
                    </a:lnTo>
                    <a:lnTo>
                      <a:pt x="80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240720" y="11952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336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41460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48444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551400" y="1195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84880" y="1195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51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731040" y="11952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760920" y="11952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0196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87648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95712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031640" y="1195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113720" y="1195200"/>
                <a:ext cx="36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41316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4927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5683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647880" y="1363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694320" y="13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770640" y="1363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40480" y="1363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082320" y="1547280"/>
                <a:ext cx="1164600" cy="209520"/>
              </a:xfrm>
              <a:custGeom>
                <a:avLst/>
                <a:gdLst/>
                <a:ahLst/>
                <a:rect l="l" t="t" r="r" b="b"/>
                <a:pathLst>
                  <a:path w="533" h="96">
                    <a:moveTo>
                      <a:pt x="533" y="94"/>
                    </a:moveTo>
                    <a:lnTo>
                      <a:pt x="533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33" y="96"/>
                    </a:lnTo>
                    <a:lnTo>
                      <a:pt x="533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690920" y="13266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78380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859760" y="13266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892520" y="13266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92096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759680" y="1547280"/>
                <a:ext cx="174960" cy="209520"/>
              </a:xfrm>
              <a:custGeom>
                <a:avLst/>
                <a:gdLst/>
                <a:ahLst/>
                <a:rect l="l" t="t" r="r" b="b"/>
                <a:pathLst>
                  <a:path w="80" h="96">
                    <a:moveTo>
                      <a:pt x="80" y="94"/>
                    </a:moveTo>
                    <a:lnTo>
                      <a:pt x="80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80" y="96"/>
                    </a:lnTo>
                    <a:lnTo>
                      <a:pt x="80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440" y="1066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4800" y="1066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6160" y="10666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05400" y="177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805400" y="1986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05400" y="2196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805400" y="2405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805400" y="261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05400" y="2823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934640" y="1756800"/>
                <a:ext cx="1147320" cy="207360"/>
              </a:xfrm>
              <a:custGeom>
                <a:avLst/>
                <a:gdLst/>
                <a:ahLst/>
                <a:rect l="l" t="t" r="r" b="b"/>
                <a:pathLst>
                  <a:path w="525" h="95">
                    <a:moveTo>
                      <a:pt x="525" y="93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25" y="95"/>
                    </a:lnTo>
                    <a:lnTo>
                      <a:pt x="52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934640" y="217476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934640" y="2593800"/>
                <a:ext cx="1147320" cy="207360"/>
              </a:xfrm>
              <a:custGeom>
                <a:avLst/>
                <a:gdLst/>
                <a:ahLst/>
                <a:rect l="l" t="t" r="r" b="b"/>
                <a:pathLst>
                  <a:path w="525" h="95">
                    <a:moveTo>
                      <a:pt x="525" y="93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525" y="95"/>
                    </a:lnTo>
                    <a:lnTo>
                      <a:pt x="525" y="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382840" y="13266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46636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546640" y="132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934640" y="1547280"/>
                <a:ext cx="1147320" cy="209520"/>
              </a:xfrm>
              <a:custGeom>
                <a:avLst/>
                <a:gdLst/>
                <a:ahLst/>
                <a:rect l="l" t="t" r="r" b="b"/>
                <a:pathLst>
                  <a:path w="525" h="96">
                    <a:moveTo>
                      <a:pt x="525" y="94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25" y="96"/>
                    </a:lnTo>
                    <a:lnTo>
                      <a:pt x="525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57200" y="1542600"/>
                <a:ext cx="1206360" cy="209880"/>
              </a:xfrm>
              <a:custGeom>
                <a:avLst/>
                <a:gdLst/>
                <a:ahLst/>
                <a:rect l="l" t="t" r="r" b="b"/>
                <a:pathLst>
                  <a:path w="552" h="96">
                    <a:moveTo>
                      <a:pt x="550" y="96"/>
                    </a:moveTo>
                    <a:lnTo>
                      <a:pt x="552" y="0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552" y="96"/>
                    </a:lnTo>
                    <a:lnTo>
                      <a:pt x="552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03800" y="11451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95240" y="1145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28360" y="11451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74440" y="1145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9100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9910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065960" y="11451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100880" y="11451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13868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21176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29240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366920" y="1145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449360" y="1145160"/>
                <a:ext cx="36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3700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91008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992520" y="13089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10448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184400" y="1308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261080" y="1308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147680" y="1752840"/>
                <a:ext cx="548640" cy="3356280"/>
              </a:xfrm>
              <a:custGeom>
                <a:avLst/>
                <a:gdLst/>
                <a:ahLst/>
                <a:rect l="l" t="t" r="r" b="b"/>
                <a:pathLst>
                  <a:path w="251" h="1536">
                    <a:moveTo>
                      <a:pt x="0" y="0"/>
                    </a:moveTo>
                    <a:lnTo>
                      <a:pt x="0" y="1536"/>
                    </a:lnTo>
                    <a:lnTo>
                      <a:pt x="251" y="153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340240" y="2297160"/>
                <a:ext cx="72360" cy="7812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17"/>
                    </a:moveTo>
                    <a:lnTo>
                      <a:pt x="27" y="36"/>
                    </a:lnTo>
                    <a:lnTo>
                      <a:pt x="33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344560" y="2508480"/>
                <a:ext cx="67680" cy="7668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0" y="18"/>
                    </a:moveTo>
                    <a:lnTo>
                      <a:pt x="27" y="35"/>
                    </a:lnTo>
                    <a:lnTo>
                      <a:pt x="31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331960" y="2701080"/>
                <a:ext cx="80640" cy="6768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0"/>
                    </a:moveTo>
                    <a:lnTo>
                      <a:pt x="16" y="31"/>
                    </a:lnTo>
                    <a:lnTo>
                      <a:pt x="37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331960" y="2914920"/>
                <a:ext cx="80640" cy="72000"/>
              </a:xfrm>
              <a:custGeom>
                <a:avLst/>
                <a:gdLst/>
                <a:ahLst/>
                <a:rect l="l" t="t" r="r" b="b"/>
                <a:pathLst>
                  <a:path w="37" h="33">
                    <a:moveTo>
                      <a:pt x="0" y="4"/>
                    </a:moveTo>
                    <a:lnTo>
                      <a:pt x="20" y="33"/>
                    </a:lnTo>
                    <a:lnTo>
                      <a:pt x="3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335920" y="3129480"/>
                <a:ext cx="76680" cy="78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3"/>
                    </a:moveTo>
                    <a:lnTo>
                      <a:pt x="25" y="36"/>
                    </a:lnTo>
                    <a:lnTo>
                      <a:pt x="35" y="0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331960" y="333468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4"/>
                    </a:moveTo>
                    <a:lnTo>
                      <a:pt x="20" y="30"/>
                    </a:lnTo>
                    <a:lnTo>
                      <a:pt x="37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331960" y="3518640"/>
                <a:ext cx="80640" cy="67320"/>
              </a:xfrm>
              <a:custGeom>
                <a:avLst/>
                <a:gdLst/>
                <a:ahLst/>
                <a:rect l="l" t="t" r="r" b="b"/>
                <a:pathLst>
                  <a:path w="37" h="31">
                    <a:moveTo>
                      <a:pt x="0" y="0"/>
                    </a:moveTo>
                    <a:lnTo>
                      <a:pt x="8" y="31"/>
                    </a:lnTo>
                    <a:lnTo>
                      <a:pt x="37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331960" y="3728160"/>
                <a:ext cx="80640" cy="65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0" y="0"/>
                    </a:moveTo>
                    <a:lnTo>
                      <a:pt x="8" y="30"/>
                    </a:lnTo>
                    <a:lnTo>
                      <a:pt x="37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331960" y="3957840"/>
                <a:ext cx="80640" cy="6336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0" y="0"/>
                    </a:moveTo>
                    <a:lnTo>
                      <a:pt x="16" y="29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101680" y="3407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19456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27340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34540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413440" y="3407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445840" y="3407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51352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592000" y="3407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20080" y="3407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58600" y="3407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274032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700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96920" y="340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4480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12472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7116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0896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288520" y="3573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31984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38968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61680" y="3573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49768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71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52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28080" y="3573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78840" y="3573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5516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925000" y="3573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677240" y="2242080"/>
              <a:ext cx="7236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50200" y="2274840"/>
              <a:ext cx="5443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77240" y="5077080"/>
              <a:ext cx="72360" cy="69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624840" y="182664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24840" y="182664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24840" y="2246400"/>
              <a:ext cx="7236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624840" y="2246400"/>
              <a:ext cx="7236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8" y="30"/>
                  </a:lnTo>
                  <a:lnTo>
                    <a:pt x="18" y="3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24840" y="245412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24840" y="2454120"/>
              <a:ext cx="72360" cy="67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24840" y="2873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24840" y="2873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34840" y="3042000"/>
              <a:ext cx="80640" cy="65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8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34840" y="3042000"/>
              <a:ext cx="80640" cy="658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6" y="0"/>
                  </a:moveTo>
                  <a:lnTo>
                    <a:pt x="0" y="28"/>
                  </a:lnTo>
                  <a:lnTo>
                    <a:pt x="37" y="3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42120" y="2060640"/>
              <a:ext cx="1731600" cy="1031760"/>
            </a:xfrm>
            <a:custGeom>
              <a:avLst/>
              <a:gdLst/>
              <a:ahLst/>
              <a:rect l="l" t="t" r="r" b="b"/>
              <a:pathLst>
                <a:path w="792" h="472">
                  <a:moveTo>
                    <a:pt x="0" y="6"/>
                  </a:moveTo>
                  <a:lnTo>
                    <a:pt x="788" y="472"/>
                  </a:lnTo>
                  <a:lnTo>
                    <a:pt x="792" y="464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642120" y="2060640"/>
              <a:ext cx="1731600" cy="1031760"/>
            </a:xfrm>
            <a:custGeom>
              <a:avLst/>
              <a:gdLst/>
              <a:ahLst/>
              <a:rect l="l" t="t" r="r" b="b"/>
              <a:pathLst>
                <a:path w="792" h="472">
                  <a:moveTo>
                    <a:pt x="0" y="6"/>
                  </a:moveTo>
                  <a:lnTo>
                    <a:pt x="788" y="472"/>
                  </a:lnTo>
                  <a:lnTo>
                    <a:pt x="792" y="464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24840" y="2036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24840" y="2036880"/>
              <a:ext cx="72360" cy="67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31"/>
                  </a:lnTo>
                </a:path>
              </a:pathLst>
            </a:custGeom>
            <a:noFill/>
            <a:ln w="324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523240" y="2338200"/>
              <a:ext cx="2861280" cy="34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531880" y="2543760"/>
              <a:ext cx="2861640" cy="38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2523240" y="2727000"/>
              <a:ext cx="2845800" cy="13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2523240" y="2945520"/>
              <a:ext cx="285048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531880" y="3170520"/>
              <a:ext cx="2848320" cy="27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2523240" y="3362760"/>
              <a:ext cx="2850480" cy="175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2523240" y="3546720"/>
              <a:ext cx="2841480" cy="72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512440" y="3756240"/>
              <a:ext cx="285696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523240" y="3983760"/>
              <a:ext cx="284148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84840" y="1756800"/>
              <a:ext cx="1164960" cy="207360"/>
            </a:xfrm>
            <a:custGeom>
              <a:avLst/>
              <a:gdLst/>
              <a:ahLst/>
              <a:rect l="l" t="t" r="r" b="b"/>
              <a:pathLst>
                <a:path w="533" h="95">
                  <a:moveTo>
                    <a:pt x="533" y="93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533" y="95"/>
                  </a:lnTo>
                  <a:lnTo>
                    <a:pt x="533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084840" y="1964520"/>
              <a:ext cx="1164960" cy="2098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84840" y="2384280"/>
              <a:ext cx="1164960" cy="20952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084840" y="2801520"/>
              <a:ext cx="1164960" cy="20988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84840" y="2174760"/>
              <a:ext cx="1164960" cy="209520"/>
            </a:xfrm>
            <a:custGeom>
              <a:avLst/>
              <a:gdLst/>
              <a:ahLst/>
              <a:rect l="l" t="t" r="r" b="b"/>
              <a:pathLst>
                <a:path w="533" h="96">
                  <a:moveTo>
                    <a:pt x="533" y="94"/>
                  </a:moveTo>
                  <a:lnTo>
                    <a:pt x="533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533" y="96"/>
                  </a:lnTo>
                  <a:lnTo>
                    <a:pt x="53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63400" y="4665960"/>
              <a:ext cx="2074680" cy="1402920"/>
            </a:xfrm>
            <a:custGeom>
              <a:avLst/>
              <a:gdLst/>
              <a:ahLst/>
              <a:rect l="l" t="t" r="r" b="b"/>
              <a:pathLst>
                <a:path w="949" h="642">
                  <a:moveTo>
                    <a:pt x="949" y="80"/>
                  </a:moveTo>
                  <a:lnTo>
                    <a:pt x="943" y="67"/>
                  </a:lnTo>
                  <a:lnTo>
                    <a:pt x="926" y="55"/>
                  </a:lnTo>
                  <a:lnTo>
                    <a:pt x="897" y="44"/>
                  </a:lnTo>
                  <a:lnTo>
                    <a:pt x="858" y="32"/>
                  </a:lnTo>
                  <a:lnTo>
                    <a:pt x="811" y="23"/>
                  </a:lnTo>
                  <a:lnTo>
                    <a:pt x="755" y="15"/>
                  </a:lnTo>
                  <a:lnTo>
                    <a:pt x="694" y="7"/>
                  </a:lnTo>
                  <a:lnTo>
                    <a:pt x="625" y="4"/>
                  </a:lnTo>
                  <a:lnTo>
                    <a:pt x="552" y="0"/>
                  </a:lnTo>
                  <a:lnTo>
                    <a:pt x="475" y="0"/>
                  </a:lnTo>
                  <a:lnTo>
                    <a:pt x="398" y="0"/>
                  </a:lnTo>
                  <a:lnTo>
                    <a:pt x="326" y="4"/>
                  </a:lnTo>
                  <a:lnTo>
                    <a:pt x="257" y="7"/>
                  </a:lnTo>
                  <a:lnTo>
                    <a:pt x="195" y="15"/>
                  </a:lnTo>
                  <a:lnTo>
                    <a:pt x="140" y="23"/>
                  </a:lnTo>
                  <a:lnTo>
                    <a:pt x="92" y="32"/>
                  </a:lnTo>
                  <a:lnTo>
                    <a:pt x="53" y="44"/>
                  </a:lnTo>
                  <a:lnTo>
                    <a:pt x="25" y="55"/>
                  </a:lnTo>
                  <a:lnTo>
                    <a:pt x="7" y="67"/>
                  </a:lnTo>
                  <a:lnTo>
                    <a:pt x="0" y="80"/>
                  </a:lnTo>
                  <a:lnTo>
                    <a:pt x="0" y="559"/>
                  </a:lnTo>
                  <a:lnTo>
                    <a:pt x="7" y="573"/>
                  </a:lnTo>
                  <a:lnTo>
                    <a:pt x="25" y="586"/>
                  </a:lnTo>
                  <a:lnTo>
                    <a:pt x="53" y="597"/>
                  </a:lnTo>
                  <a:lnTo>
                    <a:pt x="92" y="609"/>
                  </a:lnTo>
                  <a:lnTo>
                    <a:pt x="140" y="619"/>
                  </a:lnTo>
                  <a:lnTo>
                    <a:pt x="195" y="626"/>
                  </a:lnTo>
                  <a:lnTo>
                    <a:pt x="257" y="632"/>
                  </a:lnTo>
                  <a:lnTo>
                    <a:pt x="326" y="638"/>
                  </a:lnTo>
                  <a:lnTo>
                    <a:pt x="398" y="640"/>
                  </a:lnTo>
                  <a:lnTo>
                    <a:pt x="475" y="642"/>
                  </a:lnTo>
                  <a:lnTo>
                    <a:pt x="552" y="640"/>
                  </a:lnTo>
                  <a:lnTo>
                    <a:pt x="625" y="638"/>
                  </a:lnTo>
                  <a:lnTo>
                    <a:pt x="694" y="632"/>
                  </a:lnTo>
                  <a:lnTo>
                    <a:pt x="755" y="626"/>
                  </a:lnTo>
                  <a:lnTo>
                    <a:pt x="811" y="619"/>
                  </a:lnTo>
                  <a:lnTo>
                    <a:pt x="858" y="609"/>
                  </a:lnTo>
                  <a:lnTo>
                    <a:pt x="897" y="597"/>
                  </a:lnTo>
                  <a:lnTo>
                    <a:pt x="926" y="586"/>
                  </a:lnTo>
                  <a:lnTo>
                    <a:pt x="943" y="573"/>
                  </a:lnTo>
                  <a:lnTo>
                    <a:pt x="949" y="559"/>
                  </a:lnTo>
                  <a:lnTo>
                    <a:pt x="949" y="80"/>
                  </a:lnTo>
                  <a:lnTo>
                    <a:pt x="949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32000" y="2041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2668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0012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7320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42680" y="204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7364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240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320520" y="204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52560" y="204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90360" y="2041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50700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585120" y="2041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699240" y="20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81320" y="204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827400" y="204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24120" y="2274840"/>
              <a:ext cx="1716120" cy="20988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6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424120" y="248508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424120" y="2694600"/>
              <a:ext cx="1716120" cy="203040"/>
            </a:xfrm>
            <a:custGeom>
              <a:avLst/>
              <a:gdLst/>
              <a:ahLst/>
              <a:rect l="l" t="t" r="r" b="b"/>
              <a:pathLst>
                <a:path w="785" h="93">
                  <a:moveTo>
                    <a:pt x="785" y="93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785" y="93"/>
                  </a:lnTo>
                  <a:lnTo>
                    <a:pt x="785" y="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24120" y="2897640"/>
              <a:ext cx="1716120" cy="20988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424120" y="3107880"/>
              <a:ext cx="1716120" cy="204840"/>
            </a:xfrm>
            <a:custGeom>
              <a:avLst/>
              <a:gdLst/>
              <a:ahLst/>
              <a:rect l="l" t="t" r="r" b="b"/>
              <a:pathLst>
                <a:path w="785" h="94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785" y="94"/>
                  </a:lnTo>
                  <a:lnTo>
                    <a:pt x="785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424120" y="331308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424120" y="3522600"/>
              <a:ext cx="1716120" cy="205560"/>
            </a:xfrm>
            <a:custGeom>
              <a:avLst/>
              <a:gdLst/>
              <a:ahLst/>
              <a:rect l="l" t="t" r="r" b="b"/>
              <a:pathLst>
                <a:path w="785" h="94">
                  <a:moveTo>
                    <a:pt x="785" y="94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785" y="94"/>
                  </a:lnTo>
                  <a:lnTo>
                    <a:pt x="785" y="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24120" y="3728520"/>
              <a:ext cx="1716120" cy="209520"/>
            </a:xfrm>
            <a:custGeom>
              <a:avLst/>
              <a:gdLst/>
              <a:ahLst/>
              <a:rect l="l" t="t" r="r" b="b"/>
              <a:pathLst>
                <a:path w="785" h="96">
                  <a:moveTo>
                    <a:pt x="785" y="96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785" y="96"/>
                  </a:lnTo>
                  <a:lnTo>
                    <a:pt x="785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24120" y="3938040"/>
              <a:ext cx="1716120" cy="207360"/>
            </a:xfrm>
            <a:custGeom>
              <a:avLst/>
              <a:gdLst/>
              <a:ahLst/>
              <a:rect l="l" t="t" r="r" b="b"/>
              <a:pathLst>
                <a:path w="785" h="95">
                  <a:moveTo>
                    <a:pt x="785" y="93"/>
                  </a:moveTo>
                  <a:lnTo>
                    <a:pt x="785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785" y="95"/>
                  </a:lnTo>
                  <a:lnTo>
                    <a:pt x="785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05240" y="5109480"/>
              <a:ext cx="1855800" cy="20952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7" y="9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205240" y="5109480"/>
              <a:ext cx="1855800" cy="20952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6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205240" y="5389200"/>
              <a:ext cx="1855800" cy="2098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  <a:lnTo>
                    <a:pt x="847" y="9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205240" y="5389200"/>
              <a:ext cx="1855800" cy="209880"/>
            </a:xfrm>
            <a:custGeom>
              <a:avLst/>
              <a:gdLst/>
              <a:ahLst/>
              <a:rect l="l" t="t" r="r" b="b"/>
              <a:pathLst>
                <a:path w="849" h="96">
                  <a:moveTo>
                    <a:pt x="847" y="94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849" y="96"/>
                  </a:lnTo>
                  <a:lnTo>
                    <a:pt x="84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205240" y="5666760"/>
              <a:ext cx="1855800" cy="20736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7" y="95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  <a:lnTo>
                    <a:pt x="847" y="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05240" y="5666760"/>
              <a:ext cx="1855800" cy="207360"/>
            </a:xfrm>
            <a:custGeom>
              <a:avLst/>
              <a:gdLst/>
              <a:ahLst/>
              <a:rect l="l" t="t" r="r" b="b"/>
              <a:pathLst>
                <a:path w="849" h="95">
                  <a:moveTo>
                    <a:pt x="847" y="95"/>
                  </a:moveTo>
                  <a:lnTo>
                    <a:pt x="84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849" y="95"/>
                  </a:lnTo>
                  <a:lnTo>
                    <a:pt x="849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63400" y="4840560"/>
              <a:ext cx="2074680" cy="181080"/>
            </a:xfrm>
            <a:custGeom>
              <a:avLst/>
              <a:gdLst/>
              <a:ahLst/>
              <a:rect l="l" t="t" r="r" b="b"/>
              <a:pathLst>
                <a:path w="949" h="83">
                  <a:moveTo>
                    <a:pt x="0" y="0"/>
                  </a:moveTo>
                  <a:lnTo>
                    <a:pt x="7" y="14"/>
                  </a:lnTo>
                  <a:lnTo>
                    <a:pt x="25" y="27"/>
                  </a:lnTo>
                  <a:lnTo>
                    <a:pt x="53" y="39"/>
                  </a:lnTo>
                  <a:lnTo>
                    <a:pt x="92" y="50"/>
                  </a:lnTo>
                  <a:lnTo>
                    <a:pt x="140" y="60"/>
                  </a:lnTo>
                  <a:lnTo>
                    <a:pt x="195" y="67"/>
                  </a:lnTo>
                  <a:lnTo>
                    <a:pt x="257" y="75"/>
                  </a:lnTo>
                  <a:lnTo>
                    <a:pt x="326" y="79"/>
                  </a:lnTo>
                  <a:lnTo>
                    <a:pt x="398" y="83"/>
                  </a:lnTo>
                  <a:lnTo>
                    <a:pt x="475" y="83"/>
                  </a:lnTo>
                  <a:lnTo>
                    <a:pt x="552" y="83"/>
                  </a:lnTo>
                  <a:lnTo>
                    <a:pt x="625" y="79"/>
                  </a:lnTo>
                  <a:lnTo>
                    <a:pt x="694" y="75"/>
                  </a:lnTo>
                  <a:lnTo>
                    <a:pt x="755" y="67"/>
                  </a:lnTo>
                  <a:lnTo>
                    <a:pt x="811" y="60"/>
                  </a:lnTo>
                  <a:lnTo>
                    <a:pt x="858" y="50"/>
                  </a:lnTo>
                  <a:lnTo>
                    <a:pt x="897" y="39"/>
                  </a:lnTo>
                  <a:lnTo>
                    <a:pt x="926" y="27"/>
                  </a:lnTo>
                  <a:lnTo>
                    <a:pt x="943" y="14"/>
                  </a:lnTo>
                  <a:lnTo>
                    <a:pt x="94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681520" y="443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82320" y="443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1328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8312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55480" y="443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992200" y="4436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063480" y="443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0128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78320" y="4436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2836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0252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83520" y="443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28920" y="5059080"/>
              <a:ext cx="72360" cy="70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4" y="0"/>
                  </a:moveTo>
                  <a:lnTo>
                    <a:pt x="0" y="32"/>
                  </a:lnTo>
                  <a:lnTo>
                    <a:pt x="33" y="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27120" y="5649480"/>
              <a:ext cx="74160" cy="676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0" y="0"/>
                  </a:moveTo>
                  <a:lnTo>
                    <a:pt x="7" y="31"/>
                  </a:lnTo>
                  <a:lnTo>
                    <a:pt x="34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27120" y="5352120"/>
              <a:ext cx="74160" cy="72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0"/>
                  </a:moveTo>
                  <a:lnTo>
                    <a:pt x="3" y="33"/>
                  </a:lnTo>
                  <a:lnTo>
                    <a:pt x="34" y="1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512440" y="4899960"/>
              <a:ext cx="268884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2523240" y="5677200"/>
              <a:ext cx="263628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2512440" y="5384520"/>
              <a:ext cx="2688840" cy="14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1" name=""/>
          <p:cNvSpPr/>
          <p:nvPr/>
        </p:nvSpPr>
        <p:spPr>
          <a:xfrm>
            <a:off x="6248520" y="0"/>
            <a:ext cx="272088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ical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TLB size: 32 - 4,096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Block size: 1 - 2 page tab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Hit time: 0.5 - 1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Miss penalty: 10 - 30 clock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 rate: 0.01% -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direto ou fully associ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cac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 3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108240" y="29480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84320" y="3174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837080" y="152280"/>
            <a:ext cx="6848640" cy="6425640"/>
            <a:chOff x="1837080" y="152280"/>
            <a:chExt cx="6848640" cy="6425640"/>
          </a:xfrm>
        </p:grpSpPr>
        <p:grpSp>
          <p:nvGrpSpPr>
            <p:cNvPr id="1326" name=""/>
            <p:cNvGrpSpPr/>
            <p:nvPr/>
          </p:nvGrpSpPr>
          <p:grpSpPr>
            <a:xfrm>
              <a:off x="1837080" y="152280"/>
              <a:ext cx="6848640" cy="6425640"/>
              <a:chOff x="1837080" y="152280"/>
              <a:chExt cx="6848640" cy="6425640"/>
            </a:xfrm>
          </p:grpSpPr>
          <p:sp>
            <p:nvSpPr>
              <p:cNvPr id="1327" name=""/>
              <p:cNvSpPr/>
              <p:nvPr/>
            </p:nvSpPr>
            <p:spPr>
              <a:xfrm>
                <a:off x="2803320" y="4716000"/>
                <a:ext cx="5879160" cy="1232640"/>
              </a:xfrm>
              <a:custGeom>
                <a:avLst/>
                <a:gdLst/>
                <a:ahLst/>
                <a:rect l="l" t="t" r="r" b="b"/>
                <a:pathLst>
                  <a:path w="2972" h="623">
                    <a:moveTo>
                      <a:pt x="2972" y="623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623"/>
                    </a:lnTo>
                    <a:lnTo>
                      <a:pt x="2972" y="623"/>
                    </a:lnTo>
                    <a:lnTo>
                      <a:pt x="2972" y="62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36720" y="4537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819880" y="453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894040" y="4537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919600" y="4537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946240" y="4537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823920" y="45295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900600" y="452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71880" y="452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683400" y="45338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7412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847560" y="45338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881760" y="4533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807280" y="5416560"/>
                <a:ext cx="5878440" cy="173880"/>
              </a:xfrm>
              <a:custGeom>
                <a:avLst/>
                <a:gdLst/>
                <a:ahLst/>
                <a:rect l="l" t="t" r="r" b="b"/>
                <a:pathLst>
                  <a:path w="2972" h="88">
                    <a:moveTo>
                      <a:pt x="2970" y="86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970" y="88"/>
                    </a:lnTo>
                    <a:lnTo>
                      <a:pt x="2970" y="88"/>
                    </a:lnTo>
                    <a:lnTo>
                      <a:pt x="2970" y="8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807280" y="5416560"/>
                <a:ext cx="5878440" cy="173880"/>
              </a:xfrm>
              <a:custGeom>
                <a:avLst/>
                <a:gdLst/>
                <a:ahLst/>
                <a:rect l="l" t="t" r="r" b="b"/>
                <a:pathLst>
                  <a:path w="2972" h="88">
                    <a:moveTo>
                      <a:pt x="2970" y="86"/>
                    </a:moveTo>
                    <a:lnTo>
                      <a:pt x="297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970" y="88"/>
                    </a:lnTo>
                    <a:lnTo>
                      <a:pt x="2970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802960" y="489204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802960" y="506592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802960" y="5240160"/>
                <a:ext cx="587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862720" y="5586480"/>
                <a:ext cx="581976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802960" y="5760720"/>
                <a:ext cx="587916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947680" y="4723560"/>
                <a:ext cx="1440" cy="122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10040" y="4719600"/>
                <a:ext cx="2160" cy="122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52000" y="601200"/>
                <a:ext cx="144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270240" y="601200"/>
                <a:ext cx="3900600" cy="231480"/>
              </a:xfrm>
              <a:custGeom>
                <a:avLst/>
                <a:gdLst/>
                <a:ahLst/>
                <a:rect l="l" t="t" r="r" b="b"/>
                <a:pathLst>
                  <a:path w="1972" h="117">
                    <a:moveTo>
                      <a:pt x="0" y="117"/>
                    </a:moveTo>
                    <a:lnTo>
                      <a:pt x="0" y="0"/>
                    </a:lnTo>
                    <a:lnTo>
                      <a:pt x="1972" y="0"/>
                    </a:lnTo>
                    <a:lnTo>
                      <a:pt x="1972" y="117"/>
                    </a:lnTo>
                    <a:lnTo>
                      <a:pt x="0" y="117"/>
                    </a:lnTo>
                    <a:lnTo>
                      <a:pt x="0" y="1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998320" y="638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08040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1516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2200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29172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3280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39972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43500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468120" y="63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31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0168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062840" y="3217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14888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2198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2882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36092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9332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46676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50132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535160" y="3217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599600" y="321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669800" y="32173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150440" y="6386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235400" y="638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260600" y="638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0236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35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40892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480200" y="6386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50720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5406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6148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68216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75524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21840" y="638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592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294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02920" y="6386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0228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175720" y="638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244120" y="638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916880" y="152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002920" y="152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028840" y="15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070240" y="152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10228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17572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247720" y="152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276160" y="152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30928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38236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44860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522400" y="152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564160" y="152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632200" y="152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696640" y="152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985000" y="1321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072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14268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20496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26652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296400" y="132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3615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2996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56960" y="132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929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5631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6344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702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774480" y="132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81084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8817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951240" y="1321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549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1251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198560" y="1321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592360" y="1321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67552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4860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7524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06560" y="132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750040" y="1501560"/>
                <a:ext cx="5032080" cy="173880"/>
              </a:xfrm>
              <a:custGeom>
                <a:avLst/>
                <a:gdLst/>
                <a:ahLst/>
                <a:rect l="l" t="t" r="r" b="b"/>
                <a:pathLst>
                  <a:path w="2544" h="88">
                    <a:moveTo>
                      <a:pt x="2542" y="88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4" y="88"/>
                    </a:lnTo>
                    <a:lnTo>
                      <a:pt x="2544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754000" y="1675800"/>
                <a:ext cx="5028120" cy="176040"/>
              </a:xfrm>
              <a:custGeom>
                <a:avLst/>
                <a:gdLst/>
                <a:ahLst/>
                <a:rect l="l" t="t" r="r" b="b"/>
                <a:pathLst>
                  <a:path w="2542" h="89">
                    <a:moveTo>
                      <a:pt x="2540" y="89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542" y="89"/>
                    </a:lnTo>
                    <a:lnTo>
                      <a:pt x="2542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754000" y="185220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  <a:lnTo>
                      <a:pt x="2540" y="8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754000" y="185220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750040" y="2026440"/>
                <a:ext cx="5032080" cy="173880"/>
              </a:xfrm>
              <a:custGeom>
                <a:avLst/>
                <a:gdLst/>
                <a:ahLst/>
                <a:rect l="l" t="t" r="r" b="b"/>
                <a:pathLst>
                  <a:path w="2544" h="88">
                    <a:moveTo>
                      <a:pt x="2542" y="88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4" y="88"/>
                    </a:lnTo>
                    <a:lnTo>
                      <a:pt x="2544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750040" y="2200320"/>
                <a:ext cx="5032080" cy="175680"/>
              </a:xfrm>
              <a:custGeom>
                <a:avLst/>
                <a:gdLst/>
                <a:ahLst/>
                <a:rect l="l" t="t" r="r" b="b"/>
                <a:pathLst>
                  <a:path w="2544" h="89">
                    <a:moveTo>
                      <a:pt x="2542" y="89"/>
                    </a:moveTo>
                    <a:lnTo>
                      <a:pt x="2544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544" y="89"/>
                    </a:lnTo>
                    <a:lnTo>
                      <a:pt x="2544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754000" y="2376360"/>
                <a:ext cx="5028120" cy="173880"/>
              </a:xfrm>
              <a:custGeom>
                <a:avLst/>
                <a:gdLst/>
                <a:ahLst/>
                <a:rect l="l" t="t" r="r" b="b"/>
                <a:pathLst>
                  <a:path w="2542" h="88">
                    <a:moveTo>
                      <a:pt x="2540" y="88"/>
                    </a:moveTo>
                    <a:lnTo>
                      <a:pt x="254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2542" y="88"/>
                    </a:lnTo>
                    <a:lnTo>
                      <a:pt x="2542" y="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404680" y="1501560"/>
                <a:ext cx="3960" cy="10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791080" y="19072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3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635160" y="947520"/>
                <a:ext cx="15192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82344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89760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96396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032360" y="842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563880" y="19072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3" y="29"/>
                    </a:moveTo>
                    <a:lnTo>
                      <a:pt x="17" y="31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514560" y="2675160"/>
                <a:ext cx="15192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645600" y="258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710760" y="258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89440" y="6023880"/>
                <a:ext cx="57240" cy="6120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9" y="0"/>
                    </a:moveTo>
                    <a:lnTo>
                      <a:pt x="0" y="2"/>
                    </a:lnTo>
                    <a:lnTo>
                      <a:pt x="15" y="3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583880" y="3846960"/>
                <a:ext cx="1558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19960" y="374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88000" y="374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848640" y="3839040"/>
                <a:ext cx="1558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983640" y="373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53840" y="3737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48680" y="546192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889440" y="54536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3" y="29"/>
                    </a:moveTo>
                    <a:lnTo>
                      <a:pt x="17" y="29"/>
                    </a:lnTo>
                    <a:lnTo>
                      <a:pt x="19" y="29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787440" y="5461920"/>
                <a:ext cx="57240" cy="590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4" y="29"/>
                    </a:moveTo>
                    <a:lnTo>
                      <a:pt x="17" y="30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29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745680" y="3488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3640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909840" y="348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9728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0412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12880" y="3488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148880" y="3488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17444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24572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313760" y="348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389000" y="348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734200" y="5461920"/>
                <a:ext cx="60840" cy="590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0"/>
                    </a:moveTo>
                    <a:lnTo>
                      <a:pt x="2" y="30"/>
                    </a:lnTo>
                    <a:lnTo>
                      <a:pt x="31" y="1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664720" y="3710160"/>
                <a:ext cx="4262760" cy="1781280"/>
              </a:xfrm>
              <a:custGeom>
                <a:avLst/>
                <a:gdLst/>
                <a:ahLst/>
                <a:rect l="l" t="t" r="r" b="b"/>
                <a:pathLst>
                  <a:path w="2155" h="900">
                    <a:moveTo>
                      <a:pt x="2153" y="0"/>
                    </a:moveTo>
                    <a:lnTo>
                      <a:pt x="2155" y="328"/>
                    </a:lnTo>
                    <a:lnTo>
                      <a:pt x="0" y="328"/>
                    </a:lnTo>
                    <a:lnTo>
                      <a:pt x="0" y="900"/>
                    </a:lnTo>
                    <a:lnTo>
                      <a:pt x="39" y="90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56000" y="6350400"/>
                <a:ext cx="276480" cy="227520"/>
              </a:xfrm>
              <a:custGeom>
                <a:avLst/>
                <a:gdLst/>
                <a:ahLst/>
                <a:rect l="l" t="t" r="r" b="b"/>
                <a:pathLst>
                  <a:path w="140" h="115">
                    <a:moveTo>
                      <a:pt x="55" y="0"/>
                    </a:moveTo>
                    <a:lnTo>
                      <a:pt x="48" y="0"/>
                    </a:lnTo>
                    <a:lnTo>
                      <a:pt x="38" y="4"/>
                    </a:lnTo>
                    <a:lnTo>
                      <a:pt x="31" y="6"/>
                    </a:lnTo>
                    <a:lnTo>
                      <a:pt x="23" y="12"/>
                    </a:lnTo>
                    <a:lnTo>
                      <a:pt x="17" y="17"/>
                    </a:lnTo>
                    <a:lnTo>
                      <a:pt x="11" y="23"/>
                    </a:lnTo>
                    <a:lnTo>
                      <a:pt x="7" y="31"/>
                    </a:lnTo>
                    <a:lnTo>
                      <a:pt x="4" y="40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4" y="77"/>
                    </a:lnTo>
                    <a:lnTo>
                      <a:pt x="7" y="85"/>
                    </a:lnTo>
                    <a:lnTo>
                      <a:pt x="11" y="92"/>
                    </a:lnTo>
                    <a:lnTo>
                      <a:pt x="17" y="98"/>
                    </a:lnTo>
                    <a:lnTo>
                      <a:pt x="23" y="104"/>
                    </a:lnTo>
                    <a:lnTo>
                      <a:pt x="31" y="110"/>
                    </a:lnTo>
                    <a:lnTo>
                      <a:pt x="38" y="113"/>
                    </a:lnTo>
                    <a:lnTo>
                      <a:pt x="48" y="115"/>
                    </a:lnTo>
                    <a:lnTo>
                      <a:pt x="57" y="115"/>
                    </a:lnTo>
                    <a:lnTo>
                      <a:pt x="140" y="115"/>
                    </a:lnTo>
                    <a:lnTo>
                      <a:pt x="140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790080" y="6103080"/>
                <a:ext cx="261000" cy="262800"/>
              </a:xfrm>
              <a:custGeom>
                <a:avLst/>
                <a:gdLst/>
                <a:ahLst/>
                <a:rect l="l" t="t" r="r" b="b"/>
                <a:pathLst>
                  <a:path w="132" h="133">
                    <a:moveTo>
                      <a:pt x="65" y="131"/>
                    </a:moveTo>
                    <a:lnTo>
                      <a:pt x="77" y="131"/>
                    </a:lnTo>
                    <a:lnTo>
                      <a:pt x="86" y="129"/>
                    </a:lnTo>
                    <a:lnTo>
                      <a:pt x="96" y="125"/>
                    </a:lnTo>
                    <a:lnTo>
                      <a:pt x="104" y="119"/>
                    </a:lnTo>
                    <a:lnTo>
                      <a:pt x="111" y="112"/>
                    </a:lnTo>
                    <a:lnTo>
                      <a:pt x="119" y="104"/>
                    </a:lnTo>
                    <a:lnTo>
                      <a:pt x="125" y="96"/>
                    </a:lnTo>
                    <a:lnTo>
                      <a:pt x="129" y="87"/>
                    </a:lnTo>
                    <a:lnTo>
                      <a:pt x="131" y="77"/>
                    </a:lnTo>
                    <a:lnTo>
                      <a:pt x="132" y="66"/>
                    </a:lnTo>
                    <a:lnTo>
                      <a:pt x="131" y="56"/>
                    </a:lnTo>
                    <a:lnTo>
                      <a:pt x="129" y="44"/>
                    </a:lnTo>
                    <a:lnTo>
                      <a:pt x="125" y="35"/>
                    </a:lnTo>
                    <a:lnTo>
                      <a:pt x="119" y="27"/>
                    </a:lnTo>
                    <a:lnTo>
                      <a:pt x="111" y="19"/>
                    </a:lnTo>
                    <a:lnTo>
                      <a:pt x="104" y="12"/>
                    </a:lnTo>
                    <a:lnTo>
                      <a:pt x="96" y="6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44" y="2"/>
                    </a:lnTo>
                    <a:lnTo>
                      <a:pt x="34" y="6"/>
                    </a:lnTo>
                    <a:lnTo>
                      <a:pt x="27" y="12"/>
                    </a:lnTo>
                    <a:lnTo>
                      <a:pt x="19" y="19"/>
                    </a:lnTo>
                    <a:lnTo>
                      <a:pt x="11" y="27"/>
                    </a:lnTo>
                    <a:lnTo>
                      <a:pt x="6" y="35"/>
                    </a:lnTo>
                    <a:lnTo>
                      <a:pt x="2" y="44"/>
                    </a:lnTo>
                    <a:lnTo>
                      <a:pt x="0" y="56"/>
                    </a:lnTo>
                    <a:lnTo>
                      <a:pt x="0" y="66"/>
                    </a:lnTo>
                    <a:lnTo>
                      <a:pt x="0" y="77"/>
                    </a:lnTo>
                    <a:lnTo>
                      <a:pt x="2" y="87"/>
                    </a:lnTo>
                    <a:lnTo>
                      <a:pt x="6" y="96"/>
                    </a:lnTo>
                    <a:lnTo>
                      <a:pt x="11" y="104"/>
                    </a:lnTo>
                    <a:lnTo>
                      <a:pt x="19" y="112"/>
                    </a:lnTo>
                    <a:lnTo>
                      <a:pt x="27" y="119"/>
                    </a:lnTo>
                    <a:lnTo>
                      <a:pt x="34" y="125"/>
                    </a:lnTo>
                    <a:lnTo>
                      <a:pt x="44" y="129"/>
                    </a:lnTo>
                    <a:lnTo>
                      <a:pt x="54" y="131"/>
                    </a:lnTo>
                    <a:lnTo>
                      <a:pt x="65" y="133"/>
                    </a:lnTo>
                    <a:lnTo>
                      <a:pt x="65" y="13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915000" y="5479920"/>
                <a:ext cx="3960" cy="559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881160" y="6213960"/>
                <a:ext cx="75240" cy="370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38" y="0"/>
                    </a:lnTo>
                    <a:lnTo>
                      <a:pt x="38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15"/>
                    </a:moveTo>
                    <a:lnTo>
                      <a:pt x="38" y="15"/>
                    </a:lnTo>
                    <a:lnTo>
                      <a:pt x="38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32840" y="5487480"/>
                <a:ext cx="41400" cy="904680"/>
              </a:xfrm>
              <a:custGeom>
                <a:avLst/>
                <a:gdLst/>
                <a:ahLst/>
                <a:rect l="l" t="t" r="r" b="b"/>
                <a:pathLst>
                  <a:path w="21" h="457">
                    <a:moveTo>
                      <a:pt x="21" y="0"/>
                    </a:moveTo>
                    <a:lnTo>
                      <a:pt x="21" y="457"/>
                    </a:lnTo>
                    <a:lnTo>
                      <a:pt x="0" y="4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832840" y="6362280"/>
                <a:ext cx="1085760" cy="177840"/>
              </a:xfrm>
              <a:custGeom>
                <a:avLst/>
                <a:gdLst/>
                <a:ahLst/>
                <a:rect l="l" t="t" r="r" b="b"/>
                <a:pathLst>
                  <a:path w="549" h="90">
                    <a:moveTo>
                      <a:pt x="547" y="0"/>
                    </a:moveTo>
                    <a:lnTo>
                      <a:pt x="549" y="90"/>
                    </a:lnTo>
                    <a:lnTo>
                      <a:pt x="0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721320" y="619416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0"/>
                    </a:moveTo>
                    <a:lnTo>
                      <a:pt x="0" y="29"/>
                    </a:lnTo>
                    <a:lnTo>
                      <a:pt x="29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544120" y="3710160"/>
                <a:ext cx="2120400" cy="2523240"/>
              </a:xfrm>
              <a:custGeom>
                <a:avLst/>
                <a:gdLst/>
                <a:ahLst/>
                <a:rect l="l" t="t" r="r" b="b"/>
                <a:pathLst>
                  <a:path w="1072" h="1275">
                    <a:moveTo>
                      <a:pt x="1070" y="0"/>
                    </a:moveTo>
                    <a:lnTo>
                      <a:pt x="1072" y="201"/>
                    </a:lnTo>
                    <a:lnTo>
                      <a:pt x="0" y="201"/>
                    </a:lnTo>
                    <a:lnTo>
                      <a:pt x="0" y="1275"/>
                    </a:lnTo>
                    <a:lnTo>
                      <a:pt x="609" y="127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815160" y="5491440"/>
                <a:ext cx="1440" cy="78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738120" y="6053400"/>
                <a:ext cx="15192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868800" y="5954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941880" y="5954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085120" y="52362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17476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247480" y="523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30832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378520" y="523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783120" y="6267600"/>
                <a:ext cx="61200" cy="60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29" y="0"/>
                    </a:moveTo>
                    <a:lnTo>
                      <a:pt x="0" y="2"/>
                    </a:lnTo>
                    <a:lnTo>
                      <a:pt x="16" y="3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683400" y="6338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774120" y="6338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847560" y="6338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881760" y="6338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387880" y="6437520"/>
                <a:ext cx="61200" cy="5724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29" y="27"/>
                    </a:moveTo>
                    <a:lnTo>
                      <a:pt x="31" y="0"/>
                    </a:lnTo>
                    <a:lnTo>
                      <a:pt x="0" y="14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2432880" y="6465240"/>
                <a:ext cx="122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837080" y="638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2744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99440" y="638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06100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3408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200680" y="638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239200" y="638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308320" y="6384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34600" y="638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075160" y="370656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99920" y="3843000"/>
                <a:ext cx="15228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131320" y="3742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8049240" y="40410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457960" y="30909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3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715800" y="833040"/>
                <a:ext cx="1343520" cy="2275560"/>
              </a:xfrm>
              <a:custGeom>
                <a:avLst/>
                <a:gdLst/>
                <a:ahLst/>
                <a:rect l="l" t="t" r="r" b="b"/>
                <a:pathLst>
                  <a:path w="679" h="1150">
                    <a:moveTo>
                      <a:pt x="349" y="1150"/>
                    </a:moveTo>
                    <a:lnTo>
                      <a:pt x="351" y="1029"/>
                    </a:lnTo>
                    <a:lnTo>
                      <a:pt x="678" y="1029"/>
                    </a:lnTo>
                    <a:lnTo>
                      <a:pt x="679" y="140"/>
                    </a:lnTo>
                    <a:lnTo>
                      <a:pt x="0" y="14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380720" y="309096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9" y="0"/>
                    </a:moveTo>
                    <a:lnTo>
                      <a:pt x="0" y="0"/>
                    </a:lnTo>
                    <a:lnTo>
                      <a:pt x="15" y="2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483520" y="1939320"/>
                <a:ext cx="1109520" cy="1169280"/>
              </a:xfrm>
              <a:custGeom>
                <a:avLst/>
                <a:gdLst/>
                <a:ahLst/>
                <a:rect l="l" t="t" r="r" b="b"/>
                <a:pathLst>
                  <a:path w="561" h="591">
                    <a:moveTo>
                      <a:pt x="0" y="591"/>
                    </a:moveTo>
                    <a:lnTo>
                      <a:pt x="2" y="489"/>
                    </a:lnTo>
                    <a:lnTo>
                      <a:pt x="561" y="489"/>
                    </a:lnTo>
                    <a:lnTo>
                      <a:pt x="55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8276040" y="3443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8358840" y="3443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425080" y="3443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458200" y="3443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532000" y="3443040"/>
                <a:ext cx="36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237880" y="3567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30664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34228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379720" y="3567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437680" y="3567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8511120" y="356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97280" y="1321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988720" y="1321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3018960" y="132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60720" y="1321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093480" y="1321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81120" y="1333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354920" y="133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28000" y="133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82520" y="957240"/>
              <a:ext cx="15228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22520" y="1907280"/>
              <a:ext cx="55440" cy="6120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9"/>
                  </a:moveTo>
                  <a:lnTo>
                    <a:pt x="28" y="0"/>
                  </a:lnTo>
                  <a:lnTo>
                    <a:pt x="0" y="16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638160" y="2432160"/>
              <a:ext cx="57240" cy="6084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638160" y="2257920"/>
              <a:ext cx="57240" cy="572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7"/>
                  </a:moveTo>
                  <a:lnTo>
                    <a:pt x="29" y="0"/>
                  </a:lnTo>
                  <a:lnTo>
                    <a:pt x="0" y="13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638160" y="2083680"/>
              <a:ext cx="57240" cy="56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2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638160" y="1903320"/>
              <a:ext cx="57240" cy="612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6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638160" y="1733400"/>
              <a:ext cx="57240" cy="6120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29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638160" y="1563120"/>
              <a:ext cx="57240" cy="550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28"/>
                  </a:moveTo>
                  <a:lnTo>
                    <a:pt x="29" y="0"/>
                  </a:lnTo>
                  <a:lnTo>
                    <a:pt x="0" y="15"/>
                  </a:lnTo>
                  <a:lnTo>
                    <a:pt x="29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2573640" y="1939320"/>
              <a:ext cx="25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99160" y="1862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74760" y="18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46400" y="18622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329560" y="186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365560" y="18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436840" y="1862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65280" y="186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822200" y="3217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0788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97952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4432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103720" y="3217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134680" y="3217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1944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267880" y="32176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293800" y="3217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32800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39928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47236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54076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614200" y="3217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4732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1680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788440" y="3217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8946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61240" y="3217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035040" y="32176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73880" y="3488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75812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3012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9528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955400" y="3488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98744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4720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119560" y="3488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14764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18400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5204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32512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92440" y="3488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43276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50728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568120" y="3488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63220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666760" y="3488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70384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771160" y="3488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283120" y="15649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60880" y="1564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29640" y="1564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99720" y="829080"/>
              <a:ext cx="165960" cy="1634400"/>
            </a:xfrm>
            <a:custGeom>
              <a:avLst/>
              <a:gdLst/>
              <a:ahLst/>
              <a:rect l="l" t="t" r="r" b="b"/>
              <a:pathLst>
                <a:path w="84" h="826">
                  <a:moveTo>
                    <a:pt x="84" y="0"/>
                  </a:moveTo>
                  <a:lnTo>
                    <a:pt x="84" y="826"/>
                  </a:lnTo>
                  <a:lnTo>
                    <a:pt x="0" y="826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97760" y="1523880"/>
              <a:ext cx="132480" cy="1339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35" y="68"/>
                  </a:moveTo>
                  <a:lnTo>
                    <a:pt x="40" y="68"/>
                  </a:lnTo>
                  <a:lnTo>
                    <a:pt x="44" y="66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50"/>
                  </a:lnTo>
                  <a:lnTo>
                    <a:pt x="67" y="45"/>
                  </a:lnTo>
                  <a:lnTo>
                    <a:pt x="67" y="39"/>
                  </a:lnTo>
                  <a:lnTo>
                    <a:pt x="67" y="35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20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4" y="50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9" y="68"/>
                  </a:lnTo>
                  <a:lnTo>
                    <a:pt x="35" y="68"/>
                  </a:lnTo>
                  <a:lnTo>
                    <a:pt x="35" y="6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97760" y="1695600"/>
              <a:ext cx="132480" cy="13284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7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97760" y="186624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6"/>
                  </a:moveTo>
                  <a:lnTo>
                    <a:pt x="40" y="67"/>
                  </a:lnTo>
                  <a:lnTo>
                    <a:pt x="44" y="66"/>
                  </a:lnTo>
                  <a:lnTo>
                    <a:pt x="50" y="64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8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0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497760" y="204624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3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8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5"/>
                  </a:lnTo>
                  <a:lnTo>
                    <a:pt x="50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3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97760" y="222012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8"/>
                  </a:lnTo>
                  <a:lnTo>
                    <a:pt x="67" y="32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7"/>
                  </a:lnTo>
                  <a:lnTo>
                    <a:pt x="15" y="61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497760" y="2394360"/>
              <a:ext cx="132480" cy="13212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35" y="65"/>
                  </a:moveTo>
                  <a:lnTo>
                    <a:pt x="40" y="67"/>
                  </a:lnTo>
                  <a:lnTo>
                    <a:pt x="44" y="65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3" y="48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63" y="17"/>
                  </a:lnTo>
                  <a:lnTo>
                    <a:pt x="62" y="14"/>
                  </a:lnTo>
                  <a:lnTo>
                    <a:pt x="58" y="10"/>
                  </a:lnTo>
                  <a:lnTo>
                    <a:pt x="54" y="6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7"/>
                  </a:lnTo>
                  <a:lnTo>
                    <a:pt x="35" y="6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3699360" y="2283480"/>
              <a:ext cx="16164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3699360" y="2109600"/>
              <a:ext cx="161640" cy="3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3699360" y="1935360"/>
              <a:ext cx="1616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3699360" y="1762920"/>
              <a:ext cx="16164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3699360" y="1588680"/>
              <a:ext cx="16164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50040" y="1501560"/>
              <a:ext cx="140400" cy="1048680"/>
            </a:xfrm>
            <a:custGeom>
              <a:avLst/>
              <a:gdLst/>
              <a:ahLst/>
              <a:rect l="l" t="t" r="r" b="b"/>
              <a:pathLst>
                <a:path w="71" h="530">
                  <a:moveTo>
                    <a:pt x="69" y="530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71" y="530"/>
                  </a:lnTo>
                  <a:lnTo>
                    <a:pt x="71" y="5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90440" y="1501560"/>
              <a:ext cx="140400" cy="1048680"/>
            </a:xfrm>
            <a:custGeom>
              <a:avLst/>
              <a:gdLst/>
              <a:ahLst/>
              <a:rect l="l" t="t" r="r" b="b"/>
              <a:pathLst>
                <a:path w="71" h="530">
                  <a:moveTo>
                    <a:pt x="71" y="530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71" y="530"/>
                  </a:lnTo>
                  <a:lnTo>
                    <a:pt x="71" y="5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962480" y="3431520"/>
              <a:ext cx="207360" cy="271080"/>
            </a:xfrm>
            <a:custGeom>
              <a:avLst/>
              <a:gdLst/>
              <a:ahLst/>
              <a:rect l="l" t="t" r="r" b="b"/>
              <a:pathLst>
                <a:path w="105" h="137">
                  <a:moveTo>
                    <a:pt x="103" y="13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105" y="137"/>
                  </a:lnTo>
                  <a:lnTo>
                    <a:pt x="105" y="1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21520" y="3427560"/>
              <a:ext cx="1736640" cy="275040"/>
            </a:xfrm>
            <a:custGeom>
              <a:avLst/>
              <a:gdLst/>
              <a:ahLst/>
              <a:rect l="l" t="t" r="r" b="b"/>
              <a:pathLst>
                <a:path w="878" h="139">
                  <a:moveTo>
                    <a:pt x="878" y="139"/>
                  </a:moveTo>
                  <a:lnTo>
                    <a:pt x="87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878" y="139"/>
                  </a:lnTo>
                  <a:lnTo>
                    <a:pt x="878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69240" y="3427560"/>
              <a:ext cx="1951920" cy="275040"/>
            </a:xfrm>
            <a:custGeom>
              <a:avLst/>
              <a:gdLst/>
              <a:ahLst/>
              <a:rect l="l" t="t" r="r" b="b"/>
              <a:pathLst>
                <a:path w="987" h="139">
                  <a:moveTo>
                    <a:pt x="987" y="139"/>
                  </a:moveTo>
                  <a:lnTo>
                    <a:pt x="987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987" y="139"/>
                  </a:lnTo>
                  <a:lnTo>
                    <a:pt x="987" y="1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593400" y="3154320"/>
              <a:ext cx="1572480" cy="273240"/>
            </a:xfrm>
            <a:custGeom>
              <a:avLst/>
              <a:gdLst/>
              <a:ahLst/>
              <a:rect l="l" t="t" r="r" b="b"/>
              <a:pathLst>
                <a:path w="795" h="138">
                  <a:moveTo>
                    <a:pt x="795" y="137"/>
                  </a:moveTo>
                  <a:lnTo>
                    <a:pt x="79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795" y="138"/>
                  </a:lnTo>
                  <a:lnTo>
                    <a:pt x="795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269240" y="3154320"/>
              <a:ext cx="2323800" cy="273240"/>
            </a:xfrm>
            <a:custGeom>
              <a:avLst/>
              <a:gdLst/>
              <a:ahLst/>
              <a:rect l="l" t="t" r="r" b="b"/>
              <a:pathLst>
                <a:path w="1175" h="138">
                  <a:moveTo>
                    <a:pt x="1175" y="138"/>
                  </a:moveTo>
                  <a:lnTo>
                    <a:pt x="117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75" y="138"/>
                  </a:lnTo>
                  <a:lnTo>
                    <a:pt x="1175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913000" y="3367800"/>
              <a:ext cx="1072080" cy="120600"/>
            </a:xfrm>
            <a:custGeom>
              <a:avLst/>
              <a:gdLst/>
              <a:ahLst/>
              <a:rect l="l" t="t" r="r" b="b"/>
              <a:pathLst>
                <a:path w="542" h="61">
                  <a:moveTo>
                    <a:pt x="542" y="61"/>
                  </a:moveTo>
                  <a:lnTo>
                    <a:pt x="542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42" y="61"/>
                  </a:lnTo>
                  <a:lnTo>
                    <a:pt x="54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92920" y="334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8076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14772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1288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74440" y="3348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0468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6984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36800" y="3348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65240" y="33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50088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57108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64236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11480" y="3348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753240" y="33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2416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90400" y="334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10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380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5240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855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578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55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61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7324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80124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094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1310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1973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7112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046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3748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4644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802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551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2212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65560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7265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952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8323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025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9745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0076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80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47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833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553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902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78420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8284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8979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93432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00776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04088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1128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151760" y="399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224480" y="39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98448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6332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904920" y="468360"/>
              <a:ext cx="2592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5" y="11"/>
                  </a:move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1596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2948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4072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11"/>
                  </a:move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550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53456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37616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435360" y="468360"/>
              <a:ext cx="25560" cy="219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5" y="11"/>
                  </a:move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27912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9340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690240" y="4683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51456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68648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766040" y="468360"/>
              <a:ext cx="23760" cy="21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6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0764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43080" y="468360"/>
              <a:ext cx="2124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4" y="11"/>
                  </a:moveTo>
                  <a:lnTo>
                    <a:pt x="6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35560" y="2439720"/>
              <a:ext cx="57240" cy="414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2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35560" y="2269800"/>
              <a:ext cx="57240" cy="374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29" y="1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35560" y="2091600"/>
              <a:ext cx="57240" cy="374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5"/>
                  </a:moveTo>
                  <a:lnTo>
                    <a:pt x="29" y="15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535560" y="1911600"/>
              <a:ext cx="57240" cy="414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2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35560" y="1745280"/>
              <a:ext cx="57240" cy="370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3"/>
                  </a:moveTo>
                  <a:lnTo>
                    <a:pt x="29" y="13"/>
                  </a:lnTo>
                  <a:lnTo>
                    <a:pt x="29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535560" y="1573200"/>
              <a:ext cx="57240" cy="39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0"/>
                  </a:moveTo>
                  <a:lnTo>
                    <a:pt x="29" y="0"/>
                  </a:lnTo>
                  <a:lnTo>
                    <a:pt x="29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16"/>
                  </a:moveTo>
                  <a:lnTo>
                    <a:pt x="29" y="16"/>
                  </a:lnTo>
                  <a:lnTo>
                    <a:pt x="29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86920" y="1596960"/>
            <a:ext cx="1524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peament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lly associa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79800" y="4038480"/>
            <a:ext cx="14976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peamento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reto</a:t>
            </a:r>
            <a:br>
              <a:rPr sz="1500"/>
            </a:b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or caso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 mi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LB, PT, cac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 (DEC 31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884160" y="1085760"/>
            <a:ext cx="7365960" cy="5326560"/>
            <a:chOff x="884160" y="1085760"/>
            <a:chExt cx="7365960" cy="5326560"/>
          </a:xfrm>
        </p:grpSpPr>
        <p:grpSp>
          <p:nvGrpSpPr>
            <p:cNvPr id="1696" name=""/>
            <p:cNvGrpSpPr/>
            <p:nvPr/>
          </p:nvGrpSpPr>
          <p:grpSpPr>
            <a:xfrm>
              <a:off x="884160" y="1673280"/>
              <a:ext cx="7365960" cy="4739040"/>
              <a:chOff x="884160" y="1673280"/>
              <a:chExt cx="7365960" cy="4739040"/>
            </a:xfrm>
          </p:grpSpPr>
          <p:sp>
            <p:nvSpPr>
              <p:cNvPr id="1697" name=""/>
              <p:cNvSpPr/>
              <p:nvPr/>
            </p:nvSpPr>
            <p:spPr>
              <a:xfrm>
                <a:off x="5002200" y="4695840"/>
                <a:ext cx="2340000" cy="333360"/>
              </a:xfrm>
              <a:custGeom>
                <a:avLst/>
                <a:gdLst/>
                <a:ahLst/>
                <a:rect l="l" t="t" r="r" b="b"/>
                <a:pathLst>
                  <a:path w="1474" h="210">
                    <a:moveTo>
                      <a:pt x="1474" y="210"/>
                    </a:moveTo>
                    <a:lnTo>
                      <a:pt x="147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01480" y="283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195080" y="283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276440" y="2836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168640" y="30067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2" y="43"/>
                    </a:moveTo>
                    <a:lnTo>
                      <a:pt x="45" y="0"/>
                    </a:lnTo>
                    <a:lnTo>
                      <a:pt x="0" y="2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222640" y="3040200"/>
                <a:ext cx="2498760" cy="336240"/>
              </a:xfrm>
              <a:custGeom>
                <a:avLst/>
                <a:gdLst/>
                <a:ahLst/>
                <a:rect l="l" t="t" r="r" b="b"/>
                <a:pathLst>
                  <a:path w="1574" h="212">
                    <a:moveTo>
                      <a:pt x="1574" y="212"/>
                    </a:moveTo>
                    <a:lnTo>
                      <a:pt x="157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362480" y="5961240"/>
                <a:ext cx="68400" cy="7128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43" y="0"/>
                    </a:moveTo>
                    <a:lnTo>
                      <a:pt x="0" y="0"/>
                    </a:lnTo>
                    <a:lnTo>
                      <a:pt x="22" y="4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2000" y="5641920"/>
                <a:ext cx="2165400" cy="336600"/>
              </a:xfrm>
              <a:custGeom>
                <a:avLst/>
                <a:gdLst/>
                <a:ahLst/>
                <a:rect l="l" t="t" r="r" b="b"/>
                <a:pathLst>
                  <a:path w="1364" h="212">
                    <a:moveTo>
                      <a:pt x="1364" y="212"/>
                    </a:moveTo>
                    <a:lnTo>
                      <a:pt x="1364" y="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08480" y="419400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0"/>
                    </a:moveTo>
                    <a:lnTo>
                      <a:pt x="0" y="3"/>
                    </a:lnTo>
                    <a:lnTo>
                      <a:pt x="24" y="46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961240" y="419400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0"/>
                    </a:moveTo>
                    <a:lnTo>
                      <a:pt x="0" y="3"/>
                    </a:lnTo>
                    <a:lnTo>
                      <a:pt x="21" y="46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446640" y="3878280"/>
                <a:ext cx="2547720" cy="33336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081320" y="3440160"/>
                <a:ext cx="1278000" cy="873000"/>
              </a:xfrm>
              <a:custGeom>
                <a:avLst/>
                <a:gdLst/>
                <a:ahLst/>
                <a:rect l="l" t="t" r="r" b="b"/>
                <a:pathLst>
                  <a:path w="805" h="550">
                    <a:moveTo>
                      <a:pt x="403" y="0"/>
                    </a:moveTo>
                    <a:lnTo>
                      <a:pt x="0" y="276"/>
                    </a:lnTo>
                    <a:lnTo>
                      <a:pt x="403" y="550"/>
                    </a:lnTo>
                    <a:lnTo>
                      <a:pt x="805" y="276"/>
                    </a:lnTo>
                    <a:lnTo>
                      <a:pt x="403" y="0"/>
                    </a:lnTo>
                    <a:lnTo>
                      <a:pt x="403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081320" y="3440160"/>
                <a:ext cx="1278000" cy="873000"/>
              </a:xfrm>
              <a:custGeom>
                <a:avLst/>
                <a:gdLst/>
                <a:ahLst/>
                <a:rect l="l" t="t" r="r" b="b"/>
                <a:pathLst>
                  <a:path w="805" h="550">
                    <a:moveTo>
                      <a:pt x="403" y="0"/>
                    </a:moveTo>
                    <a:lnTo>
                      <a:pt x="0" y="276"/>
                    </a:lnTo>
                    <a:lnTo>
                      <a:pt x="403" y="550"/>
                    </a:lnTo>
                    <a:lnTo>
                      <a:pt x="805" y="276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03680" y="4275000"/>
                <a:ext cx="1282680" cy="532080"/>
              </a:xfrm>
              <a:custGeom>
                <a:avLst/>
                <a:gdLst/>
                <a:ahLst/>
                <a:rect l="l" t="t" r="r" b="b"/>
                <a:pathLst>
                  <a:path w="808" h="335">
                    <a:moveTo>
                      <a:pt x="0" y="335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5"/>
                    </a:lnTo>
                    <a:lnTo>
                      <a:pt x="2" y="335"/>
                    </a:lnTo>
                    <a:lnTo>
                      <a:pt x="2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03680" y="4275000"/>
                <a:ext cx="1282680" cy="532080"/>
              </a:xfrm>
              <a:custGeom>
                <a:avLst/>
                <a:gdLst/>
                <a:ahLst/>
                <a:rect l="l" t="t" r="r" b="b"/>
                <a:pathLst>
                  <a:path w="808" h="335">
                    <a:moveTo>
                      <a:pt x="0" y="335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5"/>
                    </a:lnTo>
                    <a:lnTo>
                      <a:pt x="2" y="335"/>
                    </a:lnTo>
                    <a:lnTo>
                      <a:pt x="2" y="33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438960" y="5113440"/>
                <a:ext cx="1811160" cy="877680"/>
              </a:xfrm>
              <a:custGeom>
                <a:avLst/>
                <a:gdLst/>
                <a:ahLst/>
                <a:rect l="l" t="t" r="r" b="b"/>
                <a:pathLst>
                  <a:path w="1141" h="553">
                    <a:moveTo>
                      <a:pt x="1141" y="550"/>
                    </a:moveTo>
                    <a:lnTo>
                      <a:pt x="1141" y="0"/>
                    </a:lnTo>
                    <a:lnTo>
                      <a:pt x="0" y="0"/>
                    </a:lnTo>
                    <a:lnTo>
                      <a:pt x="0" y="553"/>
                    </a:lnTo>
                    <a:lnTo>
                      <a:pt x="1141" y="553"/>
                    </a:lnTo>
                    <a:lnTo>
                      <a:pt x="1141" y="553"/>
                    </a:lnTo>
                    <a:lnTo>
                      <a:pt x="1141" y="55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438960" y="5113440"/>
                <a:ext cx="1811160" cy="877680"/>
              </a:xfrm>
              <a:custGeom>
                <a:avLst/>
                <a:gdLst/>
                <a:ahLst/>
                <a:rect l="l" t="t" r="r" b="b"/>
                <a:pathLst>
                  <a:path w="1141" h="553">
                    <a:moveTo>
                      <a:pt x="1141" y="550"/>
                    </a:moveTo>
                    <a:lnTo>
                      <a:pt x="1141" y="0"/>
                    </a:lnTo>
                    <a:lnTo>
                      <a:pt x="0" y="0"/>
                    </a:lnTo>
                    <a:lnTo>
                      <a:pt x="0" y="553"/>
                    </a:lnTo>
                    <a:lnTo>
                      <a:pt x="1141" y="553"/>
                    </a:lnTo>
                    <a:lnTo>
                      <a:pt x="1141" y="5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06560" y="5207040"/>
                <a:ext cx="1274760" cy="873000"/>
              </a:xfrm>
              <a:custGeom>
                <a:avLst/>
                <a:gdLst/>
                <a:ahLst/>
                <a:rect l="l" t="t" r="r" b="b"/>
                <a:pathLst>
                  <a:path w="803" h="550">
                    <a:moveTo>
                      <a:pt x="400" y="0"/>
                    </a:moveTo>
                    <a:lnTo>
                      <a:pt x="0" y="274"/>
                    </a:lnTo>
                    <a:lnTo>
                      <a:pt x="403" y="550"/>
                    </a:lnTo>
                    <a:lnTo>
                      <a:pt x="803" y="274"/>
                    </a:lnTo>
                    <a:lnTo>
                      <a:pt x="403" y="0"/>
                    </a:lnTo>
                    <a:lnTo>
                      <a:pt x="403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06560" y="5207040"/>
                <a:ext cx="1274760" cy="873000"/>
              </a:xfrm>
              <a:custGeom>
                <a:avLst/>
                <a:gdLst/>
                <a:ahLst/>
                <a:rect l="l" t="t" r="r" b="b"/>
                <a:pathLst>
                  <a:path w="803" h="550">
                    <a:moveTo>
                      <a:pt x="400" y="0"/>
                    </a:moveTo>
                    <a:lnTo>
                      <a:pt x="0" y="274"/>
                    </a:lnTo>
                    <a:lnTo>
                      <a:pt x="403" y="550"/>
                    </a:lnTo>
                    <a:lnTo>
                      <a:pt x="803" y="274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84160" y="5376960"/>
                <a:ext cx="1284480" cy="533160"/>
              </a:xfrm>
              <a:custGeom>
                <a:avLst/>
                <a:gdLst/>
                <a:ahLst/>
                <a:rect l="l" t="t" r="r" b="b"/>
                <a:pathLst>
                  <a:path w="809" h="336">
                    <a:moveTo>
                      <a:pt x="0" y="333"/>
                    </a:moveTo>
                    <a:lnTo>
                      <a:pt x="3" y="0"/>
                    </a:lnTo>
                    <a:lnTo>
                      <a:pt x="809" y="0"/>
                    </a:lnTo>
                    <a:lnTo>
                      <a:pt x="809" y="336"/>
                    </a:lnTo>
                    <a:lnTo>
                      <a:pt x="3" y="336"/>
                    </a:lnTo>
                    <a:lnTo>
                      <a:pt x="3" y="336"/>
                    </a:lnTo>
                    <a:lnTo>
                      <a:pt x="0" y="333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84160" y="5376960"/>
                <a:ext cx="1284480" cy="533160"/>
              </a:xfrm>
              <a:custGeom>
                <a:avLst/>
                <a:gdLst/>
                <a:ahLst/>
                <a:rect l="l" t="t" r="r" b="b"/>
                <a:pathLst>
                  <a:path w="809" h="336">
                    <a:moveTo>
                      <a:pt x="0" y="333"/>
                    </a:moveTo>
                    <a:lnTo>
                      <a:pt x="3" y="0"/>
                    </a:lnTo>
                    <a:lnTo>
                      <a:pt x="809" y="0"/>
                    </a:lnTo>
                    <a:lnTo>
                      <a:pt x="809" y="336"/>
                    </a:lnTo>
                    <a:lnTo>
                      <a:pt x="3" y="336"/>
                    </a:lnTo>
                    <a:lnTo>
                      <a:pt x="3" y="33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86480" y="335916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0"/>
                    </a:moveTo>
                    <a:lnTo>
                      <a:pt x="0" y="0"/>
                    </a:lnTo>
                    <a:lnTo>
                      <a:pt x="22" y="46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06560" y="2606760"/>
                <a:ext cx="1274760" cy="871560"/>
              </a:xfrm>
              <a:custGeom>
                <a:avLst/>
                <a:gdLst/>
                <a:ahLst/>
                <a:rect l="l" t="t" r="r" b="b"/>
                <a:pathLst>
                  <a:path w="803" h="549">
                    <a:moveTo>
                      <a:pt x="400" y="0"/>
                    </a:moveTo>
                    <a:lnTo>
                      <a:pt x="0" y="273"/>
                    </a:lnTo>
                    <a:lnTo>
                      <a:pt x="403" y="549"/>
                    </a:lnTo>
                    <a:lnTo>
                      <a:pt x="803" y="273"/>
                    </a:lnTo>
                    <a:lnTo>
                      <a:pt x="403" y="0"/>
                    </a:lnTo>
                    <a:lnTo>
                      <a:pt x="403" y="0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806560" y="2606760"/>
                <a:ext cx="1274760" cy="871560"/>
              </a:xfrm>
              <a:custGeom>
                <a:avLst/>
                <a:gdLst/>
                <a:ahLst/>
                <a:rect l="l" t="t" r="r" b="b"/>
                <a:pathLst>
                  <a:path w="803" h="549">
                    <a:moveTo>
                      <a:pt x="400" y="0"/>
                    </a:moveTo>
                    <a:lnTo>
                      <a:pt x="0" y="273"/>
                    </a:lnTo>
                    <a:lnTo>
                      <a:pt x="403" y="549"/>
                    </a:lnTo>
                    <a:lnTo>
                      <a:pt x="803" y="273"/>
                    </a:lnTo>
                    <a:lnTo>
                      <a:pt x="403" y="0"/>
                    </a:lnTo>
                    <a:lnTo>
                      <a:pt x="40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408480" y="252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0"/>
                    </a:moveTo>
                    <a:lnTo>
                      <a:pt x="0" y="0"/>
                    </a:lnTo>
                    <a:lnTo>
                      <a:pt x="24" y="45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3441600" y="2206800"/>
                <a:ext cx="5040" cy="334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803680" y="1673280"/>
                <a:ext cx="1282680" cy="533520"/>
              </a:xfrm>
              <a:custGeom>
                <a:avLst/>
                <a:gdLst/>
                <a:ahLst/>
                <a:rect l="l" t="t" r="r" b="b"/>
                <a:pathLst>
                  <a:path w="808" h="336">
                    <a:moveTo>
                      <a:pt x="0" y="333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6"/>
                    </a:lnTo>
                    <a:lnTo>
                      <a:pt x="2" y="336"/>
                    </a:lnTo>
                    <a:lnTo>
                      <a:pt x="2" y="336"/>
                    </a:lnTo>
                    <a:lnTo>
                      <a:pt x="0" y="333"/>
                    </a:lnTo>
                    <a:close/>
                  </a:path>
                </a:pathLst>
              </a:custGeom>
              <a:solidFill>
                <a:srgbClr val="fce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803680" y="1673280"/>
                <a:ext cx="1282680" cy="533520"/>
              </a:xfrm>
              <a:custGeom>
                <a:avLst/>
                <a:gdLst/>
                <a:ahLst/>
                <a:rect l="l" t="t" r="r" b="b"/>
                <a:pathLst>
                  <a:path w="808" h="336">
                    <a:moveTo>
                      <a:pt x="0" y="333"/>
                    </a:moveTo>
                    <a:lnTo>
                      <a:pt x="2" y="0"/>
                    </a:lnTo>
                    <a:lnTo>
                      <a:pt x="808" y="0"/>
                    </a:lnTo>
                    <a:lnTo>
                      <a:pt x="808" y="336"/>
                    </a:lnTo>
                    <a:lnTo>
                      <a:pt x="2" y="336"/>
                    </a:lnTo>
                    <a:lnTo>
                      <a:pt x="2" y="33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017600" y="6059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11876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195440" y="6059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230360" y="60595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260600" y="605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3315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10000" y="605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455720" y="605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49820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5745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655880" y="60595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695120" y="6059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772160" y="605952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05576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09320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16988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21272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25052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328280" y="622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409640" y="622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447800" y="622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48960" y="62294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42920" y="622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722680" y="450540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0"/>
                    </a:moveTo>
                    <a:lnTo>
                      <a:pt x="2" y="45"/>
                    </a:lnTo>
                    <a:lnTo>
                      <a:pt x="45" y="2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523880" y="4543560"/>
                <a:ext cx="1219320" cy="833400"/>
              </a:xfrm>
              <a:custGeom>
                <a:avLst/>
                <a:gdLst/>
                <a:ahLst/>
                <a:rect l="l" t="t" r="r" b="b"/>
                <a:pathLst>
                  <a:path w="768" h="525">
                    <a:moveTo>
                      <a:pt x="0" y="525"/>
                    </a:moveTo>
                    <a:lnTo>
                      <a:pt x="3" y="0"/>
                    </a:lnTo>
                    <a:lnTo>
                      <a:pt x="768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08480" y="512604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0"/>
                    </a:moveTo>
                    <a:lnTo>
                      <a:pt x="0" y="0"/>
                    </a:lnTo>
                    <a:lnTo>
                      <a:pt x="24" y="46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41600" y="4807080"/>
                <a:ext cx="5040" cy="3571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176560" y="56070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3" y="43"/>
                    </a:moveTo>
                    <a:lnTo>
                      <a:pt x="46" y="0"/>
                    </a:lnTo>
                    <a:lnTo>
                      <a:pt x="0" y="2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519800" y="379404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656240" y="37940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703400" y="37940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733640" y="3794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771080" y="379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852080" y="3794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955960" y="43736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041640" y="4373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87360" y="4373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16044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1986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2360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3174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357720" y="43736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0272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48372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5600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4140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8064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75696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838320" y="4373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875760" y="437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957480" y="43736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096720" y="454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39920" y="454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18528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262320" y="454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382560" y="4543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420720" y="454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916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569760" y="454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6410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722040" y="454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659640" y="521640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796080" y="5216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843240" y="5216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87204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91416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99264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03008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1108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18776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2302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3069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345080" y="5216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796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4563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4984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5751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614720" y="5216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68600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767360" y="5216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8350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16040" y="5216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92720" y="52164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8035920" y="52164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6128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6888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7698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84612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9274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9652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04664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08624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1240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2046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28136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31952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3620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43832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5196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55928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5970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67808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75404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83540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8732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54200" y="5381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032320" y="53816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070840" y="53816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55776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952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6762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7528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7906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8713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94980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9922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6896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1064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1874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2637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3450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38468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4224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50312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584840" y="5551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62228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6986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77960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858080" y="5551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03440" y="555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84800" y="55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057880" y="55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126280" y="555156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737040" y="5718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76512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4648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88428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9656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0052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0430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1240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2007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238520" y="5718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342200" y="5718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87920" y="5718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42284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46028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54200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57944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65576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7371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776720" y="5718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814520" y="5718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896240" y="5718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114360" y="5556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21552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292200" y="555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6456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4088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52224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5600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641400" y="555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67164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70908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007640" y="5556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1060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555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596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555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7320" y="555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60520" y="5556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574280" y="555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60920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7760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749240" y="555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788840" y="555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60120" y="555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97920" y="55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979280" y="555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009520" y="555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191040" y="2955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7564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57000" y="2955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50960" y="295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48840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569760" y="2955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600000" y="295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637800" y="295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87720" y="18525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7268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253680" y="185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47640" y="1852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38544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46680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3484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607560" y="185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8892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757320" y="1852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408480" y="1592280"/>
              <a:ext cx="7128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3441600" y="1273320"/>
              <a:ext cx="5040" cy="33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977560" y="1085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1520" y="1085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0320" y="1085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47840" y="1085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8996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6628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347640" y="1085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77880" y="1085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1532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49632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7264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654360" y="1085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701160" y="108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782520" y="108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50920" y="1085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98680" y="2874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83640" y="2874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64640" y="2874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758600" y="287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797120" y="2874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15920" y="2874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945800" y="287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18880" y="287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90880" y="28749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8500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566360" y="304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634760" y="304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70748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78344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64800" y="304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02960" y="304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3752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013840" y="304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307280" y="50324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14320" y="283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16920" y="283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101480" y="5437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195080" y="543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276440" y="543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614320" y="5437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716920" y="543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376240" y="3670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469840" y="367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551200" y="367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89080" y="367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991680" y="367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59320" y="4262400"/>
              <a:ext cx="1274760" cy="873000"/>
            </a:xfrm>
            <a:custGeom>
              <a:avLst/>
              <a:gdLst/>
              <a:ahLst/>
              <a:rect l="l" t="t" r="r" b="b"/>
              <a:pathLst>
                <a:path w="803" h="550">
                  <a:moveTo>
                    <a:pt x="400" y="0"/>
                  </a:moveTo>
                  <a:lnTo>
                    <a:pt x="0" y="276"/>
                  </a:lnTo>
                  <a:lnTo>
                    <a:pt x="400" y="550"/>
                  </a:lnTo>
                  <a:lnTo>
                    <a:pt x="803" y="276"/>
                  </a:lnTo>
                  <a:lnTo>
                    <a:pt x="400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fce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359320" y="4262400"/>
              <a:ext cx="1274760" cy="873000"/>
            </a:xfrm>
            <a:custGeom>
              <a:avLst/>
              <a:gdLst/>
              <a:ahLst/>
              <a:rect l="l" t="t" r="r" b="b"/>
              <a:pathLst>
                <a:path w="803" h="550">
                  <a:moveTo>
                    <a:pt x="400" y="0"/>
                  </a:moveTo>
                  <a:lnTo>
                    <a:pt x="0" y="276"/>
                  </a:lnTo>
                  <a:lnTo>
                    <a:pt x="400" y="550"/>
                  </a:lnTo>
                  <a:lnTo>
                    <a:pt x="803" y="276"/>
                  </a:lnTo>
                  <a:lnTo>
                    <a:pt x="400" y="0"/>
                  </a:lnTo>
                  <a:lnTo>
                    <a:pt x="40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594400" y="45640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730840" y="4564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776560" y="4564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06800" y="456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84424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925960" y="4564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96484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04656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1460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185520" y="4564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26400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335280" y="456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408720" y="45640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7620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857560" y="4735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87800" y="473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30640" y="473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96808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04584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126840" y="47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635960" y="48974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709680" y="4525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807960" y="452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84640" y="45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64040" y="5014800"/>
              <a:ext cx="7164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0"/>
                  </a:moveTo>
                  <a:lnTo>
                    <a:pt x="0" y="0"/>
                  </a:lnTo>
                  <a:lnTo>
                    <a:pt x="24" y="46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4997520" y="4695840"/>
              <a:ext cx="4680" cy="3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128920" y="4535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231520" y="45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98920" y="51102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630680" y="5110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681080" y="511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71132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4912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3048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6972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951440" y="5110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99680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07348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11236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194080" y="5110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265360" y="5110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03520" y="5110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3304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14040" y="5110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92880" y="51102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9512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771800" y="528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844520" y="5280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91580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9917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073480" y="5280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113080" y="5280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1411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222160" y="5280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784040" y="3100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8776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95900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02740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100120" y="3100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12892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0128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77960" y="3100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1288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35104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888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6984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54580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627520" y="3100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674320" y="3100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5604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824080" y="3100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6075360" y="1139760"/>
            <a:ext cx="2911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sta máquina não há write h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 throug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nha de uma palav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 buff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Mario Côrtes</cp:lastModifiedBy>
  <cp:lastPrinted>2001-05-26T17:39:16Z</cp:lastPrinted>
  <dcterms:modified xsi:type="dcterms:W3CDTF">2002-05-22T10:42:15Z</dcterms:modified>
  <cp:revision>71</cp:revision>
  <dc:subject/>
  <dc:title>Chapter Seven</dc:title>
</cp:coreProperties>
</file>